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5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3"/>
          </p:nvPr>
        </p:nvSpPr>
        <p:spPr>
          <a:xfrm>
            <a:off x="5433480" y="0"/>
            <a:ext cx="415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4"/>
          </p:nvPr>
        </p:nvSpPr>
        <p:spPr>
          <a:xfrm>
            <a:off x="0" y="6936840"/>
            <a:ext cx="415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5"/>
          </p:nvPr>
        </p:nvSpPr>
        <p:spPr>
          <a:xfrm>
            <a:off x="5433480" y="6936840"/>
            <a:ext cx="415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D95-AD2C-48D6-9BF7-FEE4E0209F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RE CHE LA PRESENTAZIONE NON E’ FOCALIZZATA SUI CONTENUTI MA SUL PROGETTO NELLA SUA GLOBALITA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 SCOPO NON E’ DI FARE VEDE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OVE SIAM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per questo basta guardare il sito), MA DI FAR CAPIRE QUALI SONO LE PROBLEMATICHE GENERALI CHE IL PROGETTO DEVE AFFRONTARE, E DARE UN IDEA D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OVE STIAMO ANDAND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RE CHE LA PRESENTAZIONE NON E’ FOCALIZZATA SUI CONTENUTI MA SUL PROGETTO NELLA SUA GLOBALITA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 SCOPO NON E’ DI FARE VEDE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OVE SIAM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per questo basta guardare il sito), MA DI FAR CAPIRE QUALI SONO LE PROBLEMATICHE GENERALI CHE IL PROGETTO DEVE AFFRONTARE, E DARE UN IDEA D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OVE STIAMO ANDAND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CF38-8D16-4E99-8662-0C0C293BE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D603-9ADD-4774-BF55-5CEE1B7E7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6234-D97D-4C0F-8DB9-44D01E012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25D3-3CD5-4223-B5E9-8CCDDD9E8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C8CB-4652-4D6D-82A3-F30694B33A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7F9C-298A-4BA0-997D-8D0C6E071B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A7F4-6A37-4C85-9E6B-CEFC9E42A1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1437-A2EE-4C91-89EE-A8C9CD48F0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820B-B593-46D3-9AF6-B47A8EE8A3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2C21-E888-4927-80B7-5B36D2B60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D36E-EB40-4372-A308-5C889FD45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5DE2-F0EC-435E-BED3-DB97EC071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79B8-BFEF-4A6D-99D9-F96DB42227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B6C7-8C81-4A50-8E2F-86D06C739E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A866-B986-4148-BFEF-FFFC4C7580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3EA0-16E2-4397-9752-26B0F558E6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3426-5E08-4BE2-8326-F5C0A7639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A2FB-A13F-463F-BE2D-C179B5C1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068E-1293-4A4C-B715-62AC2B4D2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0DE3-166A-4776-8A7F-B5E37B38E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7CE2-ADF6-4615-813A-F2D92873F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1E5C-F3A5-4A08-904F-CDD0A0C0A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6279-CD85-4F53-BDD7-4BE41E208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4EE2-E652-46C6-A5C9-B1ABEE1C3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1219320"/>
            <a:ext cx="1784160" cy="2324160"/>
            <a:chOff x="304920" y="121932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304920" y="131688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896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01760" y="121932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1"/>
          </p:nvPr>
        </p:nvSpPr>
        <p:spPr>
          <a:xfrm>
            <a:off x="61920" y="1681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D65E-48EB-4B5A-888A-26C2A78C227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246600"/>
            <a:ext cx="1284840" cy="582120"/>
            <a:chOff x="7380360" y="246600"/>
            <a:chExt cx="1284840" cy="582120"/>
          </a:xfrm>
        </p:grpSpPr>
        <p:sp>
          <p:nvSpPr>
            <p:cNvPr id="64" name=""/>
            <p:cNvSpPr/>
            <p:nvPr/>
          </p:nvSpPr>
          <p:spPr>
            <a:xfrm>
              <a:off x="7380360" y="318960"/>
              <a:ext cx="24588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5040" y="318960"/>
              <a:ext cx="24444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83360" y="324000"/>
              <a:ext cx="246240" cy="26640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43760" y="324000"/>
              <a:ext cx="0" cy="504720"/>
            </a:xfrm>
            <a:prstGeom prst="line">
              <a:avLst/>
            </a:prstGeom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8254080" y="246600"/>
              <a:ext cx="411120" cy="392400"/>
              <a:chOff x="8254080" y="246600"/>
              <a:chExt cx="411120" cy="392400"/>
            </a:xfrm>
          </p:grpSpPr>
          <p:sp>
            <p:nvSpPr>
              <p:cNvPr id="69" name=""/>
              <p:cNvSpPr/>
              <p:nvPr/>
            </p:nvSpPr>
            <p:spPr>
              <a:xfrm>
                <a:off x="8259480" y="317520"/>
                <a:ext cx="244440" cy="266040"/>
              </a:xfrm>
              <a:prstGeom prst="ellipse">
                <a:avLst/>
              </a:prstGeom>
              <a:noFill/>
              <a:ln cap="sq" w="572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8200" y="446040"/>
                <a:ext cx="190440" cy="0"/>
              </a:xfrm>
              <a:prstGeom prst="line">
                <a:avLst/>
              </a:prstGeom>
              <a:ln cap="sq" w="316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321400">
                <a:off x="8260920" y="277920"/>
                <a:ext cx="344160" cy="350640"/>
              </a:xfrm>
              <a:prstGeom prst="blockArc">
                <a:avLst>
                  <a:gd name="adj1" fmla="val 13754930"/>
                  <a:gd name="adj2" fmla="val 18645070"/>
                  <a:gd name="adj3" fmla="val 10458"/>
                </a:avLst>
              </a:prstGeom>
              <a:solidFill>
                <a:srgbClr val="6f89f7"/>
              </a:solidFill>
              <a:ln cap="sq"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 rot="3444600">
                <a:off x="8487720" y="2113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8155400">
                <a:off x="8468280" y="3877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03160" y="22860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609480" y="829800"/>
            <a:ext cx="605016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16200000">
            <a:off x="674280" y="708120"/>
            <a:ext cx="24732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49360" y="3600360"/>
            <a:ext cx="6045480" cy="2876400"/>
            <a:chOff x="2349360" y="3600360"/>
            <a:chExt cx="6045480" cy="2876400"/>
          </a:xfrm>
        </p:grpSpPr>
        <p:sp>
          <p:nvSpPr>
            <p:cNvPr id="169" name=""/>
            <p:cNvSpPr/>
            <p:nvPr/>
          </p:nvSpPr>
          <p:spPr>
            <a:xfrm>
              <a:off x="2349360" y="5965560"/>
              <a:ext cx="604548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10520" y="360036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8091000" y="581400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2"/>
          </p:nvPr>
        </p:nvSpPr>
        <p:spPr>
          <a:xfrm>
            <a:off x="64800" y="2509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64BF-6813-4C06-91A3-16FA4B01BA0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Programmazione II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arco Ronchet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680" y="2395080"/>
            <a:ext cx="509760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659640" y="5159880"/>
            <a:ext cx="1558440" cy="779040"/>
            <a:chOff x="6659640" y="5159880"/>
            <a:chExt cx="1558440" cy="779040"/>
          </a:xfrm>
        </p:grpSpPr>
        <p:sp>
          <p:nvSpPr>
            <p:cNvPr id="222" name=""/>
            <p:cNvSpPr/>
            <p:nvPr/>
          </p:nvSpPr>
          <p:spPr>
            <a:xfrm>
              <a:off x="6659640" y="5251680"/>
              <a:ext cx="308160" cy="35712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0120" y="5256360"/>
              <a:ext cx="306360" cy="35712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9200" y="5248440"/>
              <a:ext cx="308160" cy="35712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1400" y="5262480"/>
              <a:ext cx="0" cy="676440"/>
            </a:xfrm>
            <a:prstGeom prst="line">
              <a:avLst/>
            </a:prstGeom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700400" y="5159880"/>
              <a:ext cx="517680" cy="513720"/>
              <a:chOff x="7700400" y="5159880"/>
              <a:chExt cx="517680" cy="513720"/>
            </a:xfrm>
          </p:grpSpPr>
          <p:sp>
            <p:nvSpPr>
              <p:cNvPr id="227" name=""/>
              <p:cNvSpPr/>
              <p:nvPr/>
            </p:nvSpPr>
            <p:spPr>
              <a:xfrm>
                <a:off x="7707600" y="5249520"/>
                <a:ext cx="306720" cy="357120"/>
              </a:xfrm>
              <a:prstGeom prst="ellipse">
                <a:avLst/>
              </a:prstGeom>
              <a:noFill/>
              <a:ln cap="sq" w="572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57080" y="5421960"/>
                <a:ext cx="239040" cy="0"/>
              </a:xfrm>
              <a:prstGeom prst="line">
                <a:avLst/>
              </a:prstGeom>
              <a:ln cap="sq" w="316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rot="5321400">
                <a:off x="7693920" y="5211000"/>
                <a:ext cx="461880" cy="439920"/>
              </a:xfrm>
              <a:prstGeom prst="blockArc">
                <a:avLst>
                  <a:gd name="adj1" fmla="val 13754930"/>
                  <a:gd name="adj2" fmla="val 18645070"/>
                  <a:gd name="adj3" fmla="val 10458"/>
                </a:avLst>
              </a:prstGeom>
              <a:solidFill>
                <a:srgbClr val="6f89f7"/>
              </a:solidFill>
              <a:ln cap="sq"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3444600">
                <a:off x="7990200" y="5118840"/>
                <a:ext cx="9972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8155400">
                <a:off x="7966440" y="5355720"/>
                <a:ext cx="9972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7711-B0A3-482B-B612-C5EA6AC56C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Cominciamo con una domanda…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 dichia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 k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qual’e’ il massimo valore che posso immagazzina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lla variabile k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5B6C-4681-4F7D-9FAC-836648F9A7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04480" y="350640"/>
            <a:ext cx="69454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Operatore </a:t>
            </a:r>
            <a:r>
              <a:rPr b="0" i="1" lang="it-IT" sz="3600" spc="-1" strike="noStrike">
                <a:solidFill>
                  <a:srgbClr val="660066"/>
                </a:solidFill>
                <a:latin typeface="Tahoma"/>
              </a:rPr>
              <a:t>sizeof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sizeof(tipo)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stituisce il numero di bytes necessari a immagazzinare il tipo specific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sizeof(var)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trolla il tipo di var e restituisce il numero di bytes necessari al tipo a cui var appartien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91240" y="3505320"/>
            <a:ext cx="8685360" cy="202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 "dimensione di un intero : "&lt;&lt;sizeof(int)&lt;&lt;"\n"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 "dimensione della variabile a : "&lt;&lt;sizeof(a)&lt;&lt;"\n"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1200" y="5551560"/>
            <a:ext cx="457056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Output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dimensione di un intero :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dimensione della variabile a :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1591-2AE9-4375-A069-31DBC9BD29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modello di memo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233880" y="1828800"/>
            <a:ext cx="36316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Book Antiqua"/>
              </a:rPr>
              <a:t>memoria allocata dalle funzion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Book Antiqua"/>
              </a:rPr>
              <a:t>(Variabili automatiche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14000" y="3138480"/>
            <a:ext cx="3855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memoria allocata dinamicamen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dal programmato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23160" y="4259160"/>
            <a:ext cx="302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f89f7"/>
                </a:solidFill>
                <a:latin typeface="Book Antiqua"/>
              </a:rPr>
              <a:t>Variabili globali e statich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6560" y="5695920"/>
            <a:ext cx="20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Book Antiqua"/>
              </a:rPr>
              <a:t>Codice eseguib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54080" y="1730520"/>
            <a:ext cx="7179840" cy="4257360"/>
            <a:chOff x="1054080" y="1730520"/>
            <a:chExt cx="7179840" cy="4257360"/>
          </a:xfrm>
        </p:grpSpPr>
        <p:sp>
          <p:nvSpPr>
            <p:cNvPr id="272" name=""/>
            <p:cNvSpPr/>
            <p:nvPr/>
          </p:nvSpPr>
          <p:spPr>
            <a:xfrm>
              <a:off x="1059480" y="1736640"/>
              <a:ext cx="2120400" cy="425124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88760" y="5592600"/>
              <a:ext cx="586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47040" y="4924440"/>
              <a:ext cx="1731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read/only 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1600" y="4367160"/>
              <a:ext cx="1793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f89f7"/>
                  </a:solidFill>
                  <a:latin typeface="Arial"/>
                </a:rPr>
                <a:t>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f89f7"/>
                  </a:solidFill>
                  <a:latin typeface="Arial"/>
                </a:rPr>
                <a:t>read/write 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25880" y="3776760"/>
              <a:ext cx="1505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f89f7"/>
                  </a:solidFill>
                  <a:latin typeface="Arial"/>
                </a:rPr>
                <a:t>un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f89f7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3316320"/>
              <a:ext cx="71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78600" y="1730520"/>
              <a:ext cx="76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59480" y="5597640"/>
              <a:ext cx="2120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54080" y="4983120"/>
              <a:ext cx="2131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54080" y="4392720"/>
              <a:ext cx="2131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9480" y="3824280"/>
              <a:ext cx="2120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054080" y="2859120"/>
              <a:ext cx="2131920" cy="474480"/>
              <a:chOff x="1054080" y="2859120"/>
              <a:chExt cx="2131920" cy="474480"/>
            </a:xfrm>
          </p:grpSpPr>
          <p:sp>
            <p:nvSpPr>
              <p:cNvPr id="284" name=""/>
              <p:cNvSpPr/>
              <p:nvPr/>
            </p:nvSpPr>
            <p:spPr>
              <a:xfrm>
                <a:off x="1054080" y="3321000"/>
                <a:ext cx="2131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111400" y="2859120"/>
                <a:ext cx="0" cy="4744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054080" y="2108160"/>
              <a:ext cx="2131920" cy="434880"/>
              <a:chOff x="1054080" y="2108160"/>
              <a:chExt cx="2131920" cy="434880"/>
            </a:xfrm>
          </p:grpSpPr>
          <p:sp>
            <p:nvSpPr>
              <p:cNvPr id="287" name=""/>
              <p:cNvSpPr/>
              <p:nvPr/>
            </p:nvSpPr>
            <p:spPr>
              <a:xfrm>
                <a:off x="1054080" y="2108160"/>
                <a:ext cx="2131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11400" y="2120760"/>
                <a:ext cx="0" cy="4222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292920" y="3813120"/>
              <a:ext cx="494100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4320" y="5597640"/>
              <a:ext cx="494136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85560" y="5113440"/>
            <a:ext cx="4186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Arial"/>
              </a:rPr>
              <a:t>&lt;- questo é supportato solo da alcuni hardwar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8C59-E02C-4392-A673-2956D46EDD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unzioni come "procedur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void stampa(void)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nst char EOL="\n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sono arrivato qui"&lt;&lt;EOL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main()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=0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60066"/>
                </a:solidFill>
                <a:latin typeface="Courier New"/>
              </a:rPr>
              <a:t>stampa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60066"/>
                </a:solidFill>
                <a:latin typeface="Courier New"/>
              </a:rPr>
              <a:t>stampa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60066"/>
                </a:solidFill>
                <a:latin typeface="Courier New"/>
              </a:rPr>
              <a:t>stampa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4533120" y="46544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ota: il main è una funzione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5C73-6E88-4F85-A6DB-1A4861503B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04520" y="1294920"/>
            <a:ext cx="80168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unzioni come "procedure parametrizzate“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tipo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funzione(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tipo argom1,...,tipo argomN)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corpo della fun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return var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3150-1141-4583-8A9E-130207686BF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1571760"/>
            <a:ext cx="4105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</a:t>
            </a:r>
            <a:r>
              <a:rPr b="1" lang="it-IT" sz="1400" spc="-1" strike="noStrike">
                <a:solidFill>
                  <a:srgbClr val="660066"/>
                </a:solidFill>
                <a:latin typeface="Courier New"/>
              </a:rPr>
              <a:t>somma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(int a, imt b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</a:t>
            </a:r>
            <a:r>
              <a:rPr b="1" lang="it-IT" sz="1400" spc="-1" strike="noStrike">
                <a:solidFill>
                  <a:srgbClr val="660066"/>
                </a:solidFill>
                <a:latin typeface="Courier New"/>
              </a:rPr>
              <a:t>prodotto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(int b, int a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res=0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for (int k=0; k&lt;b; k++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09080" y="184464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21360" y="249228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46440" y="1571760"/>
            <a:ext cx="565200" cy="920520"/>
          </a:xfrm>
          <a:custGeom>
            <a:avLst/>
            <a:gdLst>
              <a:gd name="textAreaLeft" fmla="*/ 361080 w 565200"/>
              <a:gd name="textAreaRight" fmla="*/ 565560 w 565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7480" y="2492280"/>
            <a:ext cx="2119320" cy="230508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4319-D243-4768-A798-871423B10F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</a:t>
            </a:r>
            <a:r>
              <a:rPr b="1" lang="it-IT" sz="1400" spc="-1" strike="noStrike">
                <a:solidFill>
                  <a:srgbClr val="660066"/>
                </a:solidFill>
                <a:latin typeface="Courier New"/>
              </a:rPr>
              <a:t>somma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(int a, int b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k&lt;b; k++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9080" y="249228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11640" y="2492280"/>
            <a:ext cx="213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66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66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21360" y="371628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46440" y="1571760"/>
            <a:ext cx="584280" cy="2160360"/>
          </a:xfrm>
          <a:custGeom>
            <a:avLst/>
            <a:gdLst>
              <a:gd name="textAreaLeft" fmla="*/ 373320 w 584280"/>
              <a:gd name="textAreaRight" fmla="*/ 584640 w 584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27480" y="3716280"/>
            <a:ext cx="2119320" cy="108108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C752-EBB4-4F05-9383-90B8BF29DB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9080" y="285264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30720" y="3645000"/>
            <a:ext cx="21258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404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21360" y="450864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46440" y="1571760"/>
            <a:ext cx="565200" cy="2935080"/>
          </a:xfrm>
          <a:custGeom>
            <a:avLst/>
            <a:gdLst>
              <a:gd name="textAreaLeft" fmla="*/ 361080 w 565200"/>
              <a:gd name="textAreaRight" fmla="*/ 565560 w 565200"/>
              <a:gd name="textAreaTop" fmla="*/ 76320 h 2935080"/>
              <a:gd name="textAreaBottom" fmla="*/ 2858760 h 29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44400" y="3884760"/>
            <a:ext cx="97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om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27480" y="4506840"/>
            <a:ext cx="2119320" cy="29052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E01E-6F30-4540-B20F-9B076D5900C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09080" y="285264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21360" y="3645000"/>
            <a:ext cx="21254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404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21360" y="450864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46440" y="1571760"/>
            <a:ext cx="565200" cy="2935080"/>
          </a:xfrm>
          <a:custGeom>
            <a:avLst/>
            <a:gdLst>
              <a:gd name="textAreaLeft" fmla="*/ 361080 w 565200"/>
              <a:gd name="textAreaRight" fmla="*/ 565560 w 565200"/>
              <a:gd name="textAreaTop" fmla="*/ 76320 h 2935080"/>
              <a:gd name="textAreaBottom" fmla="*/ 2858760 h 29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844400" y="3884760"/>
            <a:ext cx="97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om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27480" y="4506840"/>
            <a:ext cx="2119320" cy="29052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C0C6-C808-4652-9ADD-64BA4A369D9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21360" y="3645000"/>
            <a:ext cx="2119320" cy="115236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21360" y="3645000"/>
            <a:ext cx="21254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512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09080" y="249228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46440" y="1571760"/>
            <a:ext cx="584280" cy="2160360"/>
          </a:xfrm>
          <a:custGeom>
            <a:avLst/>
            <a:gdLst>
              <a:gd name="textAreaLeft" fmla="*/ 373320 w 584280"/>
              <a:gd name="textAreaRight" fmla="*/ 584640 w 584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95FC-C076-46D7-B9C2-1E4B7A1EFA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Obiettiv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536840"/>
            <a:ext cx="64008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Il corso introduce le 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tecniche e costrutti della programmazione ad oggetti</a:t>
            </a: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 come una evoluzione necessaria per affrontare il problema della crescente complessità degli artefatti softwar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Verranno utilizzati i linguaggi 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C++ e Java</a:t>
            </a: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Il corso è prevalentemente teorico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vi saranno alcune esercitazioni di 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introduzione a tool per l'uso di Java</a:t>
            </a: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13A9-A829-46DD-925E-38606CE163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09080" y="285264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21360" y="3645000"/>
            <a:ext cx="21254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404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21360" y="450864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46440" y="1571760"/>
            <a:ext cx="565200" cy="2935080"/>
          </a:xfrm>
          <a:custGeom>
            <a:avLst/>
            <a:gdLst>
              <a:gd name="textAreaLeft" fmla="*/ 361080 w 565200"/>
              <a:gd name="textAreaRight" fmla="*/ 565560 w 565200"/>
              <a:gd name="textAreaTop" fmla="*/ 76320 h 2935080"/>
              <a:gd name="textAreaBottom" fmla="*/ 2858760 h 29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4400" y="3884760"/>
            <a:ext cx="97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om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7480" y="4506840"/>
            <a:ext cx="2119320" cy="29052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9DE4-3FA8-43D5-A224-54EF51D67F3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09080" y="285264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21360" y="3645000"/>
            <a:ext cx="21254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404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21360" y="450864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46440" y="1571760"/>
            <a:ext cx="565200" cy="2935080"/>
          </a:xfrm>
          <a:custGeom>
            <a:avLst/>
            <a:gdLst>
              <a:gd name="textAreaLeft" fmla="*/ 361080 w 565200"/>
              <a:gd name="textAreaRight" fmla="*/ 565560 w 565200"/>
              <a:gd name="textAreaTop" fmla="*/ 76320 h 2935080"/>
              <a:gd name="textAreaBottom" fmla="*/ 2858760 h 29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44400" y="3884760"/>
            <a:ext cx="97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om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27480" y="4506840"/>
            <a:ext cx="2119320" cy="29052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5EDC-7CC7-4CB6-8C7F-45A4D9409E0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5121360" y="3645000"/>
            <a:ext cx="2119320" cy="115236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21360" y="3645000"/>
            <a:ext cx="21254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404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2600" y="2660760"/>
            <a:ext cx="11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09080" y="249228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46440" y="1571760"/>
            <a:ext cx="584280" cy="2073240"/>
          </a:xfrm>
          <a:custGeom>
            <a:avLst/>
            <a:gdLst>
              <a:gd name="textAreaLeft" fmla="*/ 373320 w 584280"/>
              <a:gd name="textAreaRight" fmla="*/ 584640 w 584280"/>
              <a:gd name="textAreaTop" fmla="*/ 54000 h 2073240"/>
              <a:gd name="textAreaBottom" fmla="*/ 2019240 h 20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7F23-6540-4BFA-8F7B-BA874A5CBE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121360" y="2492280"/>
            <a:ext cx="2119320" cy="2305080"/>
          </a:xfrm>
          <a:prstGeom prst="rect">
            <a:avLst/>
          </a:prstGeom>
          <a:solidFill>
            <a:srgbClr val="cfdbfd"/>
          </a:solidFill>
          <a:ln cap="sq"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22800" y="24210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Modularizzazione: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5127480" y="1563840"/>
            <a:ext cx="2119320" cy="425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56480" y="5419800"/>
            <a:ext cx="58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93640" y="503712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71880" y="482112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Arial"/>
              </a:rPr>
              <a:t>he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27480" y="542448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27480" y="5157720"/>
            <a:ext cx="2119320" cy="0"/>
          </a:xfrm>
          <a:prstGeom prst="line">
            <a:avLst/>
          </a:prstGeom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21360" y="4797360"/>
            <a:ext cx="2131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11640" y="2492280"/>
            <a:ext cx="21351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40440" y="35733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70680" y="184464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30720" y="147492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es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1280" y="1571760"/>
            <a:ext cx="4176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080" indent="-46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somma(int a, int b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a+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prodotto(int b, int a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res=0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for (int k=0; k&lt;b; k++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somma(res,a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turn 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int a,b,res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out &lt;&lt; "dammi due numeri \n"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cin &gt;&gt; a &gt;&gt; b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res=prodotto(a,b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cout &lt;&lt; a &lt;&lt; “ * " &lt;&lt; b &lt;&lt; “ = " &lt;&lt; res &lt;&lt; "\n";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080" indent="-46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46800" y="1563840"/>
            <a:ext cx="596880" cy="425124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9080" y="184464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46440" y="1571760"/>
            <a:ext cx="584280" cy="920520"/>
          </a:xfrm>
          <a:custGeom>
            <a:avLst/>
            <a:gdLst>
              <a:gd name="textAreaLeft" fmla="*/ 373320 w 584280"/>
              <a:gd name="textAreaRight" fmla="*/ 584640 w 58428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53280" y="1484280"/>
            <a:ext cx="59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B5B5-110A-4121-A635-D2B63B65A71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Funzioni ricorsiv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Una funzione può richiamare se stes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sa avviene nello stack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903960" y="2133720"/>
            <a:ext cx="7450920" cy="334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fact(int n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f (n==0) return 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else return n*fact(n-1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"dammi un numero\n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in &gt;&gt; n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Il suo fattoriale vale "&lt;&lt;fact(n)&lt;&lt;"\n"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72200" y="6370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2459-7FEE-439F-B66B-24C94AE81EE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Funzioni: problema #1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void incrementa(int x)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x=x+1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int a=1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incrementa(a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cout &lt;&lt; "a=" a &lt;&lt; "\n"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Quanto vale a quando viene stampat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 parametri sono passati per valore (copia)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4551480" y="1143000"/>
            <a:ext cx="405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me faccio a scrivere una funzione che modifichi le variabili del chiamant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7994-0CF4-43FD-B20E-59C68687238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Funzioni: problema #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me faccio a farmi restitui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iù di un valore da una funzion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E882-8989-4D1E-9779-4C09F2ACF3F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68360" y="3129120"/>
            <a:ext cx="6972120" cy="334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t a,b,c,d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t * pa, * pb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a=&amp;a; pb=&amp;b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a=1; b=2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=a+b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d=*pa + *pb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a&lt;&lt;"  "&lt;&lt;b&lt;&lt;"  "&lt;&lt; c &lt;&lt;endl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a &lt;&lt;"  "&lt;&lt; *pb &lt;&lt;"  "&lt;&lt; d &lt;&lt;endl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3343320"/>
            <a:ext cx="2119320" cy="187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untato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556000" y="350640"/>
            <a:ext cx="640872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Operatore indirizzo: </a:t>
            </a:r>
            <a:r>
              <a:rPr b="0" lang="it-IT" sz="2400" spc="-1" strike="noStrike">
                <a:solidFill>
                  <a:srgbClr val="660066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amp;a fornisce l’indirizzo della variabile 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Operat. di dereferenziazione: 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*p interpreta la variabile p come un puntatore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indirizzo) e fornisce il valore contenut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nella cella di memoria puntat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6243840" y="420048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p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p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51400" y="32544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67840" y="3343320"/>
            <a:ext cx="596880" cy="187488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29760" y="409248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67480" y="3351240"/>
            <a:ext cx="583920" cy="1866960"/>
          </a:xfrm>
          <a:custGeom>
            <a:avLst/>
            <a:gdLst>
              <a:gd name="textAreaLeft" fmla="*/ 372960 w 583920"/>
              <a:gd name="textAreaRight" fmla="*/ 584280 w 583920"/>
              <a:gd name="textAreaTop" fmla="*/ 48600 h 1866960"/>
              <a:gd name="textAreaBottom" fmla="*/ 1818360 h 186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373960" y="3274920"/>
            <a:ext cx="59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37A6-E22C-42CC-8AAF-7D983CFC77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Funzioni e puntato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RUCCO: per passare un parametro </a:t>
            </a:r>
            <a:r>
              <a:rPr b="0" lang="it-IT" sz="2000" spc="-1" strike="noStrike">
                <a:solidFill>
                  <a:srgbClr val="6f89f7"/>
                </a:solidFill>
                <a:latin typeface="Tahoma"/>
              </a:rPr>
              <a:t>per indirizz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assiamo per valore un puntatore ad esso!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UTPUT:   2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969480" y="2527200"/>
            <a:ext cx="3747600" cy="268416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void incrementa(int *px)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*px=*px+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crementa(&amp;a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a&lt;&lt;endl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48520" y="3271680"/>
            <a:ext cx="2119320" cy="187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840" y="4129200"/>
            <a:ext cx="200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1827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px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67840" y="3271680"/>
            <a:ext cx="596880" cy="1874880"/>
          </a:xfrm>
          <a:prstGeom prst="rect">
            <a:avLst/>
          </a:pr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02840" y="3360600"/>
            <a:ext cx="7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67480" y="3279600"/>
            <a:ext cx="583920" cy="551160"/>
          </a:xfrm>
          <a:custGeom>
            <a:avLst/>
            <a:gdLst>
              <a:gd name="textAreaLeft" fmla="*/ 372960 w 583920"/>
              <a:gd name="textAreaRight" fmla="*/ 584280 w 583920"/>
              <a:gd name="textAreaTop" fmla="*/ 14040 h 551160"/>
              <a:gd name="textAreaBottom" fmla="*/ 537120 h 55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73960" y="3203640"/>
            <a:ext cx="59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B74D-8BF3-4A1C-A94A-3CCE95C64C4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Funzioni e puntato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RUCCO: per ottenere più valori di ritorno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assiamo degli indirizzi!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520560" y="2468520"/>
            <a:ext cx="8411040" cy="40104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minimax(int a1, int a2, int a3,int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, int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1;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gt;a2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2; else 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lt;a2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2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gt;a3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3; else 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lt;a3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*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3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,b,c,d,min,max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Dammi 3 numeri\n"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in &gt;&gt; a &gt;&gt; b &gt;&gt; c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inimax(a,b,c,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&amp;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&amp;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Il min vale "&lt;&lt;min&lt;&lt;" Il max vale "&lt;&lt;max&lt;&lt;"\n"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E66B-9443-4AC8-BB25-EA864C018C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mpegn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536840"/>
            <a:ext cx="640080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1 credito = 25 ore di stud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6 crediti = 150 ore. In aula: 7x7=49 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PER OGNI ORA DI LEZIONE IN AU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OCCORRE STUDIARE (Studio, ripasso, esercizi) 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DUE ORE FUORI AU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25B2-C134-46C1-922B-19A53A0A300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modello di memo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3233880" y="1828800"/>
            <a:ext cx="36316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f89f7"/>
                </a:solidFill>
                <a:latin typeface="Book Antiqua"/>
              </a:rPr>
              <a:t>memoria allocata dalle funzion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f89f7"/>
                </a:solidFill>
                <a:latin typeface="Book Antiqua"/>
              </a:rPr>
              <a:t>(Variabili automatiche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14000" y="3138480"/>
            <a:ext cx="3855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memoria allocata dinamicamen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dal programmato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23160" y="4259160"/>
            <a:ext cx="302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Book Antiqua"/>
              </a:rPr>
              <a:t>Variabili globali e statich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36560" y="5695920"/>
            <a:ext cx="20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f89f7"/>
                </a:solidFill>
                <a:latin typeface="Book Antiqua"/>
              </a:rPr>
              <a:t>Codice eseguib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054080" y="1730520"/>
            <a:ext cx="7179840" cy="4257360"/>
            <a:chOff x="1054080" y="1730520"/>
            <a:chExt cx="7179840" cy="4257360"/>
          </a:xfrm>
        </p:grpSpPr>
        <p:sp>
          <p:nvSpPr>
            <p:cNvPr id="525" name=""/>
            <p:cNvSpPr/>
            <p:nvPr/>
          </p:nvSpPr>
          <p:spPr>
            <a:xfrm>
              <a:off x="1059480" y="1736640"/>
              <a:ext cx="2120400" cy="425124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88760" y="5592600"/>
              <a:ext cx="586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f89f7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47040" y="4924440"/>
              <a:ext cx="1731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read/only 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91600" y="4367160"/>
              <a:ext cx="1793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read/write 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5880" y="3776760"/>
              <a:ext cx="1505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un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04600" y="3316320"/>
              <a:ext cx="71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78600" y="1730520"/>
              <a:ext cx="76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6f89f7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59480" y="5597640"/>
              <a:ext cx="2120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54080" y="4983120"/>
              <a:ext cx="2131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54080" y="4392720"/>
              <a:ext cx="2131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59480" y="3824280"/>
              <a:ext cx="2120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1054080" y="2859120"/>
              <a:ext cx="2131920" cy="474480"/>
              <a:chOff x="1054080" y="2859120"/>
              <a:chExt cx="2131920" cy="474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54080" y="3321000"/>
                <a:ext cx="2131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2111400" y="2859120"/>
                <a:ext cx="0" cy="4744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1054080" y="2108160"/>
              <a:ext cx="2131920" cy="434880"/>
              <a:chOff x="1054080" y="2108160"/>
              <a:chExt cx="2131920" cy="434880"/>
            </a:xfrm>
          </p:grpSpPr>
          <p:sp>
            <p:nvSpPr>
              <p:cNvPr id="540" name=""/>
              <p:cNvSpPr/>
              <p:nvPr/>
            </p:nvSpPr>
            <p:spPr>
              <a:xfrm>
                <a:off x="1054080" y="2108160"/>
                <a:ext cx="2131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11400" y="2120760"/>
                <a:ext cx="0" cy="4222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3292920" y="3813120"/>
              <a:ext cx="494100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4320" y="5597640"/>
              <a:ext cx="494136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085560" y="5113440"/>
            <a:ext cx="4186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Arial"/>
              </a:rPr>
              <a:t>&lt;- questo é supportato solo da alcuni hardwar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6C88-2E94-4993-B4B1-0A323B963AC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Funzioni, puntatori e referenc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VARIANTE: uso delle Reference nel passaggio di parametri a funzione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520560" y="2468520"/>
            <a:ext cx="8411040" cy="40104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minimax(int a1, int a2, int a3,int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&amp;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, int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&amp;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1;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gt;a2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2; else 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lt;a2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2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gt;a3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3; else if (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&lt;a3)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p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=a3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,b,c,d,min,max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Dammi 3 numeri\n"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in &gt;&gt; a &gt;&gt; b &gt;&gt; c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inimax(a,b,c,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min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max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Il min vale "&lt;&lt;min&lt;&lt;" Il max vale "&lt;&lt;max&lt;&lt;"\n"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8B20-F3CA-463E-8695-DC72C82A0E4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cope delle variabil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ariabili globa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Nel seguente esempio a e’ una variabile global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l suo valore è visibile a tutte le funzioni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TTENZIONE! Le variabili globali vanno EVITATE a causa dei side-effect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int a=5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void f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a=a+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cout &lt;&lt; "a in f: “ &lt;&lt; a &lt;&lt; “ – “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cout &lt;&lt; “a in main:" &lt;&lt; a &lt;&lt; “ – “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cout &lt;&lt; "a in main: “ &lt;&lt; a &lt;&lt; endl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2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utput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a in main: 5  - a in f: 6 - a in main: 6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6A00-E1D9-4667-9893-C77645CDF06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cope delle variabil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ariabili automatich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Nel seguente esempio a e’ una variabile automatica per la funzione f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l suo valore è locale ad f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int a=5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void f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int a=2, b=4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printf("(a,b) in f: (%d,%d) -",a,b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int b=6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printf("(a,b) in main: (%d,%d) -",a,b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printf("(a,b) in main: (%d,%d)\n",a,b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598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}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utput: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f89f7"/>
                </a:solidFill>
                <a:latin typeface="Courier New"/>
              </a:rPr>
              <a:t>(a,b) in main: (5,6)  - (a,b) in f: (2,4) - (a,b) in main: (5,6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TTENZIONE! Le variabili automatiche SCHERMANO le variabili global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B9B5-E9E4-4EA3-B566-AA746C7C01A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Quanto vale s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660600" y="1479600"/>
            <a:ext cx="4159080" cy="268416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modifica(int s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s++;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s=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odifica(s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s=" &lt;&lt; s &lt;&lt; "\n"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35880" y="3060720"/>
            <a:ext cx="4159080" cy="334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modifica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s++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return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s=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odifica(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s=" &lt;&lt; s &lt;&lt; "\n"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34440" y="1755720"/>
            <a:ext cx="201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Arial"/>
              </a:rPr>
              <a:t>&lt;– A) "locale"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2720" y="5294160"/>
            <a:ext cx="211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Arial"/>
              </a:rPr>
              <a:t>"globale" (B–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47EC-31A1-424B-926C-88F1A358B0D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Variabili global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f89f7"/>
                </a:solidFill>
                <a:latin typeface="Tahoma"/>
              </a:rPr>
              <a:t>Le variabili globali sono "cattive"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(almeno quanto il GOTO)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erchè violano il principio della località della informazione  (Principio di "</a:t>
            </a:r>
            <a:r>
              <a:rPr b="0" lang="it-IT" sz="2400" spc="-1" strike="noStrike">
                <a:solidFill>
                  <a:srgbClr val="6f89f7"/>
                </a:solidFill>
                <a:latin typeface="Tahoma"/>
              </a:rPr>
              <a:t>Information hiding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"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' impossibile gestire correttamente progetti "grossi" nei quali si faccia uso di variabili global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incipio del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NEED TO KNOW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iascuno deve avere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TUTT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SOL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le informazioni che servono a svogere il compito affid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E91D-CF22-49C2-A5EA-204307CA94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incipi di Par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mmittente di una funzione deve dare all'implementatore tutte le informazioni necessarie a </a:t>
            </a:r>
            <a:r>
              <a:rPr b="0" lang="it-IT" sz="2800" spc="-1" strike="noStrike" u="sng">
                <a:solidFill>
                  <a:srgbClr val="40458c"/>
                </a:solidFill>
                <a:uFillTx/>
                <a:latin typeface="Tahoma"/>
              </a:rPr>
              <a:t>realizzar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la funzione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 NULLA PI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'implementatore di una funzione deve dare all'utente tutte le informazion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necessarie ad </a:t>
            </a:r>
            <a:r>
              <a:rPr b="0" lang="it-IT" sz="2800" spc="-1" strike="noStrike" u="sng">
                <a:solidFill>
                  <a:srgbClr val="40458c"/>
                </a:solidFill>
                <a:uFillTx/>
                <a:latin typeface="Tahoma"/>
              </a:rPr>
              <a:t>usar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la funzione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 NULLA PI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584D-A4FF-4690-AF10-B2B062C6839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cope delle variabil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ariabili statiche "interne"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f(int n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b;  static int a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f (n==0) {a=1 ; b=1;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else {a=a+1; b=b+1;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(a,b) in f:“&lt;&lt;a &lt;&lt;" -", &lt;&lt;b&lt;&lt;" - 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g(void)  {int x=99,y=100,z=101;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=5,b=5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f(0); g(); f(1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 &lt;&lt; "(a,b) in main:“&lt;&lt;a &lt;&lt;" -", &lt;&lt;b&lt;&lt;" - 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r>
              <a:rPr b="0" lang="it-IT" sz="1800" spc="-1" strike="noStrike">
                <a:solidFill>
                  <a:srgbClr val="6f89f7"/>
                </a:solidFill>
                <a:latin typeface="Monaco"/>
              </a:rPr>
              <a:t> </a:t>
            </a:r>
            <a:r>
              <a:rPr b="0" lang="it-IT" sz="1800" spc="-1" strike="noStrike">
                <a:solidFill>
                  <a:srgbClr val="6f89f7"/>
                </a:solidFill>
                <a:latin typeface="Monaco"/>
              </a:rPr>
              <a:t>	</a:t>
            </a:r>
            <a:r>
              <a:rPr b="0" lang="it-IT" sz="1800" spc="-1" strike="noStrike">
                <a:solidFill>
                  <a:srgbClr val="6f89f7"/>
                </a:solidFill>
                <a:latin typeface="Monaco"/>
              </a:rPr>
              <a:t>	</a:t>
            </a:r>
            <a:r>
              <a:rPr b="0" lang="it-IT" sz="1600" spc="-1" strike="noStrike">
                <a:solidFill>
                  <a:srgbClr val="6f89f7"/>
                </a:solidFill>
                <a:latin typeface="Monaco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Monaco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Output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(a,b) in f: (1,1)  - (a,b) in f: (2,</a:t>
            </a:r>
            <a:r>
              <a:rPr b="1" lang="it-IT" sz="1600" spc="-1" strike="noStrike">
                <a:solidFill>
                  <a:srgbClr val="40458c"/>
                </a:solidFill>
                <a:latin typeface="Courier New"/>
              </a:rPr>
              <a:t>?</a:t>
            </a:r>
            <a:r>
              <a:rPr b="1" lang="it-IT" sz="1600" spc="-1" strike="noStrike">
                <a:solidFill>
                  <a:srgbClr val="6f89f7"/>
                </a:solidFill>
                <a:latin typeface="Courier New"/>
              </a:rPr>
              <a:t>) - (a,b) in main: (5,5)</a:t>
            </a:r>
            <a:r>
              <a:rPr b="1" lang="it-IT" sz="16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TTENZIONE: ? significa che il valore di b alla seconda iterazione NON è (in generale) predicibile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B75B-D5E4-4039-890E-AACF3AA1EA8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cope delle variabil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ariabili statiche "esterne"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static int a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f(int n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 è una variabile globa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Tuttavia è visibile solo alle funzioni che stanno nello stesso file al momento della compilazione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Sarebbe un buon meccanismo per implementare le funzioni di libreria, se non fosse che le variabili globali vanno COMUNQUE evitate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9FC4-F65A-45CE-B31A-61A9EF8B38E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Ancora puntatori e referenc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nfronto tra reference e puntatori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739440" y="1981080"/>
            <a:ext cx="4433400" cy="2352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f(int* x) { (*x)++; 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void g(int&amp; x) { x++; 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void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f(&amp;a); //ugly, but esplici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g(a);  //clean, but hidden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880" y="5257800"/>
            <a:ext cx="7176600" cy="6948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&amp; h() { int x=0; return x;}   // ERROR ! Perché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&amp; l() { static int x=0; return x;} //OK, Perché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78240" y="6140520"/>
            <a:ext cx="52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(esempi presi da B.Eckel, Thinking in C++, pag.452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4724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ttenzione con le  reference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0D35-0F4E-45CC-A769-7E990C1042D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uppor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878040" y="1536840"/>
            <a:ext cx="67453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Materiale on-l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copia delle sli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note scrit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registrazione audio-video delle lezio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(on line – su C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forum di discuss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Info su : http://latemar.science.unitn.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DD37-9352-4DAC-9651-827E6F62563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Tipi di dati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ipi di dati personalizza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typedef float coordinata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ordinata z,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ipi di dati comp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struct punto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ordinata x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ordinata y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punto origine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origine.x=0.0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origine.y=0.0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9952-5884-417C-816F-7CB42E9A9C4D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uppor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59320" y="1536840"/>
            <a:ext cx="599400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Registrazione audio-video delle lezio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Software “e-presence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del KMDI – University of Toro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Supporto tecnico di Alessandro Tomas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Supporto alla regia di Mauro Dolza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Grazie al CISCA per il prestito del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 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videocamera a puntamento automa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DFE8-843A-443C-A88A-CB9465E509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uppor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909000" y="1536840"/>
            <a:ext cx="7586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Registrazione audio-video delle lezioni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60066"/>
                </a:solidFill>
                <a:latin typeface="Book Antiqua"/>
              </a:rPr>
              <a:t>requisi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On line (diretta o differita)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modem 56 Kb:                        Audio+Slide on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connessione ISDN 128 Kb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   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Video,Audio,Sli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connessione ADS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Off lin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- CD play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SW: 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Real Player (free)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34290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86FB-2069-47E1-9E10-CD05CFFA00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grammazione industria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52760" y="1536840"/>
            <a:ext cx="76658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Programming “in the large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40458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6f89f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 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Suddivisione del lavoro tra persone/grupp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(divide et imper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6f89f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 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Mantenibilità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(che succede se voglio cambiare qualcosa tr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un mese/un anno/…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6f89f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6f89f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 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Robustezz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(che succede se sostituisco una persona?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6415-9DCB-4B2F-9CEC-D42041E68B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grammazione industria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78040" y="1536840"/>
            <a:ext cx="636444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Le rispost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Ingegneria del softw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(corso del prossimo an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Buone tecniche di programm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(es. commenti up to dat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f89f7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Supporto dal linguaggi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Object Oriented Programm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(in C++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	</a:t>
            </a:r>
            <a:r>
              <a:rPr b="1" i="1" lang="it-IT" sz="2400" spc="-1" strike="noStrike">
                <a:solidFill>
                  <a:srgbClr val="40458c"/>
                </a:solidFill>
                <a:latin typeface="Book Antiqua"/>
              </a:rPr>
              <a:t>(in Jav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6F63-0B26-4141-9F5E-FCBC2B4296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Richiami di C++ di bas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680" y="2395080"/>
            <a:ext cx="509760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659640" y="5159880"/>
            <a:ext cx="1558440" cy="779040"/>
            <a:chOff x="6659640" y="5159880"/>
            <a:chExt cx="1558440" cy="779040"/>
          </a:xfrm>
        </p:grpSpPr>
        <p:sp>
          <p:nvSpPr>
            <p:cNvPr id="250" name=""/>
            <p:cNvSpPr/>
            <p:nvPr/>
          </p:nvSpPr>
          <p:spPr>
            <a:xfrm>
              <a:off x="6659640" y="5251680"/>
              <a:ext cx="308160" cy="35712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0120" y="5256360"/>
              <a:ext cx="306360" cy="35712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69200" y="5248440"/>
              <a:ext cx="308160" cy="35712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31400" y="5262480"/>
              <a:ext cx="0" cy="676440"/>
            </a:xfrm>
            <a:prstGeom prst="line">
              <a:avLst/>
            </a:prstGeom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700400" y="5159880"/>
              <a:ext cx="517680" cy="513720"/>
              <a:chOff x="7700400" y="5159880"/>
              <a:chExt cx="517680" cy="513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707600" y="5249520"/>
                <a:ext cx="306720" cy="357120"/>
              </a:xfrm>
              <a:prstGeom prst="ellipse">
                <a:avLst/>
              </a:prstGeom>
              <a:noFill/>
              <a:ln cap="sq" w="572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57080" y="5421960"/>
                <a:ext cx="239040" cy="0"/>
              </a:xfrm>
              <a:prstGeom prst="line">
                <a:avLst/>
              </a:prstGeom>
              <a:ln cap="sq" w="316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321400">
                <a:off x="7693920" y="5211000"/>
                <a:ext cx="461880" cy="439920"/>
              </a:xfrm>
              <a:prstGeom prst="blockArc">
                <a:avLst>
                  <a:gd name="adj1" fmla="val 13754930"/>
                  <a:gd name="adj2" fmla="val 18645070"/>
                  <a:gd name="adj3" fmla="val 10458"/>
                </a:avLst>
              </a:prstGeom>
              <a:solidFill>
                <a:srgbClr val="6f89f7"/>
              </a:solidFill>
              <a:ln cap="sq"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 rot="3444600">
                <a:off x="7990200" y="5118840"/>
                <a:ext cx="9972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8155400">
                <a:off x="7966440" y="5355720"/>
                <a:ext cx="9972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762E-FCE3-4F2B-9B68-39303396E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o ronchetti</cp:lastModifiedBy>
  <dcterms:modified xsi:type="dcterms:W3CDTF">2003-02-18T22:51:39Z</dcterms:modified>
  <cp:revision>28</cp:revision>
  <dc:subject/>
  <dc:title>Presentazione di PowerPoint</dc:title>
</cp:coreProperties>
</file>