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643C-BA5C-4241-8EB6-F4FACC8C7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9120" y="423036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D4BF-2D98-4AFB-AC80-B6616B14F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12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70880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D8DA-CEB3-4DC0-9A0B-F59CC098F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4520" y="15238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19920" y="15238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09120" y="42303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4520" y="42303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19920" y="42303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3940-FC02-4B6B-837C-A9710DD8B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57168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12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27E2-2044-4434-8537-064B47D32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0880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120" y="423036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120" y="423036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12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0880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14520" y="15238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19920" y="15238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120" y="42303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14520" y="42303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19920" y="42303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4159-743F-42C0-BA86-2F8B79CAF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B1507-B682-4594-9E05-05BD2F50E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FA75B-9B43-4112-BEFB-C65EF7040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7168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E0F2E-9D89-4FF0-B40F-11E072438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12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6D1EB-DAC4-41EA-9096-8B4A3250B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70880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6D62B-6C3A-4311-9347-1928D36E4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120" y="423036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0A0C-FD90-435C-A12E-52AED7F16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1920" y="1066680"/>
            <a:ext cx="1784520" cy="2324160"/>
            <a:chOff x="151920" y="1066680"/>
            <a:chExt cx="1784520" cy="2324160"/>
          </a:xfrm>
        </p:grpSpPr>
        <p:sp>
          <p:nvSpPr>
            <p:cNvPr id="57" name=""/>
            <p:cNvSpPr/>
            <p:nvPr/>
          </p:nvSpPr>
          <p:spPr>
            <a:xfrm flipH="1">
              <a:off x="151920" y="1164240"/>
              <a:ext cx="178452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6320" y="1069920"/>
              <a:ext cx="0" cy="23209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49120" y="1066680"/>
              <a:ext cx="1926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1"/>
          </p:nvPr>
        </p:nvSpPr>
        <p:spPr>
          <a:xfrm>
            <a:off x="61920" y="16812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B3DA-4334-462C-A29C-D4336A5CC45C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380360" y="246600"/>
            <a:ext cx="1284840" cy="582120"/>
            <a:chOff x="7380360" y="246600"/>
            <a:chExt cx="1284840" cy="582120"/>
          </a:xfrm>
        </p:grpSpPr>
        <p:sp>
          <p:nvSpPr>
            <p:cNvPr id="64" name=""/>
            <p:cNvSpPr/>
            <p:nvPr/>
          </p:nvSpPr>
          <p:spPr>
            <a:xfrm>
              <a:off x="7380360" y="318960"/>
              <a:ext cx="245880" cy="266760"/>
            </a:xfrm>
            <a:prstGeom prst="ellipse">
              <a:avLst/>
            </a:prstGeom>
            <a:noFill/>
            <a:ln cap="sq" w="5724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55040" y="318960"/>
              <a:ext cx="244440" cy="266760"/>
            </a:xfrm>
            <a:prstGeom prst="ellipse">
              <a:avLst/>
            </a:prstGeom>
            <a:noFill/>
            <a:ln cap="sq" w="5724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83360" y="324000"/>
              <a:ext cx="246240" cy="266400"/>
            </a:xfrm>
            <a:prstGeom prst="ellipse">
              <a:avLst/>
            </a:prstGeom>
            <a:noFill/>
            <a:ln cap="sq" w="5724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43760" y="324000"/>
              <a:ext cx="0" cy="504720"/>
            </a:xfrm>
            <a:prstGeom prst="line">
              <a:avLst/>
            </a:prstGeom>
            <a:ln cap="sq" w="5724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8254080" y="246600"/>
              <a:ext cx="411120" cy="392400"/>
              <a:chOff x="8254080" y="246600"/>
              <a:chExt cx="411120" cy="392400"/>
            </a:xfrm>
          </p:grpSpPr>
          <p:sp>
            <p:nvSpPr>
              <p:cNvPr id="69" name=""/>
              <p:cNvSpPr/>
              <p:nvPr/>
            </p:nvSpPr>
            <p:spPr>
              <a:xfrm>
                <a:off x="8259480" y="317520"/>
                <a:ext cx="244440" cy="266040"/>
              </a:xfrm>
              <a:prstGeom prst="ellipse">
                <a:avLst/>
              </a:prstGeom>
              <a:noFill/>
              <a:ln cap="sq" w="5724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58200" y="446040"/>
                <a:ext cx="190440" cy="0"/>
              </a:xfrm>
              <a:prstGeom prst="line">
                <a:avLst/>
              </a:prstGeom>
              <a:ln cap="sq" w="3168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321400">
                <a:off x="8260920" y="277920"/>
                <a:ext cx="344160" cy="350640"/>
              </a:xfrm>
              <a:prstGeom prst="blockArc">
                <a:avLst>
                  <a:gd name="adj1" fmla="val 13754930"/>
                  <a:gd name="adj2" fmla="val 18645070"/>
                  <a:gd name="adj3" fmla="val 10458"/>
                </a:avLst>
              </a:prstGeom>
              <a:solidFill>
                <a:srgbClr val="6f89f7"/>
              </a:solidFill>
              <a:ln cap="sq" w="1908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 rot="3444600">
                <a:off x="8487720" y="211320"/>
                <a:ext cx="74160" cy="285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8155400">
                <a:off x="8468280" y="387720"/>
                <a:ext cx="74160" cy="285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stackapplet.html" TargetMode="External"/><Relationship Id="rId2" Type="http://schemas.openxmlformats.org/officeDocument/2006/relationships/hyperlink" Target="file:///stackapplet.html" TargetMode="External"/><Relationship Id="rId3" Type="http://schemas.openxmlformats.org/officeDocument/2006/relationships/hyperlink" Target="file:///stackapplet.html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04480" y="350640"/>
            <a:ext cx="6945480" cy="5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Operatori </a:t>
            </a:r>
            <a:r>
              <a:rPr b="0" i="1" lang="it-IT" sz="3600" spc="-1" strike="noStrike">
                <a:solidFill>
                  <a:srgbClr val="660066"/>
                </a:solidFill>
                <a:latin typeface="Tahoma"/>
              </a:rPr>
              <a:t>new</a:t>
            </a: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 e </a:t>
            </a:r>
            <a:r>
              <a:rPr b="0" i="1" lang="it-IT" sz="3600" spc="-1" strike="noStrike">
                <a:solidFill>
                  <a:srgbClr val="660066"/>
                </a:solidFill>
                <a:latin typeface="Tahoma"/>
              </a:rPr>
              <a:t>delet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new type</a:t>
            </a: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loca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izeof(type)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bytes in memoria (heap) e restituisce un puntatore alla base della memoria allocata. (esiste una funzione simile usata in C e chiamata </a:t>
            </a: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malloc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delete(* p)</a:t>
            </a: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ealloca la memoria puntata dal puntatore p. (Funziona solo con memoria dinamica allocata tramite new. Esiste un’analoga funzione in C chiamata </a:t>
            </a: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fre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l mancato uso della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delet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provoca un insidioso tipo di errore: il </a:t>
            </a: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memory leak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E1E33-C155-42A8-BD48-44BF113437D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Operatori su stringh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Nella libreria string.h sono predefini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una serie di funzioni operanti su stringhe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La libreria va inclusa con il comando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#include &lt;string.h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Le funzioni di uso più frequente sono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har *strcpy(a,b); /*copia b su a*/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int strcmp(a,b);   // restituisce&lt;0 se a&lt;b,0 se a=b,&gt;0 se a&gt;b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har *strcat(a,b); /* appende b in coda ad a*/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size_t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strlen(a);  //restituisce la lunghezza della stringa 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426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(Abbiamo assunto la definizione: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char *a, *b;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426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Esercizio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Implementare queste funzioni (ricordando la definizione di string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F1FC-724A-4179-A544-07356F4D38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Stringhe e funzion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920520" y="1066680"/>
            <a:ext cx="7039440" cy="527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#include &lt;iostream.h&g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#include &lt;string.h&g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#define DIM 1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main() 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char parola[DIM]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char * altraparola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cout&lt;&lt;"dammi una stringa :"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cin&gt;&gt;ws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cin.getline(parola,DIM)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cout&lt;&lt;"La stringa inserita e' \""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&lt;&lt;parola&lt;&lt;"\"\n"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strcpy(altraParola,parola)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cout&lt;&lt;"Il contenuto di altraParola e' \""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&lt;&lt;altraParola&lt;&lt;"\"\n"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8960" y="2590920"/>
            <a:ext cx="4143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//                     NO!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char altraParola[DIM]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E2E2-A618-487F-85EE-6A29144C277C}" type="slidenum">
              <a:t>1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Stringh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426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0458c"/>
                </a:solidFill>
                <a:latin typeface="Tahoma"/>
              </a:rPr>
              <a:t>Attenzione alle sottigliezze!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char *mystring="Pippo";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è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"equivalente"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char *mystring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mystring=new char[6]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mystring[0]='P';mystring[1]='i';...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;…; mystring[4]='o';mystring[5]='\0'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(in realtà c'è una differenza riguardo a dov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in memoria viene riservato il posto: stack o heap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char *frase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42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efinisce il puntatore ma NON alloca spazio in memoria!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81552-9382-4234-846A-921C0A69AAD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Costrutti idiomatici 2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Copia di zone di memor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(Utile per stringhe, vettori ecc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int n;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char *p, *q; 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while (n--) *p++ = *q++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opia n celle di memoria a partire dal puntatore q nella zona puntata da p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ttenzione! alla fine p e q puntano alla fine delle rispettive zone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EEA3A-D47C-46C3-AC3E-CB6A6ADD6F3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Costrutti idiomatici 3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ssegnazion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Le due righe seguenti hanno  SIGNIFICATI DIVERSI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(ATTENZIONE! sorgente di MOLTI error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if (a=</a:t>
            </a:r>
            <a:r>
              <a:rPr b="1" lang="it-IT" sz="800" spc="-1" strike="noStrike">
                <a:solidFill>
                  <a:srgbClr val="6f89f7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=b) cout &lt;&lt; “OK\n”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if (a=b) cout &lt;&lt; “OK\n”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La seconda è equivalente 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a=b;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if (a!=0) cout &lt;&lt; “OK\n”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C597F-DFCE-4FC6-B0BF-F564179F97A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l nostro esempio guida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La costruzione di uno stack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E1F1-5A4F-4DB2-8604-FDE3E99BC1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Costruiamo uno stack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700000" y="5805360"/>
            <a:ext cx="380988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stackapplet</a:t>
            </a:r>
            <a:r>
              <a:rPr b="0" lang="it-IT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.</a:t>
            </a:r>
            <a:r>
              <a:rPr b="0" lang="it-IT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htm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484360" y="1413000"/>
          <a:ext cx="4438800" cy="4465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3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1413000"/>
                    <a:ext cx="443880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B6D3-760E-4D14-9BF5-2464B1F862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36280" y="1244520"/>
            <a:ext cx="4569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Courier New"/>
              </a:rPr>
              <a:t>#include &lt;iostream.h&gt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Courier New"/>
              </a:rPr>
              <a:t>#include &lt;cassert&gt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#define DEBU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truct Pila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int 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int defaultGrowth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int marker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int *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contenuto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}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2819520"/>
            <a:ext cx="68580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2819520"/>
            <a:ext cx="68580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34320" y="5486400"/>
            <a:ext cx="68580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3581280"/>
            <a:ext cx="685800" cy="3812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3962520"/>
            <a:ext cx="68580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34320" y="4343400"/>
            <a:ext cx="68580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34320" y="4724280"/>
            <a:ext cx="685800" cy="3812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34320" y="5105520"/>
            <a:ext cx="68580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00800" y="4191120"/>
            <a:ext cx="4572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10080" y="39625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rk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3048120"/>
            <a:ext cx="4572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1680" y="28195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22860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ntenu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10280" y="548640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10280" y="510552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10280" y="472428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434340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BFAB-6549-4DFC-920A-69EDDF2288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829440" y="1469880"/>
            <a:ext cx="694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Pila  * crea(int initialSize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//crea una Pil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#ifdef DEBU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entro in crea"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#endif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Pila  * s= new Pila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-&gt;size=initial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-&gt;defaultGrowthSize=initial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-&gt;marker=0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-&gt; contenuto=new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int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[initialSize]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return s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021A-DD45-49DC-85BE-F939C570D8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74440" y="1482840"/>
            <a:ext cx="6215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void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distruggi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(Pila * s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//distruggi lo Pil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#ifdef DEBU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entro in destroy"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#endif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delete [](s-&gt;contenuto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delete s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0B6A-B9A7-4CAE-9ED2-035BE4C71B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l modello di memori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233880" y="1828800"/>
            <a:ext cx="36316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0458c"/>
                </a:solidFill>
                <a:latin typeface="Book Antiqua"/>
              </a:rPr>
              <a:t>memoria allocata dalle funzion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0458c"/>
                </a:solidFill>
                <a:latin typeface="Book Antiqua"/>
              </a:rPr>
              <a:t>(Variabili automatiche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14000" y="3138480"/>
            <a:ext cx="38559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Book Antiqua"/>
              </a:rPr>
              <a:t>memoria allocata dinamicament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Book Antiqua"/>
              </a:rPr>
              <a:t>dal programmator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23160" y="4259160"/>
            <a:ext cx="302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0458c"/>
                </a:solidFill>
                <a:latin typeface="Book Antiqua"/>
              </a:rPr>
              <a:t>Variabili globali e statich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36560" y="5695920"/>
            <a:ext cx="206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0458c"/>
                </a:solidFill>
                <a:latin typeface="Book Antiqua"/>
              </a:rPr>
              <a:t>Codice eseguibi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054080" y="1730520"/>
            <a:ext cx="7179840" cy="4257360"/>
            <a:chOff x="1054080" y="1730520"/>
            <a:chExt cx="7179840" cy="4257360"/>
          </a:xfrm>
        </p:grpSpPr>
        <p:sp>
          <p:nvSpPr>
            <p:cNvPr id="154" name=""/>
            <p:cNvSpPr/>
            <p:nvPr/>
          </p:nvSpPr>
          <p:spPr>
            <a:xfrm>
              <a:off x="1059480" y="1736640"/>
              <a:ext cx="2120400" cy="4251240"/>
            </a:xfrm>
            <a:prstGeom prst="rect">
              <a:avLst/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88760" y="5592600"/>
              <a:ext cx="586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40458c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47040" y="4924440"/>
              <a:ext cx="17312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40458c"/>
                  </a:solidFill>
                  <a:latin typeface="Arial"/>
                </a:rPr>
                <a:t>initialized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40458c"/>
                  </a:solidFill>
                  <a:latin typeface="Arial"/>
                </a:rPr>
                <a:t>read/only dat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91600" y="4367160"/>
              <a:ext cx="17938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40458c"/>
                  </a:solidFill>
                  <a:latin typeface="Arial"/>
                </a:rPr>
                <a:t>initialized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40458c"/>
                  </a:solidFill>
                  <a:latin typeface="Arial"/>
                </a:rPr>
                <a:t>read/write dat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25880" y="3776760"/>
              <a:ext cx="15058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40458c"/>
                  </a:solidFill>
                  <a:latin typeface="Arial"/>
                </a:rPr>
                <a:t>uninitialized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40458c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04600" y="3316320"/>
              <a:ext cx="71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3300"/>
                  </a:solidFill>
                  <a:latin typeface="Arial"/>
                </a:rPr>
                <a:t>hea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8600" y="1730520"/>
              <a:ext cx="763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40458c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59480" y="5597640"/>
              <a:ext cx="2120400" cy="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54080" y="4983120"/>
              <a:ext cx="21319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54080" y="4392720"/>
              <a:ext cx="21319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59480" y="3824280"/>
              <a:ext cx="2120400" cy="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054080" y="2859120"/>
              <a:ext cx="2131920" cy="474480"/>
              <a:chOff x="1054080" y="2859120"/>
              <a:chExt cx="2131920" cy="474480"/>
            </a:xfrm>
          </p:grpSpPr>
          <p:sp>
            <p:nvSpPr>
              <p:cNvPr id="166" name=""/>
              <p:cNvSpPr/>
              <p:nvPr/>
            </p:nvSpPr>
            <p:spPr>
              <a:xfrm>
                <a:off x="1054080" y="3321000"/>
                <a:ext cx="213192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111400" y="2859120"/>
                <a:ext cx="0" cy="474480"/>
              </a:xfrm>
              <a:prstGeom prst="line">
                <a:avLst/>
              </a:prstGeom>
              <a:ln w="255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1054080" y="2108160"/>
              <a:ext cx="2131920" cy="434880"/>
              <a:chOff x="1054080" y="2108160"/>
              <a:chExt cx="2131920" cy="434880"/>
            </a:xfrm>
          </p:grpSpPr>
          <p:sp>
            <p:nvSpPr>
              <p:cNvPr id="169" name=""/>
              <p:cNvSpPr/>
              <p:nvPr/>
            </p:nvSpPr>
            <p:spPr>
              <a:xfrm>
                <a:off x="1054080" y="2108160"/>
                <a:ext cx="213192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111400" y="2120760"/>
                <a:ext cx="0" cy="422280"/>
              </a:xfrm>
              <a:prstGeom prst="line">
                <a:avLst/>
              </a:prstGeom>
              <a:ln w="255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3292920" y="3813120"/>
              <a:ext cx="4941000" cy="0"/>
            </a:xfrm>
            <a:prstGeom prst="line">
              <a:avLst/>
            </a:prstGeom>
            <a:ln w="1260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44320" y="5597640"/>
              <a:ext cx="4941360" cy="0"/>
            </a:xfrm>
            <a:prstGeom prst="line">
              <a:avLst/>
            </a:prstGeom>
            <a:ln w="1260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085560" y="5113440"/>
            <a:ext cx="4186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Arial"/>
              </a:rPr>
              <a:t>&lt;- questo é supportato solo da alcuni hardwar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5CE0-5E91-43F6-A0A2-D2552796863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Allocazione della memori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llocazione static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 memor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(at compile tim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llocazion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namica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 memor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(at run tim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4132440"/>
            <a:ext cx="3886200" cy="255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main()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int *pa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pa=new in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out&lt;&lt;*pa&lt;&lt;endl; //NO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*pa=3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out&lt;&lt;*pa&lt;&lt;endl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delete(pa)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out&lt;&lt;*pa&lt;&lt;endl; //NO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1219320"/>
            <a:ext cx="3581640" cy="173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main()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int a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out&lt;&lt;a&lt;&lt;endl; //NO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a=3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out&lt;&lt;a&lt;&lt;endl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34320" y="2438280"/>
            <a:ext cx="1828800" cy="63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OUTPUT:   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4027320"/>
            <a:ext cx="2743200" cy="91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OUTPUT:   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432247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812666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29E50-7FC3-4997-8A3E-9A3ADE2444E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Vettori rivistat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04520" y="1371600"/>
            <a:ext cx="80168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chiarare un vettore è in un certo senso come dichiarare un puntatore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v[0]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è equivalente a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*v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ttenzione però alla differenza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int v[100];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è </a:t>
            </a:r>
            <a:r>
              <a:rPr b="1" lang="it-IT" sz="2000" spc="-1" strike="noStrike">
                <a:solidFill>
                  <a:srgbClr val="660066"/>
                </a:solidFill>
                <a:latin typeface="Courier New"/>
              </a:rPr>
              <a:t>"equivalente"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int *v; v=new int[100]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TTENZIONE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la prima versione alloca spazio STATICAMENTE (Stack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la seconda versione alloca spazio DINAMICAMENTE (Heap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A798-70B6-48D3-87D8-456A5EF17A4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3000" y="228600"/>
            <a:ext cx="7189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Elementi di C++ di bas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681280" y="3047760"/>
            <a:ext cx="42530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tringhe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70043-9505-45A3-A5C6-83133F09FCC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Stringh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04520" y="1294920"/>
            <a:ext cx="801684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 C e C++ non esiste il tipo di dato primitivo "stringa"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Tuttavia le funzioni di libreria di I/O trattano in modo speciale le regioni di memoria contenenti dei "char"  (arrays di caratter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ono considerate "stringhe" i vettori di caratteri terminati da un elemento contenente il carattere '\0', indicato anche come NULL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Un array di lunghezza N può contenere una stringa di lunghezza massima N-1!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(l'N-esimo carattere serve per il NULL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FB18-4509-4E4C-9BA8-7D8050426FD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34720" y="152280"/>
            <a:ext cx="7648920" cy="344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#include &lt;iostream.h&g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#define DIM 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main() 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char parola[DIM]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cout&lt;&lt;"dammi una stringa :"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cin&gt;&gt;parola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cout&lt;&lt;"La stringa e' "&lt;&lt;parola&lt;&lt;endl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for (int i=0;i&lt;DIM;i++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cout&lt;&lt;parola[i]&lt;&lt;" "&lt;&lt;(int)parola[i]&lt;&lt;endl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9640" y="3632040"/>
            <a:ext cx="3839040" cy="313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dammi una stringa :</a:t>
            </a:r>
            <a:r>
              <a:rPr b="1" lang="it-IT" sz="2000" spc="-1" strike="noStrike" u="sng">
                <a:solidFill>
                  <a:srgbClr val="40458c"/>
                </a:solidFill>
                <a:uFillTx/>
                <a:latin typeface="Courier New"/>
              </a:rPr>
              <a:t>pipp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La stringa e' </a:t>
            </a:r>
            <a:r>
              <a:rPr b="1" lang="it-IT" sz="2000" spc="-1" strike="noStrike" u="sng">
                <a:solidFill>
                  <a:srgbClr val="40458c"/>
                </a:solidFill>
                <a:uFillTx/>
                <a:latin typeface="Courier New"/>
              </a:rPr>
              <a:t>pipp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p 11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i 10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p 11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p 11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o 11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B 6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☺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257800" y="228240"/>
            <a:ext cx="3733920" cy="125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Stringhe: vettori</a:t>
            </a:r>
            <a:br>
              <a:rPr sz="3600"/>
            </a:b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di caratter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4765320" y="3632040"/>
            <a:ext cx="3991320" cy="313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dammi una stringa :</a:t>
            </a:r>
            <a:r>
              <a:rPr b="1" lang="it-IT" sz="2000" spc="-1" strike="noStrike" u="sng">
                <a:solidFill>
                  <a:srgbClr val="40458c"/>
                </a:solidFill>
                <a:uFillTx/>
                <a:latin typeface="Courier New"/>
              </a:rPr>
              <a:t> pi p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La stringa e' </a:t>
            </a:r>
            <a:r>
              <a:rPr b="1" lang="it-IT" sz="2000" spc="-1" strike="noStrike" u="sng">
                <a:solidFill>
                  <a:srgbClr val="40458c"/>
                </a:solidFill>
                <a:uFillTx/>
                <a:latin typeface="Courier New"/>
              </a:rPr>
              <a:t>p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p 11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i 10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X 8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B 6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☺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B9E4B-14F1-4C7D-8F3F-0AAE9C8B449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34720" y="152280"/>
            <a:ext cx="7648920" cy="344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#include &lt;iostream.h&g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main() 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const int DIM=8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char parola[DIM]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cout&lt;&lt;"dammi una stringa :"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cin.getline(parola,DIM)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cout&lt;&lt;"La stringa e' "&lt;&lt;parola&lt;&lt;endl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for (int i=0;i&lt;DIM;i++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cout&lt;&lt;parola[i]&lt;&lt;" "&lt;&lt;(int)parola[i]&lt;&lt;endl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9640" y="3632040"/>
            <a:ext cx="3839040" cy="313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dammi una stringa :</a:t>
            </a:r>
            <a:r>
              <a:rPr b="1" lang="it-IT" sz="2000" spc="-1" strike="noStrike" u="sng">
                <a:solidFill>
                  <a:srgbClr val="40458c"/>
                </a:solidFill>
                <a:uFillTx/>
                <a:latin typeface="Courier New"/>
              </a:rPr>
              <a:t>pipp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La stringa e' </a:t>
            </a:r>
            <a:r>
              <a:rPr b="1" lang="it-IT" sz="2000" spc="-1" strike="noStrike" u="sng">
                <a:solidFill>
                  <a:srgbClr val="40458c"/>
                </a:solidFill>
                <a:uFillTx/>
                <a:latin typeface="Courier New"/>
              </a:rPr>
              <a:t>pipp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p 11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i 10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p 11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p 11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o 11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B 6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☺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257800" y="228240"/>
            <a:ext cx="3733920" cy="125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Stringhe: vettori</a:t>
            </a:r>
            <a:br>
              <a:rPr sz="3600"/>
            </a:b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di caratter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4765320" y="3632040"/>
            <a:ext cx="3991320" cy="313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dammi una stringa :</a:t>
            </a:r>
            <a:r>
              <a:rPr b="1" lang="it-IT" sz="2000" spc="-1" strike="noStrike" u="sng">
                <a:solidFill>
                  <a:srgbClr val="40458c"/>
                </a:solidFill>
                <a:uFillTx/>
                <a:latin typeface="Courier New"/>
              </a:rPr>
              <a:t> pi p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La stringa e' </a:t>
            </a:r>
            <a:r>
              <a:rPr b="1" lang="it-IT" sz="2000" spc="-1" strike="noStrike" u="sng">
                <a:solidFill>
                  <a:srgbClr val="40458c"/>
                </a:solidFill>
                <a:uFillTx/>
                <a:latin typeface="Courier New"/>
              </a:rPr>
              <a:t> pi p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3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p 11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i 10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3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p 11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o 11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B 6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D2D8-16D6-43AD-B5B3-6F21571F369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34720" y="152280"/>
            <a:ext cx="7648920" cy="374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#include &lt;iostream.h&g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main() 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const int DIM=8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char parola[DIM]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cout&lt;&lt;"dammi una stringa :"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660066"/>
                </a:solidFill>
                <a:latin typeface="Courier New"/>
              </a:rPr>
              <a:t>cin&lt;&lt;ws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cin.getline(parola,DIM)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cout&lt;&lt;"La stringa e' "&lt;&lt;parola&lt;&lt;endl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for (int i=0;i&lt;DIM;i++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cout&lt;&lt;parola[i]&lt;&lt;" "&lt;&lt;(int)parola[i]&lt;&lt;endl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f89f7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4560" y="3632040"/>
            <a:ext cx="3839040" cy="313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dammi una stringa :</a:t>
            </a:r>
            <a:r>
              <a:rPr b="1" lang="it-IT" sz="2000" spc="-1" strike="noStrike" u="sng">
                <a:solidFill>
                  <a:srgbClr val="40458c"/>
                </a:solidFill>
                <a:uFillTx/>
                <a:latin typeface="Courier New"/>
              </a:rPr>
              <a:t>pipp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La stringa e' </a:t>
            </a:r>
            <a:r>
              <a:rPr b="1" lang="it-IT" sz="2000" spc="-1" strike="noStrike" u="sng">
                <a:solidFill>
                  <a:srgbClr val="40458c"/>
                </a:solidFill>
                <a:uFillTx/>
                <a:latin typeface="Courier New"/>
              </a:rPr>
              <a:t>pipp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p 11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i 10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p 11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p 11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o 11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B 6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☺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257800" y="228240"/>
            <a:ext cx="3733920" cy="125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Stringhe: vettori</a:t>
            </a:r>
            <a:br>
              <a:rPr sz="3600"/>
            </a:b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di caratter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4765320" y="3632040"/>
            <a:ext cx="3991320" cy="313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dammi una stringa :</a:t>
            </a:r>
            <a:r>
              <a:rPr b="1" lang="it-IT" sz="2000" spc="-1" strike="noStrike" u="sng">
                <a:solidFill>
                  <a:srgbClr val="40458c"/>
                </a:solidFill>
                <a:uFillTx/>
                <a:latin typeface="Courier New"/>
              </a:rPr>
              <a:t> pi p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La stringa e' </a:t>
            </a:r>
            <a:r>
              <a:rPr b="1" lang="it-IT" sz="2000" spc="-1" strike="noStrike" u="sng">
                <a:solidFill>
                  <a:srgbClr val="40458c"/>
                </a:solidFill>
                <a:uFillTx/>
                <a:latin typeface="Courier New"/>
              </a:rPr>
              <a:t>pi p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p 11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i 10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3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p 11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o 11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B 6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☺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6A301-E8C5-4611-81A1-52B66B8B078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co Ronchetti</cp:lastModifiedBy>
  <dcterms:modified xsi:type="dcterms:W3CDTF">2003-02-19T12:41:30Z</dcterms:modified>
  <cp:revision>30</cp:revision>
  <dc:subject/>
  <dc:title>Presentazione di PowerPoint</dc:title>
</cp:coreProperties>
</file>