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F644-BE02-487E-B6DB-0E2471A51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57B7-7DA4-4887-A81E-114C45506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CE2E-5D41-44DA-9B95-4C04D7FBA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45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199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1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45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199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4202-A74E-4739-B833-1F9B808BE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716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40A6-294F-4F24-A48E-A0EEDECBC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45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9920" y="15238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1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45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9920" y="42303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D349-2562-4D69-890A-7E39801F9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EB78-8C93-42F6-907E-B6307FB02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8CD1-1D3B-4BE9-A498-0CFFBF02D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7168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4075-21C6-47B3-9F49-A7FD47BBF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B1D1-99E8-4EBA-B026-5ACE6D2E9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708800" y="42303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0DC3-979D-48B8-88E3-7F419AB4A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8800" y="15238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120" y="42303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9FD6-C12E-47C7-8977-7707374AE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1920" y="1066680"/>
            <a:ext cx="1784520" cy="2324160"/>
            <a:chOff x="151920" y="1066680"/>
            <a:chExt cx="1784520" cy="2324160"/>
          </a:xfrm>
        </p:grpSpPr>
        <p:sp>
          <p:nvSpPr>
            <p:cNvPr id="57" name=""/>
            <p:cNvSpPr/>
            <p:nvPr/>
          </p:nvSpPr>
          <p:spPr>
            <a:xfrm flipH="1">
              <a:off x="151920" y="1164240"/>
              <a:ext cx="178452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6320" y="106992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120" y="106668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1"/>
          </p:nvPr>
        </p:nvSpPr>
        <p:spPr>
          <a:xfrm>
            <a:off x="61920" y="1681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9D45-0609-47B0-B9A4-69B21947140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380360" y="246600"/>
            <a:ext cx="1284840" cy="582120"/>
            <a:chOff x="7380360" y="246600"/>
            <a:chExt cx="1284840" cy="582120"/>
          </a:xfrm>
        </p:grpSpPr>
        <p:sp>
          <p:nvSpPr>
            <p:cNvPr id="64" name=""/>
            <p:cNvSpPr/>
            <p:nvPr/>
          </p:nvSpPr>
          <p:spPr>
            <a:xfrm>
              <a:off x="7380360" y="318960"/>
              <a:ext cx="245880" cy="26676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55040" y="318960"/>
              <a:ext cx="244440" cy="26676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83360" y="324000"/>
              <a:ext cx="246240" cy="266400"/>
            </a:xfrm>
            <a:prstGeom prst="ellipse">
              <a:avLst/>
            </a:prstGeom>
            <a:noFill/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43760" y="324000"/>
              <a:ext cx="0" cy="504720"/>
            </a:xfrm>
            <a:prstGeom prst="line">
              <a:avLst/>
            </a:prstGeom>
            <a:ln cap="sq" w="572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8254080" y="246600"/>
              <a:ext cx="411120" cy="392400"/>
              <a:chOff x="8254080" y="246600"/>
              <a:chExt cx="411120" cy="392400"/>
            </a:xfrm>
          </p:grpSpPr>
          <p:sp>
            <p:nvSpPr>
              <p:cNvPr id="69" name=""/>
              <p:cNvSpPr/>
              <p:nvPr/>
            </p:nvSpPr>
            <p:spPr>
              <a:xfrm>
                <a:off x="8259480" y="317520"/>
                <a:ext cx="244440" cy="266040"/>
              </a:xfrm>
              <a:prstGeom prst="ellipse">
                <a:avLst/>
              </a:prstGeom>
              <a:noFill/>
              <a:ln cap="sq" w="5724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8200" y="446040"/>
                <a:ext cx="190440" cy="0"/>
              </a:xfrm>
              <a:prstGeom prst="line">
                <a:avLst/>
              </a:prstGeom>
              <a:ln cap="sq" w="316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321400">
                <a:off x="8260920" y="277920"/>
                <a:ext cx="344160" cy="350640"/>
              </a:xfrm>
              <a:prstGeom prst="blockArc">
                <a:avLst>
                  <a:gd name="adj1" fmla="val 13754930"/>
                  <a:gd name="adj2" fmla="val 18645070"/>
                  <a:gd name="adj3" fmla="val 10458"/>
                </a:avLst>
              </a:prstGeom>
              <a:solidFill>
                <a:srgbClr val="6f89f7"/>
              </a:solidFill>
              <a:ln cap="sq" w="190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 rot="3444600">
                <a:off x="8487720" y="211320"/>
                <a:ext cx="74160" cy="285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8155400">
                <a:off x="8468280" y="387720"/>
                <a:ext cx="74160" cy="285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l preprocessor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67AE-A755-4423-80F6-A3D8CC3C75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34360" y="1447920"/>
            <a:ext cx="694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estrai(Pila *s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//estrai l’ultimo val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entro in estra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assert(s-&gt;marker&gt;0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return s-&gt;contenuto[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--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(s-&gt;marker)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FB04-85C2-4A5F-95DF-1EAC33359F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72240" y="1219320"/>
            <a:ext cx="877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stampaStato(Pila *s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//stampa lo stato dello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 &lt;&lt;"=================="&lt;&lt; endl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 &lt;&lt; "size = "&lt;&lt;s-&gt;size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 &lt;&lt; "defaultGrowthSize = “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&lt;&lt;s-&gt;defaultGrowthSize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 &lt;&lt; "marker = "&lt;&lt;s-&gt;marker 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0;k&lt;s-&gt;marker;k++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 &lt;&lt; "["&lt;&lt;(s-&gt;contenuto[k])&lt;&lt;"]"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 &lt;&lt; endl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 &lt;&lt;"=================="&lt;&lt; endl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B15E-22FA-4F26-9F67-FC1D36E2E6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99160" y="1165320"/>
            <a:ext cx="895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* copia(Pila * from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entro in copia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* to=crea(from-&gt;size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o-&gt;defaultGrowthSize=from-&gt;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0; k&lt;from-&gt;marker;k++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o-&gt;contenuto[k]=from-&gt;contenuto[k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o-&gt;marker=from-&gt;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return 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1ABC-3973-4682-9B93-6A545380F0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3400" y="785880"/>
            <a:ext cx="78616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main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s=crea(5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stampaStato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10;k++) inserisci(s,k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 stampaStato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* w = copia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w"; stampaStato(w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8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;k++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c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out&lt;&lt;estrai(s)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ampaStato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distruggi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ampaStato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1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5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;k++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estrai(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w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)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w";stampaStato(w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6A65-9B85-4B35-B3BC-A336F2DDFF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3280" y="457200"/>
            <a:ext cx="47372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bash-2.02$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gcc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  Pila.cc 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-lstdc++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  -o Pila.ex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bash-2.02$ Pila.ex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cre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s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size =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defaultGrowthSize =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marker = 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inseris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inseris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inseris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inseris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inseris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inseris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entro in cres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inseris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inseris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inserisc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16280" y="2498760"/>
            <a:ext cx="2943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s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size = 1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defaultGrowthSize =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marker = 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[1][2][3][4][5][6][7][8][9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copi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w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size = 1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defaultGrowthSize = 1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marker = 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[1][2][3][4][5][6][7][8][9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Times New Roman"/>
              </a:rPr>
              <a:t>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C6E7-005B-470B-AB29-16262F0858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20480" y="1279440"/>
            <a:ext cx="2858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s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size = 1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defaultGrowthSize =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marker =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[1][2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5760" y="304920"/>
            <a:ext cx="55785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distrugg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s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size = 16277758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defaultGrowthSize = 162777582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marker =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[1627775848][1627775848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assertion "s-&gt;marker&gt;0" failed: file "Pila.cc", line 7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bash-2.02$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CE2A-2477-4B1B-B339-7EC4E34948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1560" y="762120"/>
            <a:ext cx="78616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#include &lt;Pila.h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main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s=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crea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(5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 stampaStato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10;k++) inserisci(s,k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 stampaStato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Pila * w=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s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w"; stampaStato(w);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8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;k++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c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out&lt;&lt; estrai(s)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ampaStato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“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w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";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ampaStato(w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0880" y="4432320"/>
            <a:ext cx="243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Una copi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(troppo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sbrigativa…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3680" y="714240"/>
            <a:ext cx="44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erchè abbiamo scritto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l metodo copia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6222-900D-4DA4-BF50-E63AD58790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22600" y="1279440"/>
            <a:ext cx="3254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s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size = 1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defaultGrowthSize =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marker = 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[1][2] [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][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] [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] [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6</a:t>
            </a: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] [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7</a:t>
            </a: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] [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8</a:t>
            </a: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] [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9</a:t>
            </a: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b2b2b2"/>
                </a:solidFill>
                <a:latin typeface="Times New Roman"/>
              </a:rPr>
              <a:t>==================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size = 1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defaultGrowthSize =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marker =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[1][2] [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][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] [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] [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] [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] [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] [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==================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83120" y="1508040"/>
            <a:ext cx="2943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entro in estra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size = 1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defaultGrowthSize =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marker =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[1][2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size = 1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defaultGrowthSize = 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marker =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[1][2]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=================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5FE7-7C19-4B18-B0E5-5101FC3680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5520" y="1120680"/>
            <a:ext cx="6764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ruct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*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crea(int initialSize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distruggi(Pila * s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* copia(Pila * from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cresci(Pila *s, int increment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inserisci(Pila *s, int k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estrai(Pila *s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stampaStato(Pila *s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90400" y="633240"/>
            <a:ext cx="14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ila.h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EDCE-05B1-4352-AA55-DB6CB3507F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1800" y="1136520"/>
            <a:ext cx="7678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ruct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int *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int estrai(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crea(int initialSize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distruggi(Pila * s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* copia(Pila * from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cresci(Pila *s, int increment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inserisci(Pila *s, int k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// int estrai(Pila *s) ; vecchia vers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stampaStato(Pila *s)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51760" y="152280"/>
            <a:ext cx="341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ila.h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versione 2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1243-419A-4133-8A1A-361008B024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l preprocessor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gisce come un Editor prima che la compilazione iniz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Inclusione di fi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#include &lt;filename&gt;</a:t>
            </a:r>
            <a:r>
              <a:rPr b="0" lang="it-IT" sz="1600" spc="-1" strike="noStrike">
                <a:solidFill>
                  <a:srgbClr val="40458c"/>
                </a:solidFill>
                <a:latin typeface="Monaco"/>
              </a:rPr>
              <a:t>   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cerca in /usr/lib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#include “filename”</a:t>
            </a:r>
            <a:r>
              <a:rPr b="0" lang="it-IT" sz="1600" spc="-1" strike="noStrike">
                <a:solidFill>
                  <a:srgbClr val="40458c"/>
                </a:solidFill>
                <a:latin typeface="Monaco"/>
              </a:rPr>
              <a:t>   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specifica la pathnam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Definizione di costan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#define N 1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for (k=1; k&lt;N ; k++) cout&lt;&lt; k &lt;&lt; eoln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CONSIGLIATO! E’ meglio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const int N=1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BCE3-51FC-4879-B7AE-C559548DDCD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5800" y="644400"/>
            <a:ext cx="469296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estrai(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Pila *s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//estrai l’ultimo val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ut&lt;&lt;"entro in estra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assert(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marker&gt;0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return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ntenuto[--(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marker)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81600" y="1523880"/>
            <a:ext cx="39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e-implementaz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i estrai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0000" y="3505320"/>
            <a:ext cx="5492160" cy="3020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t estrai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//estrai l’ultimo val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ut&lt;&lt;"entro in estra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assert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marker&gt;0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return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contenuto[--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-&gt;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marker)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952200" y="3466800"/>
            <a:ext cx="2057400" cy="2286000"/>
          </a:xfrm>
          <a:custGeom>
            <a:avLst/>
            <a:gdLst>
              <a:gd name="textAreaLeft" fmla="*/ 685800 w 2057400"/>
              <a:gd name="textAreaRight" fmla="*/ 1762200 w 2057400"/>
              <a:gd name="textAreaTop" fmla="*/ 1712880 h 2286000"/>
              <a:gd name="textAreaBottom" fmla="*/ 19580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9283"/>
                </a:moveTo>
                <a:lnTo>
                  <a:pt x="16183" y="19283"/>
                </a:lnTo>
                <a:lnTo>
                  <a:pt x="16183" y="7200"/>
                </a:lnTo>
                <a:lnTo>
                  <a:pt x="13083" y="7200"/>
                </a:lnTo>
                <a:lnTo>
                  <a:pt x="17342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D7F3-20D1-4C4E-9911-D0E5EB52C2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3400" y="1676520"/>
            <a:ext cx="78616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main(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s=crea(5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stampaStato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10;k++) inserisci(s,k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s"; stampaStato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* w = copia(s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w"; stampaStato(w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1; k&lt;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8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;k++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6f89f7"/>
                </a:solidFill>
                <a:latin typeface="Courier New"/>
              </a:rPr>
              <a:t>//c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out&lt;&lt;estrai(s)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c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out&lt;&lt;s-&gt;estrai()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5080" y="76320"/>
            <a:ext cx="39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e-implementaz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el mai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22E2-74E8-4DC9-A16F-4C3138FBD4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l preprocessor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Compilazione condizion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#define DEBU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#ifndef DEBU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cout &lt;&lt; “VERSIONE UFFICIALE”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#el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cout &lt;&lt; “VERSIONE DI PROVA”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cout &lt;&lt; i &lt;&lt;eoln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f89f7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5FD8-6EB4-4E57-B7D3-27D6C137A8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l nostro esempio guida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La costruzione di uno stack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EEBD-67BB-443F-94D9-BB00A28C9B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6280" y="1244520"/>
            <a:ext cx="4569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#include &lt;cassert&g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#define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truct Pila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defaultGrowth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marker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int *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contenuto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819520"/>
            <a:ext cx="68580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81952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548640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3581280"/>
            <a:ext cx="68580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396252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434340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4724280"/>
            <a:ext cx="68580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105520"/>
            <a:ext cx="68580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1911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9625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ark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0481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91680" y="28195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2286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ntenu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54864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510552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47242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434340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92B4-4EFD-489A-AA12-BDE3146737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29440" y="1469880"/>
            <a:ext cx="694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crea(int initialSize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//crea una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entro in crea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2b2b2"/>
                </a:solidFill>
                <a:latin typeface="Courier New"/>
              </a:rPr>
              <a:t>#endif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Pila  * s= new Pila 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defaultGrowthSize=initialSize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marker=0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 contenuto=new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int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[initialSize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1546-7F7A-48DD-B708-4AB89E6886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74440" y="1482840"/>
            <a:ext cx="6215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distruggi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(Pila * s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//distruggi lo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entro in destroy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delete [](s-&gt;contenuto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delete s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D651-83D8-4FF6-BD65-193AE6216F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10440" y="1409760"/>
            <a:ext cx="6764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cresci(Pila *s, int increment)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//aumenta la dimensione dello Pil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entro in cresc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size+=increment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nt * temp=new int[s-&gt;size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for (int k=0; k&lt;s-&gt;marker;k++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emp[k]=s-&gt;contenuto[k]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Courier New"/>
              </a:rPr>
              <a:t>delete [](s-&gt;contenuto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contenuto=temp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8FA6-BE81-4020-B215-F93FF99645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87560" y="1251000"/>
            <a:ext cx="6764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void inserisci(Pila *s, int k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//inserisci un nuovo val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out&lt;&lt;"entro in inserisci"&lt;&lt;endl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#endif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if (s-&gt;size==s-&gt;marker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cresci(s,s-&gt;defaultGrowthSize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contenuto[s-&gt;marker]=k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s-&gt;marker++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8118-EBCB-4077-BA0F-D7AC644C88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o Ronchetti</cp:lastModifiedBy>
  <dcterms:modified xsi:type="dcterms:W3CDTF">2003-02-21T13:37:05Z</dcterms:modified>
  <cp:revision>36</cp:revision>
  <dc:subject/>
  <dc:title>Presentazione di PowerPoint</dc:title>
</cp:coreProperties>
</file>