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907588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260-2DC6-4F6C-B722-8B21F631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71F-7545-4BEC-95AF-385BAD45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F72-E612-45A5-A3DF-4C6ECD86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0008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6960" y="137160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35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0008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36960" y="3958560"/>
            <a:ext cx="27964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FFB-2408-4C7C-BD30-D3F73F42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BAE-990E-4014-8F05-AFC7C7E1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1DA-EC26-4D69-AB80-6D069589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DA5-AD1F-4CC6-8DA3-00ED87B5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29B-2C14-4AEC-ADD2-6027EDFD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68560" y="456840"/>
            <a:ext cx="7518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A5F-4488-4DE7-9D72-1B48B46B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BBA-EEA3-4FF1-98BC-CD3B8B40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14240" y="395856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59D-BD11-4720-BFAE-DDAF4868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68560" y="379800"/>
            <a:ext cx="75182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14240" y="1371600"/>
            <a:ext cx="4238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560" y="3958560"/>
            <a:ext cx="8685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608-23F3-40DA-A758-1DD019FD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829F4C-A806-49B4-8813-F5D7EEEA0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1181160"/>
            <a:ext cx="76320" cy="53341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304920"/>
            <a:ext cx="9677160" cy="7596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67280"/>
            <a:ext cx="68580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2280" y="1301760"/>
            <a:ext cx="8902440" cy="5092560"/>
          </a:xfrm>
          <a:prstGeom prst="rect">
            <a:avLst/>
          </a:prstGeom>
          <a:noFill/>
          <a:ln w="12600">
            <a:solidFill>
              <a:srgbClr val="676767"/>
            </a:solidFill>
            <a:miter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143000"/>
            <a:ext cx="9677160" cy="763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cecece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46080" indent="-46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"/>
          <p:cNvSpPr/>
          <p:nvPr/>
        </p:nvSpPr>
        <p:spPr>
          <a:xfrm>
            <a:off x="306360" y="29520"/>
            <a:ext cx="6858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E9EC-EA8D-4FE8-982F-A175D93A16BF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8798040" y="42840"/>
            <a:ext cx="955440" cy="12524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 rot="16200000">
            <a:off x="-1996560" y="3344760"/>
            <a:ext cx="448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Fac.Scienze – Università di Tr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415880" y="47520"/>
            <a:ext cx="711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Book Antiqua"/>
              </a:rPr>
              <a:t>Programmazione 2   -  Marco Ronche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 txBox="1"/>
          <p:nvPr/>
        </p:nvSpPr>
        <p:spPr>
          <a:xfrm>
            <a:off x="8915400" y="228600"/>
            <a:ext cx="76212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r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ava.sun.com/docs/books/tutorial/?frontpage-spotlight" TargetMode="External"/><Relationship Id="rId2" Type="http://schemas.openxmlformats.org/officeDocument/2006/relationships/hyperlink" Target="http://java.sun.com/docs/books/tutorial/?frontpage-spotlight" TargetMode="External"/><Relationship Id="rId3" Type="http://schemas.openxmlformats.org/officeDocument/2006/relationships/hyperlink" Target="http://java.sun.com/docs/books/tutorial/?frontpage-spotlight" TargetMode="External"/><Relationship Id="rId4" Type="http://schemas.openxmlformats.org/officeDocument/2006/relationships/hyperlink" Target="http://java.sun.com/docs/books/tutorial/?frontpage-spotlight" TargetMode="External"/><Relationship Id="rId5" Type="http://schemas.openxmlformats.org/officeDocument/2006/relationships/hyperlink" Target="http://java.sun.com/docs/books/tutorial/?frontpage-spotlight" TargetMode="External"/><Relationship Id="rId6" Type="http://schemas.openxmlformats.org/officeDocument/2006/relationships/hyperlink" Target="http://java.sun.com/docs/books/tutorial/?frontpage-spotlight" TargetMode="External"/><Relationship Id="rId7" Type="http://schemas.openxmlformats.org/officeDocument/2006/relationships/hyperlink" Target="http://java.sun.com/docs/books/tutorial/?frontpage-spotlight" TargetMode="External"/><Relationship Id="rId8" Type="http://schemas.openxmlformats.org/officeDocument/2006/relationships/hyperlink" Target="http://java.sun.com/docs/books/tutorial/?frontpage-spotlight" TargetMode="External"/><Relationship Id="rId9" Type="http://schemas.openxmlformats.org/officeDocument/2006/relationships/hyperlink" Target="http://java.sun.com/docs/books/tutorial/?frontpage-spotlight" TargetMode="External"/><Relationship Id="rId10" Type="http://schemas.openxmlformats.org/officeDocument/2006/relationships/hyperlink" Target="http://java.sun.com/docs/books/tutorial/?frontpage-spotlight" TargetMode="External"/><Relationship Id="rId11" Type="http://schemas.openxmlformats.org/officeDocument/2006/relationships/hyperlink" Target="http://java.sun.com/docs/books/tutorial/?frontpage-spotlight" TargetMode="External"/><Relationship Id="rId12" Type="http://schemas.openxmlformats.org/officeDocument/2006/relationships/hyperlink" Target="http://java.sun.com/docs/books/tutorial/?frontpage-spotlight" TargetMode="Externa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hrantic.com/scoop/onjava.html" TargetMode="External"/><Relationship Id="rId2" Type="http://schemas.openxmlformats.org/officeDocument/2006/relationships/hyperlink" Target="http://www.phrantic.com/scoop/onjava.html" TargetMode="External"/><Relationship Id="rId3" Type="http://schemas.openxmlformats.org/officeDocument/2006/relationships/hyperlink" Target="http://www.phrantic.com/scoop/onjava.html" TargetMode="External"/><Relationship Id="rId4" Type="http://schemas.openxmlformats.org/officeDocument/2006/relationships/hyperlink" Target="http://www.phrantic.com/scoop/onjava.html" TargetMode="External"/><Relationship Id="rId5" Type="http://schemas.openxmlformats.org/officeDocument/2006/relationships/hyperlink" Target="http://www.phrantic.com/scoop/onjava.html" TargetMode="External"/><Relationship Id="rId6" Type="http://schemas.openxmlformats.org/officeDocument/2006/relationships/hyperlink" Target="http://www.phrantic.com/scoop/onjava.html" TargetMode="External"/><Relationship Id="rId7" Type="http://schemas.openxmlformats.org/officeDocument/2006/relationships/hyperlink" Target="http://www.phrantic.com/scoop/onjava.html" TargetMode="External"/><Relationship Id="rId8" Type="http://schemas.openxmlformats.org/officeDocument/2006/relationships/hyperlink" Target="http://www.phrantic.com/scoop/onjava.html" TargetMode="External"/><Relationship Id="rId9" Type="http://schemas.openxmlformats.org/officeDocument/2006/relationships/hyperlink" Target="http://www.mokabyte.it/" TargetMode="External"/><Relationship Id="rId10" Type="http://schemas.openxmlformats.org/officeDocument/2006/relationships/hyperlink" Target="http://www.mokabyte.it/" TargetMode="External"/><Relationship Id="rId11" Type="http://schemas.openxmlformats.org/officeDocument/2006/relationships/hyperlink" Target="http://www.mokabyte.it/" TargetMode="External"/><Relationship Id="rId12" Type="http://schemas.openxmlformats.org/officeDocument/2006/relationships/hyperlink" Target="http://www.mokabyte.it/" TargetMode="External"/><Relationship Id="rId13" Type="http://schemas.openxmlformats.org/officeDocument/2006/relationships/hyperlink" Target="http://www.mokabyte.it/" TargetMode="External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y Java? A safer languag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2014560"/>
            <a:ext cx="854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0" i="1" lang="en-US" sz="3600" spc="-1" strike="noStrike">
                <a:solidFill>
                  <a:srgbClr val="000000"/>
                </a:solidFill>
                <a:latin typeface="Book Antiqua"/>
              </a:rPr>
              <a:t>clean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object-oriented programming language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No pointer arithmetic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utomatic Memory Management (Garbage Collection)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utomatic array and string bounds check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Un buon libro…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523880"/>
            <a:ext cx="6858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tis in forma elettron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nking in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ruce Ec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In Italia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ing in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ce Ec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d. Apog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in libr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84240" y="3200400"/>
            <a:ext cx="43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ttp://www.mindview.net/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23560" y="428400"/>
            <a:ext cx="760716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Java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 Platform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046160"/>
            <a:ext cx="907092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81280" y="1371600"/>
            <a:ext cx="6987960" cy="4984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12680" y="2011320"/>
            <a:ext cx="12582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08200" y="3084480"/>
            <a:ext cx="16668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06320" y="4308480"/>
            <a:ext cx="187092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v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9840" y="2725560"/>
            <a:ext cx="149112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v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erce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72160" y="3768840"/>
            <a:ext cx="1370880" cy="3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vaBe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22080" y="4594320"/>
            <a:ext cx="121392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v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53560" y="5273640"/>
            <a:ext cx="157680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v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29440" y="2725560"/>
            <a:ext cx="82836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v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46200" y="3768840"/>
            <a:ext cx="1591920" cy="3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va Server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25160" y="4594320"/>
            <a:ext cx="1310040" cy="5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v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fferenze tra Java e C++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236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(Java == ((C++)- -)++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Forma di un programm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617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Java tutto e’ una “class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o scheletro minimo di un programma e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port &lt;= Include “intelligent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senza bisogno di #ifd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c’è precompilato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362320"/>
            <a:ext cx="5715000" cy="180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mpor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..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myProgram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stat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 (String args[]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Nom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programmi Java includono nomi per identificare alcune entità di programm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packages, classes, interfaces, methods, variables, statemen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mi validi sono composti da un numero illimitato di lettere e numeri </a:t>
            </a:r>
            <a:r>
              <a:rPr b="0" lang="it-IT" sz="2800" spc="-1" strike="noStrike">
                <a:solidFill>
                  <a:srgbClr val="000099"/>
                </a:solidFill>
                <a:latin typeface="Arial"/>
              </a:rPr>
              <a:t>UNICOD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iniziare con una lettera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nomi non possone essere Java keywor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Keyword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keywords usate attualmente sono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abstract 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boolean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break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byte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case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 catch 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char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class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continue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default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do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double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else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extends  final  finally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float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for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generic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if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 implements   import   instanceof 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int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 interface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long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native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new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null  package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private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protected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public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return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short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static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super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switch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synchronized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this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  throw  throws  transient  try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void</a:t>
            </a:r>
            <a:r>
              <a:rPr b="0" lang="it-IT" sz="32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3366ff"/>
                </a:solidFill>
                <a:latin typeface="Arial"/>
              </a:rPr>
              <a:t>volatile  </a:t>
            </a:r>
            <a:r>
              <a:rPr b="0" lang="it-IT" sz="2400" spc="-1" strike="noStrike">
                <a:solidFill>
                  <a:srgbClr val="cc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ltre a queste, alcune keywords sono riservate per usi futur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ff"/>
                </a:solidFill>
                <a:latin typeface="Times New Roman"/>
              </a:rPr>
              <a:t>by value  cast  const  future  generic  goto  inner  operator outer  rest  va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Comment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617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forme di comm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/</a:t>
            </a: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* C styl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/* Questo tipo di com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ò proseguire su pi line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/* NOTA: ATTENZIONE AI /*COMMENTI*/ NIDIFICATI!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// C++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// Una intera riga comm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=a+3; // Commento su una linea di cod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Courier New"/>
              </a:rPr>
              <a:t>/**documenta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/**Stile di commento usato da JAVA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er la generazione automatica di documentazion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Tipi di dato primitivi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"/>
          <p:cNvSpPr/>
          <p:nvPr/>
        </p:nvSpPr>
        <p:spPr>
          <a:xfrm>
            <a:off x="763560" y="1371600"/>
            <a:ext cx="8410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Type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tains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fault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AU" sz="2000" spc="-1" strike="noStrike" u="sng">
                <a:solidFill>
                  <a:srgbClr val="cc0000"/>
                </a:solidFill>
                <a:uFillTx/>
                <a:latin typeface="Times New Roman"/>
              </a:rPr>
              <a:t>Size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n/Max Value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cc0000"/>
                </a:solidFill>
                <a:latin typeface="Times New Roman"/>
              </a:rPr>
              <a:t>boolean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cc0000"/>
                </a:solidFill>
                <a:latin typeface="Times New Roman"/>
              </a:rPr>
              <a:t>1 bit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N.A. / N.A.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cc0000"/>
                </a:solidFill>
                <a:latin typeface="Times New Roman"/>
              </a:rPr>
              <a:t>Unicode char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\u0000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cc0000"/>
                </a:solidFill>
                <a:latin typeface="Times New Roman"/>
              </a:rPr>
              <a:t>16 bits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\u0000 / \uFFFF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Byte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igned integer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8 bits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128 / 127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hort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igned integer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16 bits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32768 / 32767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igned integer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32 bits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2147483648 / 2147483647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igned integer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64 bits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9223372036854775808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92233720368547758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EEE 754 f.p.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0.0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32 bits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+/-3.40282347E+38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+/-1.40239846E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EEE 754 f.p.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0.0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64 bits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+/-1.79769313486231570E+308 /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+/-4.94065645841246544E-324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12952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12952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12952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12952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Unico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Java characters, strings, and identifiers are composed of 16-bit Unicode characters. This makes Java programs relatively easy to internationalize for non-English-speaking users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Most platforms cannot display all 38,885 currently defined Unicode character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The Unicode character set is compatible with ASCII and the first 256 characters (0x0000 to 0x00FF) are identical to the ISO8859-1 (Latin-1) characters 0x00 to 0xFF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Unicode \u escape sequences are processed before the other escape character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Literals (costanti)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3560" y="121932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617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inter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sempre int, long se ser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808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777 ottale     0xFF esadecimale     77L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real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808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.4 1.04E01 double        10.4F  1.04E01F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808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ue      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caratt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808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utte le escape sequences del C sono riconosciute (\n   \t   \’   \”  \\ 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code: \u0022 has exactly the same meaning to the compiler as "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3" marL="617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imes New Roman"/>
              </a:rPr>
              <a:t>string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808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esta e’ una string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7720" y="549000"/>
            <a:ext cx="8661600" cy="43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the first universal software platform”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280" y="1351080"/>
            <a:ext cx="907092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6840" indent="0">
              <a:spcBef>
                <a:spcPts val="7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nsists of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96840" indent="0">
              <a:spcBef>
                <a:spcPts val="7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languag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96840" indent="0">
              <a:spcBef>
                <a:spcPts val="7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Virtual Machin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96840" indent="0">
              <a:spcBef>
                <a:spcPts val="7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Many) class libraries and API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96840" indent="0" algn="ctr">
              <a:spcBef>
                <a:spcPts val="7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96840" indent="0" algn="ctr">
              <a:spcBef>
                <a:spcPts val="7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96840" indent="0" algn="ctr">
              <a:spcBef>
                <a:spcPts val="799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ava: the platform for </a:t>
            </a:r>
            <a:r>
              <a:rPr b="1" lang="en-US" sz="3200" spc="-1" strike="noStrike">
                <a:solidFill>
                  <a:srgbClr val="ff6699"/>
                </a:solidFill>
                <a:latin typeface="Book Antiqua"/>
              </a:rPr>
              <a:t>“Internet Computing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96840" indent="0" algn="ctr">
              <a:spcBef>
                <a:spcPts val="700"/>
              </a:spcBef>
              <a:buNone/>
              <a:tabLst>
                <a:tab algn="l" pos="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ardware independent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alable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"/>
          <p:cNvSpPr/>
          <p:nvPr/>
        </p:nvSpPr>
        <p:spPr>
          <a:xfrm rot="19495200">
            <a:off x="3208680" y="18511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as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9495200">
            <a:off x="4671360" y="18504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You don’t ca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9495200">
            <a:off x="6321960" y="2400120"/>
            <a:ext cx="19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hat’s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fficult par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String Literal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1523880"/>
            <a:ext cx="838224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s in Java are not a primitive type, but are instances of the String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owever, because they are so commonly used, string literals may appear between quotes in Java programs, just as they do in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ppo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When the compiler encounters such a string literal, it automatically creates the necessary String obj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Operator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61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149640"/>
                <a:tab algn="l" pos="6299280"/>
                <a:tab algn="l" pos="944892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Gruppo</a:t>
            </a: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Funzione</a:t>
            </a: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Operato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6299280"/>
                <a:tab algn="l" pos="944892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Arithmeti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parazio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 =, !=, &lt;, &lt;=, &gt;, &gt;=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tar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, 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gebric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, -, *, /, %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stfiss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+, --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6299280"/>
                <a:tab algn="l" pos="944892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Bi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&lt;&lt;, &gt;&gt;, &gt;&gt;&gt;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itwise compariso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~, &amp;, |, ^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6299280"/>
                <a:tab algn="l" pos="944892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Boolea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lational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 =, !=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ogic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!, &amp;, |, ^, &amp;&amp;, ||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6299280"/>
                <a:tab algn="l" pos="944892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Strin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catenazio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Operator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3560" y="1294920"/>
            <a:ext cx="86853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149640"/>
                <a:tab algn="l" pos="6299280"/>
                <a:tab algn="l" pos="9448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Since Java does not allow you to manipulate pointers directly, it does not support the reference and dereference operators *, -&gt;, and &amp;, nor the sizeof operator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149640"/>
                <a:tab algn="l" pos="6299280"/>
                <a:tab algn="l" pos="94489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149640"/>
                <a:tab algn="l" pos="6299280"/>
                <a:tab algn="l" pos="9448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Java also adds some new operators: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149640"/>
                <a:tab algn="l" pos="6299280"/>
                <a:tab algn="l" pos="9448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The + operator applied to String values concatenates them. If only one operand of + is a String, the other one is converted to a string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149640"/>
                <a:tab algn="l" pos="6299280"/>
                <a:tab algn="l" pos="944892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Book Antiqua"/>
              </a:rPr>
              <a:t>Java does not support operator overloading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--the language designers decided (after much debate) that overloaded operators were a neat idea, but that code that relied on them became hard to read and understand.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Operatori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149640"/>
                <a:tab algn="l" pos="6299280"/>
                <a:tab algn="l" pos="9448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it-IT" sz="2400" spc="-1" strike="noStrike">
                <a:solidFill>
                  <a:srgbClr val="cc0000"/>
                </a:solidFill>
                <a:latin typeface="Book Antiqua"/>
              </a:rPr>
              <a:t>instanceof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operator returns true if the object o on its left-hand side is an instance of the class C or implements the interface I specified on its right-hand side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149640"/>
                <a:tab algn="l" pos="6299280"/>
                <a:tab algn="l" pos="9448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It also returns true if o is an instance of a subclass of C or is an instance of a subclass of some class that implements I. instanceof returns false if o is not an instance of C or does not implement I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149640"/>
                <a:tab algn="l" pos="6299280"/>
                <a:tab algn="l" pos="9448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It also returns false if the value on its left is null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149640"/>
                <a:tab algn="l" pos="6299280"/>
                <a:tab algn="l" pos="9448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If instanceof returns true, it means that o is assignable to variables of type C or I. The instanceof operator has the same precedence as the &lt;, &lt;=, &gt;, and &gt;= operators.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149640"/>
                <a:tab algn="l" pos="6299280"/>
                <a:tab algn="l" pos="944892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Tipi di dato derivati (reference data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61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Java, come tutti i linguaggi OO, permette di definire </a:t>
            </a:r>
            <a:r>
              <a:rPr b="0" lang="it-IT" sz="2400" spc="-1" strike="noStrike">
                <a:solidFill>
                  <a:srgbClr val="cc0000"/>
                </a:solidFill>
                <a:latin typeface="Book Antiqua"/>
              </a:rPr>
              <a:t>NUOVI TIPI DI DATO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(class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Alcuni tipi di dato (classi) sono predefin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ad esempio le stringhe.  (</a:t>
            </a:r>
            <a:r>
              <a:rPr b="0" lang="it-IT" sz="2400" spc="-1" strike="noStrike">
                <a:solidFill>
                  <a:srgbClr val="cc0000"/>
                </a:solidFill>
                <a:latin typeface="Book Antiqua"/>
              </a:rPr>
              <a:t>String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 punto = new Point(10,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 Structures or U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Java does not support C struct or union types. Note, however, that a class is essentially the same thing as a struct, but with more features. And you can simulate the important features of a union by subclassing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3200400"/>
            <a:ext cx="914400" cy="457200"/>
          </a:xfrm>
          <a:prstGeom prst="wedgeRoundRectCallout">
            <a:avLst>
              <a:gd name="adj1" fmla="val 61981"/>
              <a:gd name="adj2" fmla="val 139583"/>
              <a:gd name="adj3" fmla="val 16667"/>
            </a:avLst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1981080" cy="381240"/>
          </a:xfrm>
          <a:prstGeom prst="wedgeRoundRectCallout">
            <a:avLst>
              <a:gd name="adj1" fmla="val 21953"/>
              <a:gd name="adj2" fmla="val 144166"/>
              <a:gd name="adj3" fmla="val 16667"/>
            </a:avLst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dentific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200400"/>
            <a:ext cx="1752480" cy="380880"/>
          </a:xfrm>
          <a:prstGeom prst="wedgeRoundRectCallout">
            <a:avLst>
              <a:gd name="adj1" fmla="val -91393"/>
              <a:gd name="adj2" fmla="val 161249"/>
              <a:gd name="adj3" fmla="val 16667"/>
            </a:avLst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trut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048120"/>
            <a:ext cx="2286000" cy="685800"/>
          </a:xfrm>
          <a:prstGeom prst="wedgeRoundRectCallout">
            <a:avLst>
              <a:gd name="adj1" fmla="val -25555"/>
              <a:gd name="adj2" fmla="val 93055"/>
              <a:gd name="adj3" fmla="val 16667"/>
            </a:avLst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per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cre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Java non ha i puntatori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617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Ma è v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 punto = new Point(10,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l’identificatore di un oggetto (“punto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sembra proprio un puntato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Quel che Java non ha 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Book Antiqua"/>
              </a:rPr>
              <a:t>l’aritmetica dei punt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Confronto dell’operatore new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3" marL="598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598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 C++:  Point </a:t>
            </a: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unto = new Point(10,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5986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598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 Java:  Point  punto = new Point(10,10);</a:t>
            </a: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598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598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punto.x di Java       equivale a     punto-&gt;x del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598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598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In  Java gli oggetti sono accessibil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598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SOLO per refer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598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98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emory managemen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a gestione (dinamica) della memoria e’ automatica, tramite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-446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a creazione (operatore new ) e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-446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a distruzione (garbage collection) di oggetti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C interviene quando serve memori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C elimina gli oggetti per i quali non vi sono piu’ riferimenti attivi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C puo’ essere attivato su richiesta esplicita:    System.gc(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emory managemen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erazioni da eseguirsi alla nascita di un oggetto vanno definite nel metodo “costruttore”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gni classe deve avere uno (o piu’)  costruttori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perazioni da associarsi con l’eliminazione di un oggetto possono essere definite nel metodo “distruttore” </a:t>
            </a:r>
            <a:r>
              <a:rPr b="0" lang="en-US" sz="2400" spc="-1" strike="noStrike">
                <a:solidFill>
                  <a:srgbClr val="cc0000"/>
                </a:solidFill>
                <a:latin typeface="Book Antiqua"/>
              </a:rPr>
              <a:t>finalize(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opzionale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E’ possibile definire arrays di tutti i tipi di dati (elementari o classi). In fase di DEFINIZIONE non e’ necessario specificare la dimensione del vettor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Solo al momento della ALLOCAZIONE viene richiesto lo spazio desiderat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4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String[ ] strings; // this variable can refer to any String arra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strings = new String[10];   // one that contains 10 String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strings = new String[20];   // or one that contains 20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53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float f[ ][ ] = new float[5][3]; //array bidimensiona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char s[]={'+','-','*','/','=','C'}; // array inizializzato in creazion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23560" y="428400"/>
            <a:ext cx="760716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Facilità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280" y="1477440"/>
            <a:ext cx="907092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Java è basato sul C, come il C++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-46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Java </a:t>
            </a:r>
            <a:r>
              <a:rPr b="1" lang="it-IT" sz="2400" spc="-1" strike="noStrike">
                <a:solidFill>
                  <a:srgbClr val="cc0000"/>
                </a:solidFill>
                <a:latin typeface="Book Antiqua"/>
              </a:rPr>
              <a:t>TOGLIE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al C alcune caratteristiche difficili e pericolose (</a:t>
            </a:r>
            <a:r>
              <a:rPr b="0" lang="it-IT" sz="2400" spc="-1" strike="noStrike">
                <a:solidFill>
                  <a:srgbClr val="000099"/>
                </a:solidFill>
                <a:latin typeface="Book Antiqua"/>
              </a:rPr>
              <a:t>puntatori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-46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Java </a:t>
            </a:r>
            <a:r>
              <a:rPr b="1" lang="it-IT" sz="2400" spc="-1" strike="noStrike">
                <a:solidFill>
                  <a:srgbClr val="cc0000"/>
                </a:solidFill>
                <a:latin typeface="Book Antiqua"/>
              </a:rPr>
              <a:t>AGGIUNGE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al C le caratteristiche di un linguaggio object-oriented (</a:t>
            </a:r>
            <a:r>
              <a:rPr b="0" lang="it-IT" sz="2400" spc="-1" strike="noStrike">
                <a:solidFill>
                  <a:srgbClr val="000099"/>
                </a:solidFill>
                <a:latin typeface="Book Antiqua"/>
              </a:rPr>
              <a:t>classi, ereditarietà, messaggi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-46080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Java </a:t>
            </a:r>
            <a:r>
              <a:rPr b="1" lang="it-IT" sz="2400" spc="-1" strike="noStrike">
                <a:solidFill>
                  <a:srgbClr val="cc0000"/>
                </a:solidFill>
                <a:latin typeface="Book Antiqua"/>
              </a:rPr>
              <a:t>INTRODUCE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una gerarchia di classi predefinite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2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AWT, IO, Lang(tipi, Math, Thread), Exeptions, N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Utils(Vector, Dictionary, Dat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23560" y="428400"/>
            <a:ext cx="760716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Robustezz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401840"/>
            <a:ext cx="8724960" cy="492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La maggior parte degli errori sono legati alla gestione della memoria tramite i </a:t>
            </a:r>
            <a:r>
              <a:rPr b="1" lang="it-IT" sz="2400" spc="-1" strike="noStrike">
                <a:solidFill>
                  <a:srgbClr val="cc0000"/>
                </a:solidFill>
                <a:latin typeface="Book Antiqua"/>
              </a:rPr>
              <a:t>PUNTATORI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-46080" algn="ctr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untatori che puntano a locazioni illecite (non allocate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-46080" algn="ctr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untatori che puntano a locazioni lecite ma sbaglia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-46080" algn="ctr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indirizzi di vettori sbagliat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-46080" algn="ctr"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memoria allocata e non più rilasciata (memory leaks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Soluzione di Java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-46080" algn="ctr">
              <a:spcBef>
                <a:spcPts val="601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Book Antiqua"/>
              </a:rPr>
              <a:t>ABOLIZIONE DEI PUNTATOR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-46080" algn="ctr">
              <a:spcBef>
                <a:spcPts val="601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Book Antiqua"/>
              </a:rPr>
              <a:t>GARBAGE COLLECTI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Java ha: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61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ccezioni (Ada, C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arbage Collection (LISP, Smalltal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ibreria di classi (da Smalltalk, Objective-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Le specifiche del linguaggio e della Java Virtual Machine sono PUBBLIC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Book Antiqua"/>
              </a:rPr>
              <a:t>Storia di Java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560" y="1371600"/>
            <a:ext cx="8685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61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zio anni 90: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Java nasce come “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a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rget: 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intelligent consumer electro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ccessivamente, nuovo target: 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set top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994: linguaggio per la 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Web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lient s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6: la prospettiv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network computing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gg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2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Device-independent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174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Web on the server side (Servlets, JSP, EJB, XML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2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pet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42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9900"/>
                </a:solidFill>
                <a:latin typeface="Times New Roman"/>
              </a:rPr>
              <a:t>intelligent consumer electronics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+ smart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2971800"/>
            <a:ext cx="1752480" cy="99072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12384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1523880"/>
            <a:ext cx="1752480" cy="990720"/>
          </a:xfrm>
          <a:custGeom>
            <a:avLst/>
            <a:gdLst>
              <a:gd name="textAreaLeft" fmla="*/ 438120 w 1752480"/>
              <a:gd name="textAreaRight" fmla="*/ 1314360 w 1752480"/>
              <a:gd name="textAreaTop" fmla="*/ 12384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590920"/>
            <a:ext cx="876276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23560" y="428400"/>
            <a:ext cx="760716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Evolution of the Java Platform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046160"/>
            <a:ext cx="907092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4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"/>
          <p:cNvSpPr/>
          <p:nvPr/>
        </p:nvSpPr>
        <p:spPr>
          <a:xfrm>
            <a:off x="2788920" y="1994040"/>
            <a:ext cx="290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2 Platform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andard Ed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2760" y="2921040"/>
            <a:ext cx="380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2 SDK,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andard Edition, v1.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78120" y="4213080"/>
            <a:ext cx="4763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1" lang="en-US" sz="26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Runtime Environment, Standard Edition, v 1.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7478640" cy="4457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023560" y="1459080"/>
            <a:ext cx="148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JDK 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39960" y="2209680"/>
            <a:ext cx="2057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95720" y="2209680"/>
            <a:ext cx="20480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bas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ss (JDBC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nen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l (Be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nti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64880" y="2185920"/>
            <a:ext cx="19130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31520" y="1459080"/>
            <a:ext cx="148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JDK 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60080" y="1459080"/>
            <a:ext cx="1270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Jav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77040" y="576576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nterprise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50520" y="5850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98840" y="5850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The” Tutorials and example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"/>
          <p:cNvSpPr/>
          <p:nvPr/>
        </p:nvSpPr>
        <p:spPr>
          <a:xfrm>
            <a:off x="916920" y="1295280"/>
            <a:ext cx="81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1"/>
              </a:rPr>
              <a:t>http://java.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2"/>
              </a:rPr>
              <a:t>sun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3"/>
              </a:rPr>
              <a:t>.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4"/>
              </a:rPr>
              <a:t>com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5"/>
              </a:rPr>
              <a:t>/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6"/>
              </a:rPr>
              <a:t>docs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7"/>
              </a:rPr>
              <a:t>/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8"/>
              </a:rPr>
              <a:t>books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9"/>
              </a:rPr>
              <a:t>/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10"/>
              </a:rPr>
              <a:t>tutorial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11"/>
              </a:rPr>
              <a:t>/?frontpage-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12"/>
              </a:rPr>
              <a:t>spot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3"/>
          <a:stretch/>
        </p:blipFill>
        <p:spPr>
          <a:xfrm>
            <a:off x="685800" y="1752480"/>
            <a:ext cx="86853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68560" y="456840"/>
            <a:ext cx="751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ore Tutorials and example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"/>
          <p:cNvSpPr/>
          <p:nvPr/>
        </p:nvSpPr>
        <p:spPr>
          <a:xfrm>
            <a:off x="1966320" y="3200400"/>
            <a:ext cx="597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2"/>
              </a:rPr>
              <a:t>phrantic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3"/>
              </a:rPr>
              <a:t>.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4"/>
              </a:rPr>
              <a:t>com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5"/>
              </a:rPr>
              <a:t>/scoop/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6"/>
              </a:rPr>
              <a:t>onjava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7"/>
              </a:rPr>
              <a:t>.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8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9"/>
              </a:rPr>
              <a:t>http://www.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10"/>
              </a:rPr>
              <a:t>mokabyte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11"/>
              </a:rPr>
              <a:t>.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12"/>
              </a:rPr>
              <a:t>it</a:t>
            </a:r>
            <a:r>
              <a:rPr b="0" lang="it-IT" sz="2400" spc="-1" strike="noStrike" u="sng">
                <a:solidFill>
                  <a:srgbClr val="9c9c9c"/>
                </a:solidFill>
                <a:uFillTx/>
                <a:latin typeface="Arial"/>
                <a:hlinkClick r:id="rId13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2286000" y="1371600"/>
            <a:ext cx="5554800" cy="1703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5"/>
          <a:stretch/>
        </p:blipFill>
        <p:spPr>
          <a:xfrm>
            <a:off x="1800360" y="4437000"/>
            <a:ext cx="6753240" cy="905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6"/>
          <a:stretch/>
        </p:blipFill>
        <p:spPr>
          <a:xfrm>
            <a:off x="6553080" y="4437000"/>
            <a:ext cx="1419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21:27:20Z</dcterms:created>
  <dc:creator>ronchet</dc:creator>
  <dc:description/>
  <dc:language>en-US</dc:language>
  <cp:lastModifiedBy>Marco Ronchetti</cp:lastModifiedBy>
  <cp:lastPrinted>1997-02-12T18:19:55Z</cp:lastPrinted>
  <dcterms:modified xsi:type="dcterms:W3CDTF">2003-02-27T08:43:31Z</dcterms:modified>
  <cp:revision>54</cp:revision>
  <dc:subject/>
  <dc:title>V Corso Sodalia</dc:title>
</cp:coreProperties>
</file>