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907588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4FDF-4ED2-40CE-BC91-3EFF1C0C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63560" y="395856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BCE5-EF2C-4761-8847-031FA17A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1424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0C26-B8B9-4F55-B6AE-F0A0B88B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0008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3696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6356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0008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3696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C88D-F6DD-462A-B91A-55E71C09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679-EA20-4240-94F6-B2CFED68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012-74BC-495C-A3A7-66336C9B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3C67-0211-491E-B032-6BC109DB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94F-0535-47DA-8A3D-A252F022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68560" y="456840"/>
            <a:ext cx="7518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41BC-8C20-4D0A-B918-F3BE53ED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7A0A-84DD-4224-B2DB-F01D9F66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1424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C1F5-335F-47D8-833B-65476D9B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188-B6B4-4DE2-9073-D296978A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1AD858-85F3-4714-8F54-BCF569E20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1181160"/>
            <a:ext cx="76320" cy="53341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304920"/>
            <a:ext cx="9677160" cy="7596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867280"/>
            <a:ext cx="685800" cy="763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2280" y="1301760"/>
            <a:ext cx="8902440" cy="509256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143000"/>
            <a:ext cx="9677160" cy="763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"/>
          <p:cNvSpPr/>
          <p:nvPr/>
        </p:nvSpPr>
        <p:spPr>
          <a:xfrm>
            <a:off x="306360" y="29520"/>
            <a:ext cx="6858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8E4A-C49E-445D-9321-DB51D68107DB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8798040" y="42840"/>
            <a:ext cx="955440" cy="12524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 rot="16200000">
            <a:off x="-1996560" y="3344760"/>
            <a:ext cx="448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 Antiqua"/>
              </a:rPr>
              <a:t>Fac.Scienze – Università di Tr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415880" y="47520"/>
            <a:ext cx="71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 Antiqua"/>
              </a:rPr>
              <a:t>Programmazione 2   -  Marco Ronche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 txBox="1"/>
          <p:nvPr/>
        </p:nvSpPr>
        <p:spPr>
          <a:xfrm>
            <a:off x="8915400" y="228600"/>
            <a:ext cx="762120" cy="7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r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Fondamenti di Jav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Continua..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ass String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49240" y="1308240"/>
          <a:ext cx="8221680" cy="54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1308240"/>
                    <a:ext cx="822168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ass String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49240" y="806400"/>
          <a:ext cx="8207280" cy="586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806400"/>
                    <a:ext cx="820728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31800" y="6165720"/>
            <a:ext cx="358920" cy="432000"/>
          </a:xfrm>
          <a:custGeom>
            <a:avLst/>
            <a:gdLst>
              <a:gd name="textAreaLeft" fmla="*/ 147960 w 358920"/>
              <a:gd name="textAreaRight" fmla="*/ 210960 w 35892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3240" y="4437000"/>
            <a:ext cx="358920" cy="432000"/>
          </a:xfrm>
          <a:custGeom>
            <a:avLst/>
            <a:gdLst>
              <a:gd name="textAreaLeft" fmla="*/ 147960 w 358920"/>
              <a:gd name="textAreaRight" fmla="*/ 210960 w 35892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1800" y="1125360"/>
            <a:ext cx="358920" cy="432000"/>
          </a:xfrm>
          <a:custGeom>
            <a:avLst/>
            <a:gdLst>
              <a:gd name="textAreaLeft" fmla="*/ 147960 w 358920"/>
              <a:gd name="textAreaRight" fmla="*/ 210960 w 35892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1800" y="4869000"/>
            <a:ext cx="358920" cy="431640"/>
          </a:xfrm>
          <a:custGeom>
            <a:avLst/>
            <a:gdLst>
              <a:gd name="textAreaLeft" fmla="*/ 147960 w 358920"/>
              <a:gd name="textAreaRight" fmla="*/ 210960 w 35892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ass String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49240" y="1308240"/>
          <a:ext cx="8221680" cy="54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1308240"/>
                    <a:ext cx="822168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ass String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11240" y="1268280"/>
          <a:ext cx="7974000" cy="55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1240" y="1268280"/>
                    <a:ext cx="7974000" cy="55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er trasformare il contenuto di una stringa in un intero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int Integer.parseInt(String s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er trasformare il contenuto di una stringa in un float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float Float.parseFloat(String s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Parametri di ingresso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64960" y="1412640"/>
            <a:ext cx="6775560" cy="4816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/* sum and average command lines */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lass SumAverage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static void main (String args[])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loat avg = 0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args.length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um += Integer.parseInt(args[i]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ystem.out.println("Sum is: " + sum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ystem.out.println("Average is: "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+ (float)sum / args.length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04640"/>
            <a:ext cx="243828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parametri del main sono inclusi in un vettore di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ubclassing &amp; overriding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04520" y="1287000"/>
            <a:ext cx="5861160" cy="509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int x=0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int y=0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oint(int x,int y)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99"/>
                </a:solidFill>
                <a:latin typeface="Courier New"/>
              </a:rPr>
              <a:t>this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x=x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99"/>
                </a:solidFill>
                <a:latin typeface="Courier New"/>
              </a:rPr>
              <a:t>this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y=y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String 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toString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()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 "("+x+","+y+")"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 a[])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 p=new Point(5,3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"/>
          <p:cNvSpPr/>
          <p:nvPr/>
        </p:nvSpPr>
        <p:spPr>
          <a:xfrm>
            <a:off x="6733080" y="3592440"/>
            <a:ext cx="11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(5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ubclassing &amp; overriding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5800" y="1557360"/>
            <a:ext cx="7232760" cy="4759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class NamedPoint extends Point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NamedPoint(int x,int y,String name)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super(x,y); </a:t>
            </a:r>
            <a:r>
              <a:rPr b="1" lang="it-IT" sz="2000" spc="-1" strike="noStrike">
                <a:solidFill>
                  <a:srgbClr val="000099"/>
                </a:solidFill>
                <a:latin typeface="Courier New"/>
              </a:rPr>
              <a:t>//prima istruzione!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his.name=name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String toString(){ </a:t>
            </a:r>
            <a:r>
              <a:rPr b="1" lang="it-IT" sz="2000" spc="-1" strike="noStrike">
                <a:solidFill>
                  <a:srgbClr val="000099"/>
                </a:solidFill>
                <a:latin typeface="Courier New"/>
              </a:rPr>
              <a:t>//Overriding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 name+" ("+x+","+y+")"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static void main(String a[])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NamedPoint p=new NamedPoint(5,3,"z"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ystem.out.println(p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"/>
          <p:cNvSpPr/>
          <p:nvPr/>
        </p:nvSpPr>
        <p:spPr>
          <a:xfrm>
            <a:off x="8048880" y="2924280"/>
            <a:ext cx="11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z (5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rediterietà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La estensioni possono esser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00"/>
                </a:solidFill>
                <a:latin typeface="Book Antiqua"/>
              </a:rPr>
              <a:t>STRUTTURALI</a:t>
            </a: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(aggiunta di varabili di istanza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e/o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00"/>
                </a:solidFill>
                <a:latin typeface="Book Antiqua"/>
              </a:rPr>
              <a:t>COMPORTAMENTALI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(aggiunta di nuovi metodi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e/o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modifica di metodi esistenti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Unified Modeling Languag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2924280"/>
            <a:ext cx="34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ss C {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ss B extends C {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Esiste una notazione grafica per mostrare le relazioni di ereditarietà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2895480"/>
            <a:ext cx="114300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4038480"/>
            <a:ext cx="114300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038480"/>
            <a:ext cx="114300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5257800"/>
            <a:ext cx="11430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3505320"/>
            <a:ext cx="228600" cy="2286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3"/>
            <a:endCxn id="118" idx="0"/>
          </p:cNvCxnSpPr>
          <p:nvPr/>
        </p:nvCxnSpPr>
        <p:spPr>
          <a:xfrm rot="5400000">
            <a:off x="3009240" y="3352680"/>
            <a:ext cx="305280" cy="1067400"/>
          </a:xfrm>
          <a:prstGeom prst="bentConnector3">
            <a:avLst>
              <a:gd name="adj1" fmla="val 4994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21" idx="3"/>
            <a:endCxn id="119" idx="0"/>
          </p:cNvCxnSpPr>
          <p:nvPr/>
        </p:nvCxnSpPr>
        <p:spPr>
          <a:xfrm flipH="1" rot="16200000">
            <a:off x="3962520" y="3466800"/>
            <a:ext cx="305280" cy="838800"/>
          </a:xfrm>
          <a:prstGeom prst="bentConnector3">
            <a:avLst>
              <a:gd name="adj1" fmla="val 4994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4419720" y="4648320"/>
            <a:ext cx="228600" cy="2286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4" idx="3"/>
            <a:endCxn id="120" idx="0"/>
          </p:cNvCxnSpPr>
          <p:nvPr/>
        </p:nvCxnSpPr>
        <p:spPr>
          <a:xfrm>
            <a:off x="4533480" y="4876920"/>
            <a:ext cx="1080" cy="3816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5778360" y="4764240"/>
            <a:ext cx="34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Tutte le classi eredita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da Objec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onvenzioni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I nomi delle </a:t>
            </a:r>
            <a:r>
              <a:rPr b="0" lang="it-IT" sz="3200" spc="-1" strike="noStrike">
                <a:solidFill>
                  <a:srgbClr val="cc0000"/>
                </a:solidFill>
                <a:latin typeface="Book Antiqua"/>
              </a:rPr>
              <a:t>Classi</a:t>
            </a: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 iniziano con la MAIUSCOL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I nomi degli </a:t>
            </a:r>
            <a:r>
              <a:rPr b="0" lang="it-IT" sz="3200" spc="-1" strike="noStrike">
                <a:solidFill>
                  <a:srgbClr val="3366ff"/>
                </a:solidFill>
                <a:latin typeface="Book Antiqua"/>
              </a:rPr>
              <a:t>Oggetti</a:t>
            </a: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 iniziano con l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MINUSCOL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00"/>
                </a:solidFill>
                <a:latin typeface="Book Antiqua"/>
              </a:rPr>
              <a:t>Pila</a:t>
            </a: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3200" spc="-1" strike="noStrike">
                <a:solidFill>
                  <a:srgbClr val="3366ff"/>
                </a:solidFill>
                <a:latin typeface="Book Antiqua"/>
              </a:rPr>
              <a:t>p</a:t>
            </a: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=new </a:t>
            </a:r>
            <a:r>
              <a:rPr b="0" lang="it-IT" sz="3200" spc="-1" strike="noStrike">
                <a:solidFill>
                  <a:srgbClr val="cc0000"/>
                </a:solidFill>
                <a:latin typeface="Book Antiqua"/>
              </a:rPr>
              <a:t>Pila</a:t>
            </a: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();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assaggio di parametri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Le variabili dei </a:t>
            </a:r>
            <a:r>
              <a:rPr b="0" lang="it-IT" sz="3200" spc="-1" strike="noStrike">
                <a:solidFill>
                  <a:srgbClr val="3366ff"/>
                </a:solidFill>
                <a:latin typeface="Book Antiqua"/>
              </a:rPr>
              <a:t>tipi di dati primitivi</a:t>
            </a: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 sono sempre passati per </a:t>
            </a:r>
            <a:r>
              <a:rPr b="0" lang="it-IT" sz="3200" spc="-1" strike="noStrike">
                <a:solidFill>
                  <a:srgbClr val="3366ff"/>
                </a:solidFill>
                <a:latin typeface="Book Antiqua"/>
              </a:rPr>
              <a:t>copia</a:t>
            </a: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Gli </a:t>
            </a:r>
            <a:r>
              <a:rPr b="0" lang="it-IT" sz="3200" spc="-1" strike="noStrike">
                <a:solidFill>
                  <a:srgbClr val="cc0000"/>
                </a:solidFill>
                <a:latin typeface="Book Antiqua"/>
              </a:rPr>
              <a:t>oggetti</a:t>
            </a: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 sono sempre passati per </a:t>
            </a:r>
            <a:r>
              <a:rPr b="0" lang="it-IT" sz="3200" spc="-1" strike="noStrike">
                <a:solidFill>
                  <a:srgbClr val="cc0000"/>
                </a:solidFill>
                <a:latin typeface="Book Antiqua"/>
              </a:rPr>
              <a:t>referenza</a:t>
            </a: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(a pensarci, é ovvio: si </a:t>
            </a:r>
            <a:r>
              <a:rPr b="0" i="1" lang="it-IT" sz="3200" spc="-1" strike="noStrike">
                <a:solidFill>
                  <a:srgbClr val="000000"/>
                </a:solidFill>
                <a:latin typeface="Book Antiqua"/>
              </a:rPr>
              <a:t>copia</a:t>
            </a: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 l’identificatore dell’oggetto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8520" y="475920"/>
            <a:ext cx="7518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assaggio di parametri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89600" y="115560"/>
            <a:ext cx="3672000" cy="2260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Numero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valore=0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ero(int valore)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valore=valore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8520" y="475920"/>
            <a:ext cx="7518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assaggio di parametri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"/>
          <p:cNvSpPr/>
          <p:nvPr/>
        </p:nvSpPr>
        <p:spPr>
          <a:xfrm>
            <a:off x="200160" y="907920"/>
            <a:ext cx="6105240" cy="592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Parametri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void incrementa(int x) {x++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void incrementa(Numero x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x.valore++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 a[]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ametri p=new Parametri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ametri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int z=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incrementa(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System.out.println(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Numero n=new Numero(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incrementa(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System.out.println(n.valo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889600" y="115560"/>
            <a:ext cx="3672000" cy="2260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Numero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valore=0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ero(int valore)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valore=valore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"/>
          <p:cNvSpPr/>
          <p:nvPr/>
        </p:nvSpPr>
        <p:spPr>
          <a:xfrm>
            <a:off x="6733080" y="3592440"/>
            <a:ext cx="11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ackag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Una collezione di classi correlat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ackage myclasses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lass A {...}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lass B {...}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mport myclasses.a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mport myclasses.*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nnidamento di packag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ackage myclasses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lass A {...}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ackage myclasses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lass B {...}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ackage myclasses.veryUsefulClasses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lass C {...}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mport myclasses.*; // NON importa C!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5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finizione suggerita di un nome </a:t>
            </a:r>
            <a:r>
              <a:rPr b="0" lang="en-US" sz="2400" spc="-1" strike="noStrike">
                <a:solidFill>
                  <a:srgbClr val="cc0000"/>
                </a:solidFill>
                <a:latin typeface="Book Antiqua"/>
              </a:rPr>
              <a:t>univoco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per i packages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5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È basata sul nome internet (es.: it.unitn.science.mypackage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nnidamento di packag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7264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I packages si riflettono in una struttura di directori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009960" y="2060640"/>
          <a:ext cx="1079280" cy="76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2060640"/>
                    <a:ext cx="107928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000160" y="3284640"/>
          <a:ext cx="5619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0160" y="3284640"/>
                    <a:ext cx="5619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376880" y="3284640"/>
          <a:ext cx="1079280" cy="76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76880" y="3284640"/>
                    <a:ext cx="107928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3008160" y="3284640"/>
            <a:ext cx="561960" cy="649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848320" y="27288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y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42320" y="4005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.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7160" y="4005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.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33280" y="399888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veryUseful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4737240" y="4508640"/>
            <a:ext cx="561960" cy="649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476240" y="5229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.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ass String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76160" y="1349280"/>
          <a:ext cx="8856720" cy="494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1349280"/>
                    <a:ext cx="8856720" cy="49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21:27:20Z</dcterms:created>
  <dc:creator>ronchet</dc:creator>
  <dc:description/>
  <dc:language>en-US</dc:language>
  <cp:lastModifiedBy>Marco Ronchetti</cp:lastModifiedBy>
  <cp:lastPrinted>1997-02-12T18:19:55Z</cp:lastPrinted>
  <dcterms:modified xsi:type="dcterms:W3CDTF">2003-02-28T10:39:44Z</dcterms:modified>
  <cp:revision>58</cp:revision>
  <dc:subject/>
  <dc:title>V Corso Sodalia</dc:title>
</cp:coreProperties>
</file>