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E2B-C11D-4F4F-AB23-775FBA97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3ED-B841-4ADC-BCEA-EF356809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246-AFFB-4B5E-BE1C-835D3BDF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4D0-CF6F-4C4D-81E8-8C008EE6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B3E-0BD2-460D-8AA5-6866C218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C8E-A9DC-4C5C-9B01-1DA4A8A8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685-7087-4132-864B-84E54AB9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BAA-91B6-429D-B6C2-747E4C2F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CFE-D1F6-4231-BFDA-6CE8C39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4F5-42A4-435C-A969-3173AB0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623-C002-4532-A8AB-D0EBAF6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1DF-CD04-453E-8211-D071AC0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121745-53BA-4A18-8B1E-48485FC0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FEB8-001C-4B8D-B7DB-380288CF7012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3 marzo 200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2840" y="1268280"/>
            <a:ext cx="7556400" cy="517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ackage struttur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ublic class Pil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contenuto[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final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Size=3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ila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aultGrowth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2216160" y="2276640"/>
            <a:ext cx="2448000" cy="647640"/>
          </a:xfrm>
          <a:prstGeom prst="wedgeRoundRectCallout">
            <a:avLst>
              <a:gd name="adj1" fmla="val -43773"/>
              <a:gd name="adj2" fmla="val 150245"/>
              <a:gd name="adj3" fmla="val 16667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800" y="1125000"/>
            <a:ext cx="9290160" cy="583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void inserisci(int k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marker==size) {cresci(defaultGrowthSize;)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[marker]=k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++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nt estrai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marker==0) {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Non posso estrarre da una pila vuota"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exit(1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ontenuto[--marker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3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4880" y="1295280"/>
            <a:ext cx="8928000" cy="40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void cresci(int dim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emp[ ]=new in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size;k+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[k]=contenuto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=new int[size+defaultGrowth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size;k++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[k]=temp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+=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4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08160" y="1699920"/>
            <a:ext cx="7556400" cy="370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ublic static void main(String args[]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1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la s=new Pila(dim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2*dim;k++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inserisci(k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s.estrai());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sing assertions (da Java 1.4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6160" y="1699920"/>
            <a:ext cx="8640720" cy="209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estrai() {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assert(marker&gt;0):"Invalid marker"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contenuto[--marker]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781560" y="4724280"/>
            <a:ext cx="25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ilare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–e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ila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20480" y="4672080"/>
            <a:ext cx="55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.lang.AssertionError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valid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pila.Pila.estrai(Pila.java: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pila.Pila.main(Pila.java: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sing System.arrayCopy(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6160" y="1700280"/>
            <a:ext cx="86407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arraycopy(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src, int src_position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dst, int dst_position, int length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1501920" y="3933720"/>
            <a:ext cx="71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es the specified source array, beginning a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d position, to the specified posi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asformare la Pila in Cod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0160" y="999720"/>
            <a:ext cx="7556400" cy="524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struttur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Coda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extends Pil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estrai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rt(marker&gt;0):"Invalid marker";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int retval=contenuto[0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or (int k=1; k&lt;marker; k++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contenuto[k-1]=contenuto[k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marker--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return retval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1857240" y="5003640"/>
            <a:ext cx="7832880" cy="1784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estrai() {</a:t>
            </a:r>
            <a:r>
              <a:rPr b="0" lang="en-US" sz="2400" spc="-1" strike="noStrike">
                <a:solidFill>
                  <a:srgbClr val="009900"/>
                </a:solidFill>
                <a:latin typeface="Courier New"/>
              </a:rPr>
              <a:t>//la estrai di P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assert(marker&gt;0):"Invalid marker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contenuto[--marker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asformare la Pila in Cod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2160" y="1700280"/>
            <a:ext cx="8121600" cy="4000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m=5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=new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2*dim;k++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s.inserisci(k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k=0;k&lt;3*dim;k++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s.estra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ML – Class Diagra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1065240" y="1582560"/>
            <a:ext cx="5616720" cy="280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rappresenta le classi e gli oggetti che compongono il sistema, ed i relativi attributi ed ope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pecifica, mediante le associazioni, i vincoli che legano tra loro le cl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uò essere definito in fasi diverse (analisi, disegno di dettagl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29600" y="1557360"/>
            <a:ext cx="13237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ML: Ereditarietà – “is”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1065240" y="1582560"/>
            <a:ext cx="561672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 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void setS(int) {…}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int getS() {…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 B extend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 w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void setW(int) {…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int getW() {…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29600" y="1557360"/>
            <a:ext cx="13237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vocazione dei costrutto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0160" y="259920"/>
            <a:ext cx="6976800" cy="52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ystem.out.println("Creo A"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class B extends 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B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ystem.out.println("Creo B"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B(int k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ystem.out.println("Creo B_int”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7329960" y="134136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400" y="5445000"/>
            <a:ext cx="7317360" cy="123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[] 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B b=new B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ML: Aggregazion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849240" y="1413000"/>
            <a:ext cx="4319640" cy="35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 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void setS(int){…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int getS() {…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ass B {A o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 void useA() {…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68880" y="2349360"/>
            <a:ext cx="440388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7560" y="422280"/>
            <a:ext cx="8442360" cy="64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ggregation - Compositio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se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aggregation (has-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when the lifecycle of the partecipating elements is different (one can exist without the other)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se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composition (part-of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annot be conceived withou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ai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4294080" y="3193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66880" y="2666880"/>
            <a:ext cx="4267440" cy="533160"/>
            <a:chOff x="2666880" y="2666880"/>
            <a:chExt cx="4267440" cy="533160"/>
          </a:xfrm>
        </p:grpSpPr>
        <p:sp>
          <p:nvSpPr>
            <p:cNvPr id="112" name=""/>
            <p:cNvSpPr/>
            <p:nvPr/>
          </p:nvSpPr>
          <p:spPr>
            <a:xfrm>
              <a:off x="2666880" y="2666880"/>
              <a:ext cx="13716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2819160"/>
              <a:ext cx="381240" cy="228600"/>
            </a:xfrm>
            <a:prstGeom prst="flowChartDecision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4680" y="29304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2666880"/>
              <a:ext cx="13716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4419720"/>
            <a:ext cx="4267440" cy="533160"/>
            <a:chOff x="2666880" y="4419720"/>
            <a:chExt cx="4267440" cy="533160"/>
          </a:xfrm>
        </p:grpSpPr>
        <p:sp>
          <p:nvSpPr>
            <p:cNvPr id="117" name=""/>
            <p:cNvSpPr/>
            <p:nvPr/>
          </p:nvSpPr>
          <p:spPr>
            <a:xfrm>
              <a:off x="2666880" y="4419720"/>
              <a:ext cx="13716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38480" y="4572000"/>
              <a:ext cx="381240" cy="228240"/>
            </a:xfrm>
            <a:prstGeom prst="flowChartDecision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46828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419720"/>
              <a:ext cx="13716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666880" y="5257800"/>
            <a:ext cx="4267440" cy="798480"/>
            <a:chOff x="2666880" y="5257800"/>
            <a:chExt cx="4267440" cy="798480"/>
          </a:xfrm>
        </p:grpSpPr>
        <p:sp>
          <p:nvSpPr>
            <p:cNvPr id="122" name=""/>
            <p:cNvSpPr/>
            <p:nvPr/>
          </p:nvSpPr>
          <p:spPr>
            <a:xfrm>
              <a:off x="2666880" y="5523120"/>
              <a:ext cx="13716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8480" y="5675400"/>
              <a:ext cx="381240" cy="228600"/>
            </a:xfrm>
            <a:prstGeom prst="flowChartDecision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4680" y="5786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523120"/>
              <a:ext cx="13716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3400" y="525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ML – Class Diagra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04840" y="1309680"/>
            <a:ext cx="7593120" cy="4927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63800" y="6165720"/>
            <a:ext cx="6913440" cy="642600"/>
          </a:xfrm>
          <a:prstGeom prst="rect">
            <a:avLst/>
          </a:prstGeom>
          <a:solidFill>
            <a:srgbClr val="ebebeb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egno ripreso da: Adriano Co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ttp://www.analisi-disegno.com/a_comai/corsi/sk_uml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bject Diagram for a Book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08160" y="1487520"/>
          <a:ext cx="777708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487520"/>
                    <a:ext cx="777708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38400" y="4876920"/>
            <a:ext cx="2476440" cy="138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759800" y="763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OD  </a:t>
            </a:r>
            <a:fld id="{27CD7E58-9F4F-4122-AD9D-D49F509DB0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vocazione dei costrutto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0160" y="259920"/>
            <a:ext cx="6976800" cy="52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ystem.out.println("Creo A"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class B extends 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B(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ystem.out.println("Creo B"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ublic B(int k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ystem.out.println("Creo B_int”)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7332480" y="134136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reo B_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400" y="5445000"/>
            <a:ext cx="7317360" cy="123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 [] 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B b=new B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ubclassing &amp; overri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4520" y="1287000"/>
            <a:ext cx="5861160" cy="509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int x=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int y=0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int(int x,int y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this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x=x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this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y=y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toString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"("+x+","+y+")"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a[]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 p=new Point(5,3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6733080" y="359244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ubclassing &amp; overri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557360"/>
            <a:ext cx="7232760" cy="4759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NamedPoint extends Point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NamedPoint(int x,int y,String name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super(x,y);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//prima istruzione!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his.name=nam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ring toString(){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//Overrid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name+" ("+x+","+y+")"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atic void main(String a[]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amedPoint p=new NamedPoint(5,3,"z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out.println(p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"/>
          <p:cNvSpPr/>
          <p:nvPr/>
        </p:nvSpPr>
        <p:spPr>
          <a:xfrm>
            <a:off x="8048880" y="292428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z (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ubclassing &amp; overrid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5800" y="1557360"/>
            <a:ext cx="7232760" cy="4759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NamedPoint extends Point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NamedPoint(int x,int y,String name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super(x,y);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//prima istruzione!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his.name=nam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ring toString(){ </a:t>
            </a: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//Overrid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name+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super.toString()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atic void main(String a[])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amedPoint p=new NamedPoint(5,3,"z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out.println(p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8048880" y="292428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z (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dificatori: visibilità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public</a:t>
            </a: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sibile da tutt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non def.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sibile da tutti nello stesso packa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protected</a:t>
            </a: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sibile dalle sottoclass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private</a:t>
            </a: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scosta da tutt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1690200" y="3068640"/>
            <a:ext cx="6357240" cy="368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 ACorrect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tring  aUseful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 getAUsefulString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"get" th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Useful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oid setAUsefulString(String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"set" th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sefulString =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96920" y="2924280"/>
            <a:ext cx="4016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Uso di metodi “di access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dificatori: final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Variabili dichiarate final sono costanti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Metodi dichiarati final non possono essere sovrascritt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ok Antiqua"/>
              </a:rPr>
              <a:t>Classi dichiarate final non possono essere subclass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-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556400" cy="517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ackage struttur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ublic class Pil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int contenuto[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final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Size=3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ila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aultGrowthSize=initial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20T08:45:05Z</dcterms:modified>
  <cp:revision>61</cp:revision>
  <dc:subject/>
  <dc:title>V Corso Sodalia</dc:title>
</cp:coreProperties>
</file>