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907588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202C-F393-4894-9630-523C5E30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63560" y="3958560"/>
            <a:ext cx="8685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48BC-DE86-4D5F-9A7C-B9D48799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6356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1424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786-F368-4F22-A2A6-4F91EC6D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00080" y="137160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36960" y="137160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63560" y="395856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00080" y="395856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36960" y="395856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71BB-8EE1-42C3-A103-B56532E6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3424-4D2F-4B84-9202-86D6B3B3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6E2F-3C8E-42F2-920C-252487BE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0D2A-B4D6-4540-8D8A-9DDE2FF5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F7EC-5192-4DF8-812B-E01CD222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68560" y="456840"/>
            <a:ext cx="7518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874A-8B38-4B23-8F24-B4B3616E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356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9DB6-3CA7-4654-824E-93751237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1424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DAF4-7BD7-4FF5-AA72-4661B223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560" y="3958560"/>
            <a:ext cx="8685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319F-BB67-43F4-8775-B458BE1D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2A81195-105F-4E36-8D31-CAC68A5E8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95360" y="1181160"/>
            <a:ext cx="76320" cy="53341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304920"/>
            <a:ext cx="9677160" cy="7596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5867280"/>
            <a:ext cx="685800" cy="763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2280" y="1301760"/>
            <a:ext cx="8902440" cy="5092560"/>
          </a:xfrm>
          <a:prstGeom prst="rect">
            <a:avLst/>
          </a:prstGeom>
          <a:noFill/>
          <a:ln w="12600">
            <a:solidFill>
              <a:srgbClr val="676767"/>
            </a:solidFill>
            <a:miter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143000"/>
            <a:ext cx="9677160" cy="763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"/>
          <p:cNvSpPr/>
          <p:nvPr/>
        </p:nvSpPr>
        <p:spPr>
          <a:xfrm>
            <a:off x="306360" y="29520"/>
            <a:ext cx="6858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179D-415B-4654-A7CC-393D01F871F3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8798040" y="42840"/>
            <a:ext cx="955440" cy="12524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 rot="16200000">
            <a:off x="-1996560" y="3344760"/>
            <a:ext cx="448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 Antiqua"/>
              </a:rPr>
              <a:t>Fac.Scienze – Università di Tr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415880" y="47520"/>
            <a:ext cx="71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 Antiqua"/>
              </a:rPr>
              <a:t>Programmazione 2   -  Marco Ronche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 txBox="1"/>
          <p:nvPr/>
        </p:nvSpPr>
        <p:spPr>
          <a:xfrm>
            <a:off x="8915400" y="228600"/>
            <a:ext cx="762120" cy="7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r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Fondamenti di Jav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Costruttori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Array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Exception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UM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Arrays multidimensionali – challenge!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76160" y="1268280"/>
            <a:ext cx="6470640" cy="5432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A()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Creo A"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 [] ar)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A[][] a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a=new A[2][]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a[0]=new A[2]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a[1]=new A[3]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=0; k&lt;2; k++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j=0;j&lt;3;j++)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if (j </a:t>
            </a:r>
            <a:r>
              <a:rPr b="1" lang="en-US" sz="2000" spc="-1" strike="noStrike">
                <a:solidFill>
                  <a:srgbClr val="3366ff"/>
                </a:solidFill>
                <a:latin typeface="Bookman Old Style"/>
              </a:rPr>
              <a:t>==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 2 &amp;&amp; k </a:t>
            </a:r>
            <a:r>
              <a:rPr b="1" lang="en-US" sz="2000" spc="-1" strike="noStrike">
                <a:solidFill>
                  <a:srgbClr val="3366ff"/>
                </a:solidFill>
                <a:latin typeface="Bookman Old Style"/>
              </a:rPr>
              <a:t>==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 0) continue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k][j] = new A(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"/>
          <p:cNvSpPr/>
          <p:nvPr/>
        </p:nvSpPr>
        <p:spPr>
          <a:xfrm>
            <a:off x="7545240" y="1268280"/>
            <a:ext cx="196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l’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outp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usc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capir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ogica delle istruzioni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ross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he succede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metto l’istruzione 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blu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Exception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Le eccezioni interrompono il normale flusso di un programma per riportare notizia di condizioni eccezionali che possono essere avvenute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Le eccezioni permettono al programmatore di trattare condizioni inusuali o inattese senza farcire il codice di infiniti controlli di errore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Ne risulta un codice più facile da leggere e più robusto. Il trattamento di condizioni eccezionali può essere delegato ad un singolo pezzo di codice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NOTA: anche le eccezioni sono “classi”!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Gestione degli errori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"/>
          <p:cNvSpPr/>
          <p:nvPr/>
        </p:nvSpPr>
        <p:spPr>
          <a:xfrm>
            <a:off x="560520" y="1036800"/>
            <a:ext cx="6984720" cy="5553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public int dividi(int a,int b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int c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c=a/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return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A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z=dividi(3,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the result is "+z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 [] ar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a=new 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25960" y="5159520"/>
            <a:ext cx="6624360" cy="1617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java.lang.ArithmeticException: / by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at pila.A.dividi(A.java: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at pila.A.&lt;init&gt;(A.java: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at pila.A.main(A.java: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Exception in thread "mai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Exceptions: example 1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"/>
          <p:cNvSpPr/>
          <p:nvPr/>
        </p:nvSpPr>
        <p:spPr>
          <a:xfrm>
            <a:off x="488880" y="1122480"/>
            <a:ext cx="6985080" cy="5553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dividi(int a,int b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 = 0; //definito qui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t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=a/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try block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catch (Exception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catch block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=Integer.MAX_VAL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finall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finally block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and in the end..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Exceptions: example 1b/1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" name=""/>
          <p:cNvSpPr/>
          <p:nvPr/>
        </p:nvSpPr>
        <p:spPr>
          <a:xfrm>
            <a:off x="200160" y="692280"/>
            <a:ext cx="6840360" cy="2975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public A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int z=dividi(3,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2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System.out.println("the result is "+z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public static void main(String [] ar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A a=new 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00880" y="2637000"/>
            <a:ext cx="4032000" cy="1312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try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finally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and in the end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the result i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Exceptions: example 1b/2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" name=""/>
          <p:cNvSpPr/>
          <p:nvPr/>
        </p:nvSpPr>
        <p:spPr>
          <a:xfrm>
            <a:off x="200160" y="692280"/>
            <a:ext cx="6840360" cy="2975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public A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int z=dividi(3,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2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System.out.println("the result is "+z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public static void main(String [] ar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A a=new 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0160" y="3645000"/>
            <a:ext cx="6840360" cy="2975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public A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int z=dividi(3,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System.out.println("the result is "+z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public static void main(String [] ar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A a=new 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0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00880" y="5516640"/>
            <a:ext cx="4032000" cy="1312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catch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finally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and in the end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the result is 21474836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00880" y="2637000"/>
            <a:ext cx="4032000" cy="1312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try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finally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and in the end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the result i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Errare humanum est.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"/>
          <p:cNvSpPr/>
          <p:nvPr/>
        </p:nvSpPr>
        <p:spPr>
          <a:xfrm>
            <a:off x="344520" y="1341360"/>
            <a:ext cx="7129440" cy="518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dividi(int a,int b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=a/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try block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catch (Exception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c=a/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“catch block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finally block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and in the end..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47760" y="2997360"/>
            <a:ext cx="2399760" cy="8254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Ma che succ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se persev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"/>
          <p:cNvSpPr/>
          <p:nvPr/>
        </p:nvSpPr>
        <p:spPr>
          <a:xfrm>
            <a:off x="200160" y="2133720"/>
            <a:ext cx="6840360" cy="2975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public A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int z=dividi(3,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System.out.println("the result is "+z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public static void main(String [] ar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A a=new 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0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65600" y="4494240"/>
            <a:ext cx="6767280" cy="1922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java.lang.ArithmeticException: / by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at pila.A.dividi(A.java: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at pila.A.&lt;init&gt;(A.java: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at pila.A.main(A.java: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finally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Exception in thread "main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3720" y="1432080"/>
            <a:ext cx="86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esecuzione di finally è garantita anche se il catch non temin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Types of exceptions 1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"/>
          <p:cNvSpPr/>
          <p:nvPr/>
        </p:nvSpPr>
        <p:spPr>
          <a:xfrm>
            <a:off x="128520" y="404640"/>
            <a:ext cx="9001080" cy="518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dividi(int a,int b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=a/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try block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catch (Exception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Errore di tipo "+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e.getClass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=Integer.MAX_VAL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finally block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and in the end..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68520" y="5175360"/>
            <a:ext cx="8064360" cy="1312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Errore di tipo class java.lang.Arithmetic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finally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and in the end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the result is 21474836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Types of exceptions 2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"/>
          <p:cNvSpPr/>
          <p:nvPr/>
        </p:nvSpPr>
        <p:spPr>
          <a:xfrm>
            <a:off x="128520" y="392040"/>
            <a:ext cx="9001080" cy="6289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A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z = modulo(3, 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 = dividi(3, 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} catch (Exception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Errore!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dividi(int a,int b)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throws Exce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eseguo dividi");  return a/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modulo(int a,int b)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throws Exce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eseguo modulo");  return a%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 [] ar) {A a=new A()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40520" y="1916280"/>
            <a:ext cx="2448000" cy="702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eseguo mod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Errore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Ancora sui costruttori..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71520" y="2133360"/>
            <a:ext cx="6165720" cy="1895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 [] ar)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a=new A(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"/>
          <p:cNvSpPr/>
          <p:nvPr/>
        </p:nvSpPr>
        <p:spPr>
          <a:xfrm>
            <a:off x="2847600" y="4221000"/>
            <a:ext cx="483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rret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Viene invocato il costruttore vuo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A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sintetizzato dal compila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520" y="456840"/>
            <a:ext cx="7518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Lo scaricabarile..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" name=""/>
          <p:cNvSpPr/>
          <p:nvPr/>
        </p:nvSpPr>
        <p:spPr>
          <a:xfrm>
            <a:off x="128520" y="1268280"/>
            <a:ext cx="9217080" cy="5553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A()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throws Exce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z = modulo(3, 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 = dividi(3, 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dividi(int a,int b)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throws Exce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eseguo dividi");     return a/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modulo(int a,int b) throws Except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eseguo modulo");     return a%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 [] ar)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throws Exce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a=new 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37240" y="44280"/>
            <a:ext cx="5111640" cy="161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java.lang.ArithmeticException: / by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at pila.A.modulo(A.java:1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at pila.A.&lt;init&gt;(A.java: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at pila.A.main(A.java:1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eseguo modu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Exception in thread "main"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UML: component - container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6" name=""/>
          <p:cNvSpPr/>
          <p:nvPr/>
        </p:nvSpPr>
        <p:spPr>
          <a:xfrm>
            <a:off x="763560" y="1447920"/>
            <a:ext cx="86853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 Container contiene [0 o +]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 Container è un Compon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quindi il contenimento è ricors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80" indent="-4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889600" y="2133720"/>
            <a:ext cx="2941560" cy="40179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UML: menu hierarchy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"/>
          <p:cNvSpPr/>
          <p:nvPr/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236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246640" y="461880"/>
          <a:ext cx="4314960" cy="59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6640" y="461880"/>
                    <a:ext cx="4314960" cy="59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415800" y="1295280"/>
            <a:ext cx="8685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236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uComponent è una classe astrat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6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6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 un Frame può essere associato 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2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u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6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6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 MenuBar contiene dei Me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6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6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 Menu contiene dei Menu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6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6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 Menu è un Menu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6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risorsività del conten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80" indent="-4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Costruttori sintetizzati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71880" y="1412640"/>
            <a:ext cx="6470640" cy="2260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A(int k){...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 [] ar)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a=new A(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"/>
          <p:cNvSpPr/>
          <p:nvPr/>
        </p:nvSpPr>
        <p:spPr>
          <a:xfrm>
            <a:off x="1904760" y="3733920"/>
            <a:ext cx="6723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Errore in compilazi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"A.java": Error #: 300 : constructor A() not fo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 class A at line 4, column 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Viene invocato il costruttore vuo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A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Ma il compilato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non 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l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sintetiz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perchè c’è già un altro costrutto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Idem..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75800" y="2093760"/>
            <a:ext cx="4248360" cy="299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public class B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3366ff"/>
                </a:solidFill>
                <a:latin typeface="Courier New"/>
              </a:rPr>
              <a:t>public class A extends B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public static void main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(String [] ar)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A a=new A(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"/>
          <p:cNvSpPr/>
          <p:nvPr/>
        </p:nvSpPr>
        <p:spPr>
          <a:xfrm>
            <a:off x="5240160" y="3430440"/>
            <a:ext cx="4248360" cy="3343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public class B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66ff"/>
                </a:solidFill>
                <a:latin typeface="Courier New"/>
              </a:rPr>
              <a:t>B(int k)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 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public class A extends B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public static void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(String [] ar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 a=new 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40160" y="44280"/>
            <a:ext cx="4248360" cy="3343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public class B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9900"/>
                </a:solidFill>
                <a:latin typeface="Courier New"/>
              </a:rPr>
              <a:t>public class A extends B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66ff"/>
                </a:solidFill>
                <a:latin typeface="Courier New"/>
              </a:rPr>
              <a:t>A(int k)</a:t>
            </a:r>
            <a:r>
              <a:rPr b="1" lang="it-IT" sz="2000" spc="-1" strike="noStrike">
                <a:solidFill>
                  <a:srgbClr val="009900"/>
                </a:solidFill>
                <a:latin typeface="Courier New"/>
              </a:rPr>
              <a:t> 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public static void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(String [] ar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A a=new A(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20360" y="4471920"/>
            <a:ext cx="55404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00"/>
                </a:solidFill>
                <a:latin typeface="Arial"/>
              </a:rPr>
              <a:t>S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632440" y="6199200"/>
            <a:ext cx="72324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Arial"/>
              </a:rPr>
              <a:t>N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784360" y="2814480"/>
            <a:ext cx="55404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00"/>
                </a:solidFill>
                <a:latin typeface="Arial"/>
              </a:rPr>
              <a:t>S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Idem..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"/>
          <p:cNvSpPr/>
          <p:nvPr/>
        </p:nvSpPr>
        <p:spPr>
          <a:xfrm>
            <a:off x="776160" y="1773360"/>
            <a:ext cx="4248360" cy="3711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Courier New"/>
              </a:rPr>
              <a:t>public class B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cc3399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cc3399"/>
                </a:solidFill>
                <a:latin typeface="Courier New"/>
              </a:rPr>
              <a:t>B(int k) 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cc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cc3399"/>
                </a:solidFill>
                <a:latin typeface="Courier New"/>
              </a:rPr>
              <a:t>public class A extends B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cc3399"/>
                </a:solidFill>
                <a:latin typeface="Courier New"/>
              </a:rPr>
              <a:t>A(int l) 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3399"/>
                </a:solidFill>
                <a:latin typeface="Courier New"/>
              </a:rPr>
              <a:t>public static void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3399"/>
                </a:solidFill>
                <a:latin typeface="Courier New"/>
              </a:rPr>
              <a:t>(String [] ar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3399"/>
                </a:solidFill>
                <a:latin typeface="Courier New"/>
              </a:rPr>
              <a:t>A a=new A(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68080" y="4873680"/>
            <a:ext cx="72324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Arial"/>
              </a:rPr>
              <a:t>N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41960" y="1773360"/>
            <a:ext cx="4248000" cy="3711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public class B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9900"/>
                </a:solidFill>
                <a:latin typeface="Courier New"/>
              </a:rPr>
              <a:t>B(int k) 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9900"/>
                </a:solidFill>
                <a:latin typeface="Courier New"/>
              </a:rPr>
              <a:t>public class A extends B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000" spc="-1" strike="noStrike">
                <a:solidFill>
                  <a:srgbClr val="009900"/>
                </a:solidFill>
                <a:latin typeface="Courier New"/>
              </a:rPr>
              <a:t>A(int l) {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super(l);</a:t>
            </a:r>
            <a:r>
              <a:rPr b="1" lang="it-IT" sz="2000" spc="-1" strike="noStrike">
                <a:solidFill>
                  <a:srgbClr val="009900"/>
                </a:solidFill>
                <a:latin typeface="Courier New"/>
              </a:rPr>
              <a:t>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public static void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(String [] ar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A a=new A(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776440" y="4869000"/>
            <a:ext cx="55404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00"/>
                </a:solidFill>
                <a:latin typeface="Arial"/>
              </a:rPr>
              <a:t>S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Array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E’ possibile definire arrays di tutti i tipi di dati (elementari o classi)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In fase di </a:t>
            </a:r>
            <a:r>
              <a:rPr b="0" lang="it-IT" sz="2400" spc="-1" strike="noStrike">
                <a:solidFill>
                  <a:srgbClr val="cc0000"/>
                </a:solidFill>
                <a:latin typeface="Book Antiqua"/>
              </a:rPr>
              <a:t>DICHIARAZIONE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 non e’ necessario specificare la dimensione del vettore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Solo al momento della </a:t>
            </a:r>
            <a:r>
              <a:rPr b="0" lang="it-IT" sz="2400" spc="-1" strike="noStrike">
                <a:solidFill>
                  <a:srgbClr val="cc0000"/>
                </a:solidFill>
                <a:latin typeface="Book Antiqua"/>
              </a:rPr>
              <a:t>ALLOCAZIONE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 viene richiesto lo spazio desiderato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tring[] strings; // oppure String strings[]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trings = new String[10];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trings = new String[20]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Arrays of Object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19280" y="1557360"/>
            <a:ext cx="6470640" cy="3720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A()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Creo A"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 [] ar)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] a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a=new A[4]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“end"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"/>
          <p:cNvSpPr/>
          <p:nvPr/>
        </p:nvSpPr>
        <p:spPr>
          <a:xfrm>
            <a:off x="7833240" y="2421000"/>
            <a:ext cx="11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Arrays of Object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9280" y="1557000"/>
            <a:ext cx="6470640" cy="408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A()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Creo A"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 [] ar)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] a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a=new A[4]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=0; k&lt;4; k++)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a[k]=new A(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“end"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"/>
          <p:cNvSpPr/>
          <p:nvPr/>
        </p:nvSpPr>
        <p:spPr>
          <a:xfrm>
            <a:off x="7833240" y="2421000"/>
            <a:ext cx="11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Cre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Cre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Cre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Cre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Arrays multidimensionali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01720" y="1557000"/>
            <a:ext cx="6470640" cy="408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A()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("Creo A"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 [] ar) {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][] a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=new A[2][2]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=0; k&lt;2; k++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j=0;j&lt;2;j++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k][j]=new A()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"/>
          <p:cNvSpPr/>
          <p:nvPr/>
        </p:nvSpPr>
        <p:spPr>
          <a:xfrm>
            <a:off x="7833240" y="2421000"/>
            <a:ext cx="11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Cre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Cre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Cre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Cre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21:27:20Z</dcterms:created>
  <dc:creator>ronchet</dc:creator>
  <dc:description/>
  <dc:language>en-US</dc:language>
  <cp:lastModifiedBy>Marco Ronchetti</cp:lastModifiedBy>
  <cp:lastPrinted>1997-02-12T18:19:55Z</cp:lastPrinted>
  <dcterms:modified xsi:type="dcterms:W3CDTF">2003-03-07T11:13:52Z</dcterms:modified>
  <cp:revision>67</cp:revision>
  <dc:subject/>
  <dc:title>V Corso Sodalia</dc:title>
</cp:coreProperties>
</file>