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7588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BAF-D19A-48E6-A0BF-D88E714F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63560" y="395856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860C-EBCC-4400-BC0B-09BFEFFE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1424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5CF-208F-4995-A3BB-5566254D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0008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3696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6356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0008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3696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88DE-3D75-45CD-973D-C4C62635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3349-5ADF-487E-9F44-16F21F74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7934-D0BB-400C-ACCD-9AC43F5F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BB0-5293-49B3-8AE8-79C66D0A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767-B9B2-483D-AEF9-089694BF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68560" y="456840"/>
            <a:ext cx="7518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A7EA-282D-4646-9654-4EDAFCEA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2B2-35AE-4285-9DE4-7A0A461B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1424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F6A-4F36-4C26-B9C7-DDFF7924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32B-1D92-4065-BCE0-E64A1B1E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E2DFAC-8B72-4830-8683-0DE5856AC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1181160"/>
            <a:ext cx="76320" cy="53341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304920"/>
            <a:ext cx="9677160" cy="7596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867280"/>
            <a:ext cx="685800" cy="763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2280" y="1301760"/>
            <a:ext cx="8902440" cy="509256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143000"/>
            <a:ext cx="9677160" cy="763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"/>
          <p:cNvSpPr/>
          <p:nvPr/>
        </p:nvSpPr>
        <p:spPr>
          <a:xfrm>
            <a:off x="306360" y="29520"/>
            <a:ext cx="6858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7837-E359-467C-9059-6B214CF4384D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8798040" y="42840"/>
            <a:ext cx="955440" cy="12524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 rot="16200000">
            <a:off x="-1996560" y="3344760"/>
            <a:ext cx="448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 Antiqua"/>
              </a:rPr>
              <a:t>Fac.Scienze – Università di Tr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415880" y="47520"/>
            <a:ext cx="71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 Antiqua"/>
              </a:rPr>
              <a:t>Programmazione 2   -  Marco Ronche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 txBox="1"/>
          <p:nvPr/>
        </p:nvSpPr>
        <p:spPr>
          <a:xfrm>
            <a:off x="8915400" y="228600"/>
            <a:ext cx="762120" cy="7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r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Fondamenti di Jav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Static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Static/dynamic bind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a"/>
                </a:solidFill>
                <a:latin typeface="Book Antiqua"/>
              </a:rPr>
              <a:t>Polimorfismo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"/>
          <p:cNvSpPr/>
          <p:nvPr/>
        </p:nvSpPr>
        <p:spPr>
          <a:xfrm>
            <a:off x="631800" y="1135080"/>
            <a:ext cx="8928000" cy="554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class OP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int f(int a,int b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return a*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Class Somma extends OP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int f(int a,int b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return a+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class  Sottrazione extends OP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int f(int a,int b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return a-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a"/>
                </a:solidFill>
                <a:latin typeface="Book Antiqua"/>
              </a:rPr>
              <a:t>Polimorfismo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"/>
          <p:cNvSpPr/>
          <p:nvPr/>
        </p:nvSpPr>
        <p:spPr>
          <a:xfrm>
            <a:off x="920880" y="1362240"/>
            <a:ext cx="7632720" cy="480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class Te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ublic static void main(String[] a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ew Te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ublic 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OP 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f (i!=0)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o=new Somm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o=new Sottrazion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o.f(3,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25120" y="5191200"/>
            <a:ext cx="4633920" cy="459720"/>
          </a:xfrm>
          <a:prstGeom prst="rect">
            <a:avLst/>
          </a:prstGeom>
          <a:solidFill>
            <a:srgbClr val="ffff99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00"/>
                </a:solidFill>
                <a:latin typeface="Arial"/>
              </a:rPr>
              <a:t>Che metodo viene chiamato q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a"/>
                </a:solidFill>
                <a:latin typeface="Book Antiqua"/>
              </a:rPr>
              <a:t>Static and Dynamic binding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imes New Roman"/>
              </a:rPr>
              <a:t>Cosa succede quando si chiama un metodo su di un oggetto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imes New Roman"/>
              </a:rPr>
              <a:t>(esempio: C obj; ... obj.f(args)) 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ompilatore cerca tra i metodi dell’oggetto obj i metodi f(…) e li enumer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ompilatore determina i tipi di parametri passati. Se trova un match unico con i metodi della classe C (anche tramite cast!)  ne prende nota – 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overloading resolutio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– altrimenti genera un messaggio di error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il metodo è private, static, final o un costruttore il compilatore sa esattamente che metodo chiamare  (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static bindin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trimenti il metodo dipende da qual’è la classe a cui obj appartiene a runtime ed il compilatore deve delegare alla JVM la determinazione del metodo a run time (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dynamic bindin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a"/>
                </a:solidFill>
                <a:latin typeface="Book Antiqua"/>
              </a:rPr>
              <a:t>Static and Dynamic binding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17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Se il programma usa il dynamic binding, la JVM deve chiamare il metodo appropriato al particolare tipo di oggetto obj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17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17080" indent="-217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Es. </a:t>
            </a:r>
            <a:r>
              <a:rPr b="1" lang="it-IT" sz="2800" spc="-1" strike="noStrike">
                <a:solidFill>
                  <a:srgbClr val="000000"/>
                </a:solidFill>
                <a:latin typeface="Book Antiqua"/>
              </a:rPr>
              <a:t>obj </a:t>
            </a: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sia di tipo D, classe derivata da C. Se esiste un metodo </a:t>
            </a:r>
            <a:r>
              <a:rPr b="1" lang="it-IT" sz="2800" spc="-1" strike="noStrike">
                <a:solidFill>
                  <a:srgbClr val="000000"/>
                </a:solidFill>
                <a:latin typeface="Book Antiqua"/>
              </a:rPr>
              <a:t>f(int) </a:t>
            </a: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in D, questo sarà il metodo chiamato, altrimenti verra’ chiamato il metodo </a:t>
            </a:r>
            <a:r>
              <a:rPr b="1" lang="it-IT" sz="2800" spc="-1" strike="noStrike">
                <a:solidFill>
                  <a:srgbClr val="000000"/>
                </a:solidFill>
                <a:latin typeface="Book Antiqua"/>
              </a:rPr>
              <a:t>f(int) </a:t>
            </a: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di C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17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17080" indent="-217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Eseguire ogni volta questi controlli non è efficente., per cui il la virtual machine calcola in anticipo un method table per ogni classe che raccoglie tutte le signatures dei metodi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Fondamenti di Jav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Una Pila Polimorf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a Pila in Java - 1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556400" cy="517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package struttur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public class Pila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siz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efaultGrowthSiz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rker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Object contenuto[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inal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Size=3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la(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ze=initialSiz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aultGrowthSize=initialSiz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rker=0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ontenuto=new Object[size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a Pila in Java - 2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5800" y="2276280"/>
            <a:ext cx="9290160" cy="44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final void inserisci(Object k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marker==size)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cresci(defaultGrowthSize);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tenuto[marker]=k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rker++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Object estrai(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ert(marker&gt;0):"Estrazione da Pila vuota"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contenuto[--marker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"/>
          <p:cNvSpPr/>
          <p:nvPr/>
        </p:nvSpPr>
        <p:spPr>
          <a:xfrm>
            <a:off x="2144880" y="907920"/>
            <a:ext cx="1657080" cy="1152720"/>
          </a:xfrm>
          <a:prstGeom prst="wedgeRectCallout">
            <a:avLst>
              <a:gd name="adj1" fmla="val -104212"/>
              <a:gd name="adj2" fmla="val 64601"/>
            </a:avLst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bilita 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a Pila in Java - 3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04880" y="2677680"/>
            <a:ext cx="8928000" cy="3343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 void cresci(int dim)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Object temp[ ]=new Object[size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size;k++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mp[k]=contenuto[k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ontenuto=new Object[size+defaultGrowthSize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size;k++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tenuto[k]=temp[k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ze+=defaultGrowthSiz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"/>
          <p:cNvSpPr/>
          <p:nvPr/>
        </p:nvSpPr>
        <p:spPr>
          <a:xfrm>
            <a:off x="2073240" y="1125360"/>
            <a:ext cx="1657440" cy="1152720"/>
          </a:xfrm>
          <a:prstGeom prst="wedgeRectCallout">
            <a:avLst>
              <a:gd name="adj1" fmla="val -48180"/>
              <a:gd name="adj2" fmla="val 94902"/>
            </a:avLst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bilita 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assi Wrapper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38680" y="2649600"/>
            <a:ext cx="3527280" cy="1882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float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Floa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char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byte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Byt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double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"/>
          <p:cNvSpPr/>
          <p:nvPr/>
        </p:nvSpPr>
        <p:spPr>
          <a:xfrm>
            <a:off x="1227960" y="4983120"/>
            <a:ext cx="746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nerano oggetti che hanno come variabile di ist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tipo di dato primitivo con nome ug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92920" y="1484280"/>
            <a:ext cx="714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Adesso che la Pila contiene oggetti, come faccio 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usarla per degli i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1760" y="2997360"/>
            <a:ext cx="244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Soluzion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uso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classe "wrapper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0520" y="342900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a Pila in Java - 4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4880" y="1438200"/>
            <a:ext cx="7993080" cy="44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im=10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la s=new Pila(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dim;k++)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Integer o=new Integer(k);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s.inserisci(o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3*dim;k++)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s.estrai());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 // end of class Pil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Fondamenti di Jav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Static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odificatori: static 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Variabili e metodi associati ad una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lasse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anziche’ ad un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ggetto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ono definiti “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atic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 variabili statiche servono come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ola variabile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ondivis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a le varie istanz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metodi possono essere richiamati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enza creare una istanz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7518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Variabili “static”: esempio 1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"/>
          <p:cNvSpPr/>
          <p:nvPr/>
        </p:nvSpPr>
        <p:spPr>
          <a:xfrm>
            <a:off x="200160" y="907920"/>
            <a:ext cx="9561240" cy="55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class  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static int instanceCount = 0; //variabile “di class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S() {instanceCount++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public class 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public static void main(String a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new 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for (int  i = 0;  i &lt; 10;  ++i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S instance=new 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System.out.println("# of instances: "+S.instance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94480" y="2997360"/>
            <a:ext cx="3311640" cy="579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Outp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Courier New"/>
              </a:rPr>
              <a:t># of instances: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7518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Variabili “static”: esempio 2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"/>
          <p:cNvSpPr/>
          <p:nvPr/>
        </p:nvSpPr>
        <p:spPr>
          <a:xfrm>
            <a:off x="200160" y="907920"/>
            <a:ext cx="9561240" cy="55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class  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static int instanceCount = 0; //variabile “di class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S() {instanceCount++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public void finalize() {instanceCount--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public class 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public static void main(String a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new 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for (int  i = 0;  i &lt; 10;  ++i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S instance=new 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System.out.println("# of instances: "+S.instance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System.gc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System.out.println("# of instances: "+S.instance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94480" y="2997360"/>
            <a:ext cx="3311640" cy="82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Outp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Courier New"/>
              </a:rPr>
              <a:t># of instances: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Courier New"/>
              </a:rPr>
              <a:t># of instances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7518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Metodi “static”: esempio 1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"/>
          <p:cNvSpPr/>
          <p:nvPr/>
        </p:nvSpPr>
        <p:spPr>
          <a:xfrm>
            <a:off x="200160" y="907920"/>
            <a:ext cx="9561240" cy="5276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class  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static int instanceCount = 0; //variabile “di class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S() {instanceCount++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static void azzeraContatore() {instanceCount=0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public class 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public static void main(String a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new 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for (int  i = 0;  i &lt; 10;  ++i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if (i%4==0) S.azzeraContator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S instance=new 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System.out.println("instanceCount: "+S.instance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94480" y="3645000"/>
            <a:ext cx="3311640" cy="579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Outp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Courier New"/>
              </a:rPr>
              <a:t>instanceCount: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65960" y="2276640"/>
            <a:ext cx="2879640" cy="865080"/>
          </a:xfrm>
          <a:prstGeom prst="wedgeRectCallout">
            <a:avLst>
              <a:gd name="adj1" fmla="val -113064"/>
              <a:gd name="adj2" fmla="val -59175"/>
            </a:avLst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uò agire solo su variabili statich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85680" y="5608800"/>
            <a:ext cx="3381120" cy="119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00"/>
                </a:solidFill>
                <a:latin typeface="Arial"/>
              </a:rPr>
              <a:t>Ruo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00"/>
                </a:solidFill>
                <a:latin typeface="Arial"/>
              </a:rPr>
              <a:t>Metodi che agiscono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00"/>
                </a:solidFill>
                <a:latin typeface="Arial"/>
              </a:rPr>
              <a:t>variabili sta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7518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metodi “static”: esempio 2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"/>
          <p:cNvSpPr/>
          <p:nvPr/>
        </p:nvSpPr>
        <p:spPr>
          <a:xfrm>
            <a:off x="4521240" y="1557360"/>
            <a:ext cx="4895640" cy="192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Math.sqr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3366ff"/>
                </a:solidFill>
                <a:latin typeface="Courier New"/>
              </a:rPr>
              <a:t>System.gc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3366ff"/>
                </a:solidFill>
                <a:latin typeface="Courier New"/>
              </a:rPr>
              <a:t>System.arrayCopy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3366ff"/>
                </a:solidFill>
                <a:latin typeface="Courier New"/>
              </a:rPr>
              <a:t>System.exi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3366ff"/>
                </a:solidFill>
                <a:latin typeface="Courier New"/>
              </a:rPr>
              <a:t>Integer.parseInt(String 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3366ff"/>
                </a:solidFill>
                <a:latin typeface="Courier New"/>
              </a:rPr>
              <a:t>Float.parseFloat(String 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9240" y="2781360"/>
            <a:ext cx="2879640" cy="1368360"/>
          </a:xfrm>
          <a:prstGeom prst="wedgeRectCallout">
            <a:avLst>
              <a:gd name="adj1" fmla="val 77893"/>
              <a:gd name="adj2" fmla="val -100115"/>
            </a:avLst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tare la maiuscol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per convenz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5240" y="5373720"/>
            <a:ext cx="3887640" cy="70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Che cos’e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3366ff"/>
                </a:solidFill>
                <a:latin typeface="Courier New"/>
              </a:rPr>
              <a:t>System.out.println()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09040" y="3933720"/>
            <a:ext cx="1905840" cy="119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00"/>
                </a:solidFill>
                <a:latin typeface="Arial"/>
              </a:rPr>
              <a:t>Ruo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00"/>
                </a:solidFill>
                <a:latin typeface="Arial"/>
              </a:rPr>
              <a:t>analogo al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00"/>
                </a:solidFill>
                <a:latin typeface="Arial"/>
              </a:rPr>
              <a:t>librerie del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7518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Perchè il main è “static”?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"/>
          <p:cNvSpPr/>
          <p:nvPr/>
        </p:nvSpPr>
        <p:spPr>
          <a:xfrm>
            <a:off x="706320" y="1125360"/>
            <a:ext cx="7058160" cy="192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class 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String s="hello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public static void main(String a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System.out.println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57240" y="2838600"/>
            <a:ext cx="8048880" cy="33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Courier New"/>
              </a:rPr>
              <a:t>Non static variable s cannot be referenced from static 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4880" y="3430440"/>
            <a:ext cx="7058160" cy="2836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class 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String s="hello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public static void main(String a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it-IT" sz="2000" spc="-1" strike="noStrike">
                <a:solidFill>
                  <a:srgbClr val="009900"/>
                </a:solidFill>
                <a:latin typeface="Courier New"/>
              </a:rPr>
              <a:t>new 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3366ff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ff9900"/>
                </a:solidFill>
                <a:latin typeface="Courier New"/>
              </a:rPr>
              <a:t>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System.out.println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ff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57240" y="6093000"/>
            <a:ext cx="8048880" cy="33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Courier New"/>
              </a:rPr>
              <a:t>he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Fondamenti di OOP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Polimorfismo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21:27:20Z</dcterms:created>
  <dc:creator>ronchet</dc:creator>
  <dc:description/>
  <dc:language>en-US</dc:language>
  <cp:lastModifiedBy>marco ronchetti</cp:lastModifiedBy>
  <cp:lastPrinted>1997-02-12T18:19:55Z</cp:lastPrinted>
  <dcterms:modified xsi:type="dcterms:W3CDTF">2003-03-10T23:02:14Z</dcterms:modified>
  <cp:revision>74</cp:revision>
  <dc:subject/>
  <dc:title>V Corso Sodalia</dc:title>
</cp:coreProperties>
</file>