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7588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4D80-E51C-4A20-9D33-DC8B5F3C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63560" y="395856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878-D211-4BA8-B9F6-A889B91D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1424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E3D-C52B-48C8-B9C4-0FD13D6D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0008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3696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6356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0008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3696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93F6-6F2C-41C1-B100-4F6ECF4D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B1E-3FD3-471A-8419-28CE9709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9E6-EC27-418C-A0FB-EF676002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377A-7F5B-4B36-B603-D2E36867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2C2-1F29-4295-BC10-F86C754F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68560" y="456840"/>
            <a:ext cx="7518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25C-A445-4D5B-A34D-087955D7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3F6-2F33-4A31-87EC-AAEB893C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1424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E87-DDE3-4FA3-9345-305ACA7B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2FC-F2A2-4DE4-8E1D-FB6734F1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88FCA9-28E5-4BFA-88E8-94CB29301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1181160"/>
            <a:ext cx="76320" cy="53341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304920"/>
            <a:ext cx="9677160" cy="7596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867280"/>
            <a:ext cx="685800" cy="763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2280" y="1301760"/>
            <a:ext cx="8902440" cy="509256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143000"/>
            <a:ext cx="9677160" cy="763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"/>
          <p:cNvSpPr/>
          <p:nvPr/>
        </p:nvSpPr>
        <p:spPr>
          <a:xfrm>
            <a:off x="306360" y="29520"/>
            <a:ext cx="6858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68EF-0142-4D86-AD1D-44BF898376C4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8798040" y="42840"/>
            <a:ext cx="955440" cy="12524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 rot="16200000">
            <a:off x="-1996560" y="3344760"/>
            <a:ext cx="448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 Antiqua"/>
              </a:rPr>
              <a:t>Fac.Scienze – Università di Tr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415880" y="47520"/>
            <a:ext cx="71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 Antiqua"/>
              </a:rPr>
              <a:t>Programmazione 2   -  Marco Ronche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 txBox="1"/>
          <p:nvPr/>
        </p:nvSpPr>
        <p:spPr>
          <a:xfrm>
            <a:off x="8915400" y="228600"/>
            <a:ext cx="762120" cy="7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r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rgomenti di oggi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Type conversion (cast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I/O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a Pila in Java - 5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4880" y="1197000"/>
            <a:ext cx="7993080" cy="480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im=10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la s=new Pila(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dim;k++)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 o=new Integer(k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.inserisci(o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3*dim;k++)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Integer i = s.estrai();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int w=i.intValue(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System.out.println(w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a Pila in Java - 5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4880" y="1197000"/>
            <a:ext cx="7993080" cy="480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im=10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la s=new Pila(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dim;k++)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 o=new Integer(k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.inserisci(o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3*dim;k++)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Integer i = s.estrai();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int w=i.intValue(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System.out.println(w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"/>
          <p:cNvSpPr/>
          <p:nvPr/>
        </p:nvSpPr>
        <p:spPr>
          <a:xfrm>
            <a:off x="7040520" y="3500280"/>
            <a:ext cx="2303640" cy="1872000"/>
          </a:xfrm>
          <a:prstGeom prst="wedgeRectCallout">
            <a:avLst>
              <a:gd name="adj1" fmla="val -83699"/>
              <a:gd name="adj2" fmla="val -3097"/>
            </a:avLst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RRO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posso mettere un Object in un Integ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a Pila in Java - 6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4880" y="1197000"/>
            <a:ext cx="7993080" cy="480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im=10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la s=new Pila(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dim;k++)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 o=new Integer(k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.inserisci(o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3*dim;k++)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Integer i =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(Integer)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s.estrai();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int w=i.intValue(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System.out.println(w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a Pila in Java - 4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4880" y="1438200"/>
            <a:ext cx="7993080" cy="44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im=10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la s=new Pila(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dim;k++)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Integer o=new Integer(k);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s.inserisci(o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3*dim;k++)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s.estrai());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 // end of class Pil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ezione: I/O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7518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Lettura di stringh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128520" y="907920"/>
            <a:ext cx="7920000" cy="592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A()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feredReader s = new BufferedReader(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Dammi una stringa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tr=s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Hai scritto "+st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catch (IOException e) {e.printStackTrac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 [] ar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a=new 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8680" y="549360"/>
            <a:ext cx="3311280" cy="82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Dammi una strin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abracada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Hai scritto abracada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520" y="456840"/>
            <a:ext cx="7518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Lettura di in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"/>
          <p:cNvSpPr/>
          <p:nvPr/>
        </p:nvSpPr>
        <p:spPr>
          <a:xfrm>
            <a:off x="128520" y="1197000"/>
            <a:ext cx="8569440" cy="371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A()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feredReader s = new BufferedReader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Dammi un intero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=Integer.parseInt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s.readLine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Hai scritto "+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catch 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) {e.printStackTrace(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0160" y="5013360"/>
            <a:ext cx="9705960" cy="82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Dammi un int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Hai scritt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520" y="456840"/>
            <a:ext cx="7518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Lettura di in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"/>
          <p:cNvSpPr/>
          <p:nvPr/>
        </p:nvSpPr>
        <p:spPr>
          <a:xfrm>
            <a:off x="128520" y="428760"/>
            <a:ext cx="8569440" cy="371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A()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feredReader s = new BufferedReader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Dammi un intero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=Integer.parseInt(s.readLi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Hai scritto "+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catch (IOException e) {e.printStackTrace(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160" y="4238640"/>
            <a:ext cx="9705960" cy="2526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Dammi un int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pip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java.lang.NumberFormatException: For input string: "g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at java.lang.NumberFormatException.forInputString(NumberFormatException.java:4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at java.lang.Integer.parseInt(Integer.java:42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at java.lang.Integer.valueOf(Integer.java:53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at pila.A.&lt;init&gt;(A.java: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at pila.A.main(A.java:1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Exception in thread "main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520" y="456840"/>
            <a:ext cx="7518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Lettura di flo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"/>
          <p:cNvSpPr/>
          <p:nvPr/>
        </p:nvSpPr>
        <p:spPr>
          <a:xfrm>
            <a:off x="128520" y="189000"/>
            <a:ext cx="8569440" cy="6658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A()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f=0; boolean err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feredReader s = new BufferedReader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Dammi un floa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rror=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=Float.parseFloat(s.readLi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NumberFormat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rror=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Input non valido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erro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Hai scritto "+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catch 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IO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) {e.printStackTrace(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57960" y="260280"/>
            <a:ext cx="2449440" cy="1552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Dammi un 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pip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Input non val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Dammi un 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3366ff"/>
                </a:solidFill>
                <a:latin typeface="Courier New"/>
              </a:rPr>
              <a:t>Hai scritto 3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520" y="456840"/>
            <a:ext cx="7518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Lettura di stringhe con GUI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447920"/>
            <a:ext cx="7491600" cy="284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mport javax.swing.JOptionPane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A()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String input = 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JOptionPane.showInputDialog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"How are you?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ystem.out.println(inp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System.exit(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29200" y="4572000"/>
            <a:ext cx="4191120" cy="1730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" y="4648320"/>
            <a:ext cx="4343400" cy="1523880"/>
          </a:xfrm>
          <a:prstGeom prst="wedgeRectCallout">
            <a:avLst>
              <a:gd name="adj1" fmla="val -12902"/>
              <a:gd name="adj2" fmla="val -104273"/>
            </a:avLst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senzia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trimenti la thread che gestisce la GUI rimane viva, e il processo non term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ezione: Polimorfismo - richiami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Polimorfismo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a"/>
                </a:solidFill>
                <a:latin typeface="Book Antiqua"/>
              </a:rPr>
              <a:t>Polimorfismo – esempio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"/>
          <p:cNvSpPr/>
          <p:nvPr/>
        </p:nvSpPr>
        <p:spPr>
          <a:xfrm>
            <a:off x="631800" y="1135080"/>
            <a:ext cx="8928000" cy="554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class OP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int f(int a,int b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return a*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Class Somma extends OP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int f(int a,int b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return a+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class  Sottrazione extends OP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int f(int a,int b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return a-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a"/>
                </a:solidFill>
                <a:latin typeface="Book Antiqua"/>
              </a:rPr>
              <a:t>Polimorfismo - esempio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"/>
          <p:cNvSpPr/>
          <p:nvPr/>
        </p:nvSpPr>
        <p:spPr>
          <a:xfrm>
            <a:off x="920880" y="1362240"/>
            <a:ext cx="7632720" cy="480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class Te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ublic static void main(String[] a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new Te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ublic 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OP 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f (i!=0)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o=new Somm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o=new Sottrazione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o.f(3,2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25120" y="5191200"/>
            <a:ext cx="4633920" cy="459720"/>
          </a:xfrm>
          <a:prstGeom prst="rect">
            <a:avLst/>
          </a:prstGeom>
          <a:solidFill>
            <a:srgbClr val="ffff99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00"/>
                </a:solidFill>
                <a:latin typeface="Arial"/>
              </a:rPr>
              <a:t>Che metodo viene chiamato q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assi Wrapper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38680" y="1341360"/>
            <a:ext cx="3527280" cy="1882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float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Floa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char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byte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Byt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double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"/>
          <p:cNvSpPr/>
          <p:nvPr/>
        </p:nvSpPr>
        <p:spPr>
          <a:xfrm>
            <a:off x="1227960" y="3675240"/>
            <a:ext cx="746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nerano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ogget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he hanno come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variabile di ist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tipo di dato primitivo con nome ug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1760" y="209556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classe "wrapper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0520" y="212076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5240" y="4941720"/>
            <a:ext cx="1584000" cy="1224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63800" y="5518080"/>
            <a:ext cx="863640" cy="5032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16520" y="4941720"/>
            <a:ext cx="1584360" cy="1224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l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5440" y="5518080"/>
            <a:ext cx="863640" cy="5032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l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ezione: Pila Polimorfa  - richiami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Una Pila Polimorf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a Pila in Java - 1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556400" cy="517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package struttur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public class Pila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siz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efaultGrowthSiz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rker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Object contenuto[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inal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Size=3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la(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ze=initialSiz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aultGrowthSize=initialSiz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rker=0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ontenuto=new Object[size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a Pila in Java - 2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5800" y="2276280"/>
            <a:ext cx="9290160" cy="44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final void inserisci(Object k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marker==size)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cresci(defaultGrowthSize);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tenuto[marker]=k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rker++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Object estrai(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ssert(marker&gt;0):"Estrazione da Pila vuota"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contenuto[--marker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"/>
          <p:cNvSpPr/>
          <p:nvPr/>
        </p:nvSpPr>
        <p:spPr>
          <a:xfrm>
            <a:off x="2144880" y="907920"/>
            <a:ext cx="1657080" cy="1152720"/>
          </a:xfrm>
          <a:prstGeom prst="wedgeRectCallout">
            <a:avLst>
              <a:gd name="adj1" fmla="val -104212"/>
              <a:gd name="adj2" fmla="val 64601"/>
            </a:avLst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bilita 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a Pila in Java - 3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04880" y="2204640"/>
            <a:ext cx="8928000" cy="3343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 void cresci(int dim)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Object temp[ ]=new Object[size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size;k++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mp[k]=contenuto[k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ontenuto=new Object[size+defaultGrowthSize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size;k++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tenuto[k]=temp[k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ze+=defaultGrowthSiz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21:27:20Z</dcterms:created>
  <dc:creator>ronchet</dc:creator>
  <dc:description/>
  <dc:language>en-US</dc:language>
  <cp:lastModifiedBy>Marco Ronchetti</cp:lastModifiedBy>
  <cp:lastPrinted>1997-02-12T18:19:55Z</cp:lastPrinted>
  <dcterms:modified xsi:type="dcterms:W3CDTF">2003-03-11T15:53:37Z</dcterms:modified>
  <cp:revision>77</cp:revision>
  <dc:subject/>
  <dc:title>V Corso Sodalia</dc:title>
</cp:coreProperties>
</file>