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4D7-C3AD-43FE-B911-5AD37A13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370-6B93-4E84-A835-B614298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D77-D1AD-4D84-8A6F-9EA2888E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485-14C9-45E9-8D39-AE8AC5B3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828-1DC2-4456-8FFE-A4B14032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967-3093-40AA-94D3-E53C483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355-936B-424B-A084-9C63A7F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68E-CAB9-458B-B250-7C4C8398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66F-030F-4D7B-B972-F925061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273-DE5C-43B1-A258-5389A55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202-68C1-40BC-AF74-4801D62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84A-2425-4275-95CC-28AE8EC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1E4414-260A-4A16-BABD-900760E0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721-D09E-4487-B551-A42A9C48830C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pcast e Downcas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Ancora Polimorfism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Abstra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M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Polimorfismo a tutto campo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on Pile e Code.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asformare la Pila in Cod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0160" y="999720"/>
            <a:ext cx="9361440" cy="48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struttur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Coda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extends Pil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strai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rt(marker&gt;0):"Estrazione d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uota"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retval=contenuto[0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or (int k=1; k&lt;marker; k++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contenuto[k-1]=contenuto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marker--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turn retval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44520" y="188640"/>
            <a:ext cx="8712000" cy="664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Pila s=null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type=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type =Integer.parseInt(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JOptionPane.showInputDialog(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"Pila (1) o Coda (2)?")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 catch (Exception e) {type=0;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 while (type&lt;1 || type&gt;2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switch (type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case 1: s=new Pila(); break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case 2: s=new Coda(); break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832520" y="189000"/>
            <a:ext cx="187308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sare Pile e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"/>
          <p:cNvSpPr/>
          <p:nvPr/>
        </p:nvSpPr>
        <p:spPr>
          <a:xfrm rot="19476000">
            <a:off x="6923160" y="577944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Impact"/>
              </a:rPr>
              <a:t>Polimorfis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04880" y="475920"/>
            <a:ext cx="842472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10;k+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 (k%2!=0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inserisci(new Integer(k)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.inserisci(new Float(k*Math.PI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11+1;k+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s.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estra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} catch (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ssertionError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a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.printStackTrace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} finally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System.exit(0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905240" y="259920"/>
            <a:ext cx="1800360" cy="20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s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ile e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"/>
          <p:cNvSpPr/>
          <p:nvPr/>
        </p:nvSpPr>
        <p:spPr>
          <a:xfrm rot="19476000">
            <a:off x="443160" y="162792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Impact"/>
              </a:rPr>
              <a:t>Polimorfis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5240" y="4005360"/>
            <a:ext cx="1441440" cy="863640"/>
          </a:xfrm>
          <a:prstGeom prst="wedgeRectCallout">
            <a:avLst>
              <a:gd name="adj1" fmla="val -102972"/>
              <a:gd name="adj2" fmla="val -106986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dificatori: abstra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67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67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Classi dichiarate abstract non possono essere istanziate, e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Book Antiqua"/>
              </a:rPr>
              <a:t>devono</a:t>
            </a: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 essere subclass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67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67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Metodi dichiarati abstract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Book Antiqua"/>
              </a:rPr>
              <a:t>devono</a:t>
            </a: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 essere sovrascritt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67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67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Book Antiqua"/>
              </a:rPr>
              <a:t>Una class non abstract non può contenere abstract meto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M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ML – Linked Li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76160" y="2157480"/>
            <a:ext cx="2736720" cy="1152360"/>
            <a:chOff x="776160" y="2157480"/>
            <a:chExt cx="2736720" cy="1152360"/>
          </a:xfrm>
        </p:grpSpPr>
        <p:sp>
          <p:nvSpPr>
            <p:cNvPr id="98" name=""/>
            <p:cNvSpPr/>
            <p:nvPr/>
          </p:nvSpPr>
          <p:spPr>
            <a:xfrm>
              <a:off x="1064880" y="2157480"/>
              <a:ext cx="1224000" cy="5032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1960" y="2157480"/>
              <a:ext cx="863640" cy="5032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9440" y="3021120"/>
              <a:ext cx="288720" cy="288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7800" y="3021120"/>
              <a:ext cx="288720" cy="288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6160" y="2733840"/>
              <a:ext cx="2736720" cy="215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00520" y="2157480"/>
            <a:ext cx="2736720" cy="1152360"/>
            <a:chOff x="3800520" y="2157480"/>
            <a:chExt cx="2736720" cy="1152360"/>
          </a:xfrm>
        </p:grpSpPr>
        <p:sp>
          <p:nvSpPr>
            <p:cNvPr id="104" name=""/>
            <p:cNvSpPr/>
            <p:nvPr/>
          </p:nvSpPr>
          <p:spPr>
            <a:xfrm>
              <a:off x="4089240" y="2157480"/>
              <a:ext cx="1224000" cy="5032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86320" y="2157480"/>
              <a:ext cx="863640" cy="5032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03800" y="3021120"/>
              <a:ext cx="288720" cy="288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72160" y="3021120"/>
              <a:ext cx="288720" cy="288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2733840"/>
              <a:ext cx="2736720" cy="215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751800" y="2157480"/>
            <a:ext cx="2736720" cy="1152360"/>
            <a:chOff x="6751800" y="2157480"/>
            <a:chExt cx="2736720" cy="1152360"/>
          </a:xfrm>
        </p:grpSpPr>
        <p:sp>
          <p:nvSpPr>
            <p:cNvPr id="110" name=""/>
            <p:cNvSpPr/>
            <p:nvPr/>
          </p:nvSpPr>
          <p:spPr>
            <a:xfrm>
              <a:off x="7040520" y="2157480"/>
              <a:ext cx="1224000" cy="5032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37600" y="2157480"/>
              <a:ext cx="863640" cy="5032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55080" y="3021120"/>
              <a:ext cx="288720" cy="288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23440" y="3021120"/>
              <a:ext cx="288720" cy="288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51800" y="2733840"/>
              <a:ext cx="2736720" cy="215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297240" y="2949480"/>
            <a:ext cx="719280" cy="21600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0"/>
                </a:moveTo>
                <a:cubicBezTo>
                  <a:pt x="76" y="68"/>
                  <a:pt x="152" y="136"/>
                  <a:pt x="227" y="136"/>
                </a:cubicBezTo>
                <a:cubicBezTo>
                  <a:pt x="302" y="136"/>
                  <a:pt x="416" y="23"/>
                  <a:pt x="453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1600" y="2949480"/>
            <a:ext cx="718920" cy="21600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0"/>
                </a:moveTo>
                <a:cubicBezTo>
                  <a:pt x="76" y="68"/>
                  <a:pt x="152" y="136"/>
                  <a:pt x="227" y="136"/>
                </a:cubicBezTo>
                <a:cubicBezTo>
                  <a:pt x="302" y="136"/>
                  <a:pt x="416" y="23"/>
                  <a:pt x="453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22280" y="1484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s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6280" y="1484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s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03760" y="1484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s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3308400"/>
            <a:ext cx="892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44880" y="3178080"/>
            <a:ext cx="6016320" cy="30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ML – Double Linked Li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4880" y="1693800"/>
            <a:ext cx="8785080" cy="4299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96000" y="251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bstra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zione: Upcast - downca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pcast &amp; downcas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72520" y="188640"/>
            <a:ext cx="9129960" cy="180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st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257960" y="1052640"/>
            <a:ext cx="24494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1989000"/>
            <a:ext cx="4967280" cy="35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=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.f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.f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2924280"/>
            <a:ext cx="3672000" cy="504720"/>
          </a:xfrm>
          <a:prstGeom prst="wedgeRectCallout">
            <a:avLst>
              <a:gd name="adj1" fmla="val -104606"/>
              <a:gd name="adj2" fmla="val 72643"/>
            </a:avLst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OK: upcast impli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6360" y="4149720"/>
            <a:ext cx="603252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class A           { void f1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{System.out.println("f1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class B extends A { void f2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{System.out.println("f2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C extends B { void f3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System.out.println("f3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3500280"/>
            <a:ext cx="3673440" cy="792360"/>
          </a:xfrm>
          <a:prstGeom prst="wedgeRectCallout">
            <a:avLst>
              <a:gd name="adj1" fmla="val -94124"/>
              <a:gd name="adj2" fmla="val 54208"/>
            </a:avLst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NO: "method f2 not found in class A" (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72520" y="188640"/>
            <a:ext cx="9129960" cy="180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st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257960" y="1052640"/>
            <a:ext cx="24494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272880" y="1989000"/>
            <a:ext cx="4967280" cy="35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=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.f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(B)a).f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16360" y="4149720"/>
            <a:ext cx="603252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class A           { void f1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{System.out.println("f1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class B extends A { void f2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{System.out.println("f2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C extends B { void f3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System.out.println("f3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5240" y="2924280"/>
            <a:ext cx="3672000" cy="504720"/>
          </a:xfrm>
          <a:prstGeom prst="wedgeRectCallout">
            <a:avLst>
              <a:gd name="adj1" fmla="val -104606"/>
              <a:gd name="adj2" fmla="val 72643"/>
            </a:avLst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OK: upcast impli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60880" y="3573360"/>
            <a:ext cx="3673440" cy="505080"/>
          </a:xfrm>
          <a:prstGeom prst="wedgeRectCallout">
            <a:avLst>
              <a:gd name="adj1" fmla="val -69578"/>
              <a:gd name="adj2" fmla="val 61634"/>
            </a:avLst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OK: downcast corr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72520" y="188640"/>
            <a:ext cx="9129960" cy="180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st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7257960" y="1052640"/>
            <a:ext cx="24494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272880" y="1989000"/>
            <a:ext cx="4967280" cy="35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=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.f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(C)a).f3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16360" y="4149720"/>
            <a:ext cx="603252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class A           { void f1(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{System.out.println("f1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class B extends A { void f2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{System.out.println("f2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C extends B { void f3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System.out.println("f3")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05240" y="2924280"/>
            <a:ext cx="3672000" cy="504720"/>
          </a:xfrm>
          <a:prstGeom prst="wedgeRectCallout">
            <a:avLst>
              <a:gd name="adj1" fmla="val -104606"/>
              <a:gd name="adj2" fmla="val 72643"/>
            </a:avLst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OK: upcast impli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0880" y="3573360"/>
            <a:ext cx="5400720" cy="863640"/>
          </a:xfrm>
          <a:prstGeom prst="wedgeRectCallout">
            <a:avLst>
              <a:gd name="adj1" fmla="val -74865"/>
              <a:gd name="adj2" fmla="val 25185"/>
            </a:avLst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NO: downcast illecito (run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java.lang.ClassCas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Type conversion - ca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86853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può applicare cast SOLO all’interno di un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erarchia di ereditarietà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consigliabile usare l'operatore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instanceo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 verificare prima effettuare un downca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 (staff[1]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nstanceof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anager) {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anager n = (Manager)staff[1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– 8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1438200"/>
            <a:ext cx="7993080" cy="480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//INSERIMENT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o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Math.random()&lt;0.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o=new Integer(k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o=new Float(k*Math.PI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inserisci(o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– 8b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1800" y="1267920"/>
            <a:ext cx="8640720" cy="554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// ESTRAZIO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o = s.estrai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o instanceof Integer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eger i = (Integer) o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w = i.intValue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System.out.println("an int:"+w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else if (o instanceof Float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Float i = (Float) o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float w = i.floatValue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ystem.out.println("a float:"+w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el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ystem.out.println("Unknown class!"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– 8c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73240" y="1483920"/>
            <a:ext cx="540072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OUTPUT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 float:28.27433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an int:8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an int:7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 float:18.84955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an int:5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an int: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 float:9.424778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 float:6.2831855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 float:3.1415927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 float:0.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14T21:57:45Z</dcterms:modified>
  <cp:revision>78</cp:revision>
  <dc:subject/>
  <dc:title>V Corso Sodalia</dc:title>
</cp:coreProperties>
</file>