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F19-E1F2-412F-988A-C43E23E2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87C-DFE0-4E68-8B34-42F2C6B3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51D-CA34-4B7A-B255-71738043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0008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69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35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0008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369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7B6-1B7C-40AD-A8E4-43B5D10B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069-F180-4D46-8F07-0F4290D0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C86-B11E-4E77-AAC0-2DDADDFB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4FE-85F9-4082-88A3-3D1A45F6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52D-09DF-49B0-877E-E59A0F16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68560" y="456840"/>
            <a:ext cx="7518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AA5-F235-46E0-92B6-A868FC2D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371-6523-45F5-99BD-902A0661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CE7-3BE5-4E91-B464-DCBF7A4F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892-E2F4-4CF5-B0E7-4B4A6C36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0808F9-BAF4-4B1C-8C2C-F4D979919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1181160"/>
            <a:ext cx="76320" cy="53341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304920"/>
            <a:ext cx="9677160" cy="759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67280"/>
            <a:ext cx="68580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2280" y="1301760"/>
            <a:ext cx="8902440" cy="5092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143000"/>
            <a:ext cx="967716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"/>
          <p:cNvSpPr/>
          <p:nvPr/>
        </p:nvSpPr>
        <p:spPr>
          <a:xfrm>
            <a:off x="306360" y="29520"/>
            <a:ext cx="6858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0037-FECB-4EF7-AD26-DB142A013B5B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8798040" y="42840"/>
            <a:ext cx="955440" cy="12524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 rot="16200000">
            <a:off x="-1996560" y="3344760"/>
            <a:ext cx="448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Fac.Scienze – Università di Tr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415880" y="47520"/>
            <a:ext cx="71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Programmazione 2   -  Marco Ronche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 txBox="1"/>
          <p:nvPr/>
        </p:nvSpPr>
        <p:spPr>
          <a:xfrm>
            <a:off x="8915400" y="228600"/>
            <a:ext cx="76212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r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guaglianz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equals(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clone(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etodo equals()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"/>
          <p:cNvSpPr/>
          <p:nvPr/>
        </p:nvSpPr>
        <p:spPr>
          <a:xfrm>
            <a:off x="920880" y="1717560"/>
            <a:ext cx="8424720" cy="311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quals method for class Object implements th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ost discrimina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ossible equivalence relation on object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 is, for any reference values x and y, this method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returns true if and only if x and y refer to the same obje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x==y has the value true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40120" y="53737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allora a che ser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quals per la classe P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"/>
          <p:cNvSpPr/>
          <p:nvPr/>
        </p:nvSpPr>
        <p:spPr>
          <a:xfrm>
            <a:off x="776160" y="2021040"/>
            <a:ext cx="6919920" cy="399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P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x; int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ublic String toString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return ("x="+x+" ; y="+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ublic boolean equals(P var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return (x==var.x &amp;&amp; y==var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1720" y="1387440"/>
            <a:ext cx="82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quals di Object è la base per implementare il vostro eq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quals() e ==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"/>
          <p:cNvSpPr/>
          <p:nvPr/>
        </p:nvSpPr>
        <p:spPr>
          <a:xfrm>
            <a:off x="200160" y="1557360"/>
            <a:ext cx="9361440" cy="487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[] a)}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 p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x=1; 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new P()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2.x=1; p2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System.out.println(p1.equals(p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System.out.println(p1</a:t>
            </a:r>
            <a:r>
              <a:rPr b="1" lang="it-IT" sz="2400" spc="-1" strike="noStrike">
                <a:solidFill>
                  <a:srgbClr val="009900"/>
                </a:solidFill>
                <a:latin typeface="Book Antiqua"/>
              </a:rPr>
              <a:t>==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p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24520" y="5589720"/>
            <a:ext cx="2608560" cy="90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roblema 1…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200160" y="1557360"/>
            <a:ext cx="9361440" cy="443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[] a)}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 z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x=1; 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null;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System.out.println(p1.equals(p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System.out.println(p1</a:t>
            </a:r>
            <a:r>
              <a:rPr b="1" lang="it-IT" sz="2400" spc="-1" strike="noStrike">
                <a:solidFill>
                  <a:srgbClr val="009900"/>
                </a:solidFill>
                <a:latin typeface="Book Antiqua"/>
              </a:rPr>
              <a:t>==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p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4520" y="5589720"/>
            <a:ext cx="2608560" cy="45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Err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quals per la classe P, v.2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776160" y="1341360"/>
            <a:ext cx="6843960" cy="443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P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x; int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ublic String toString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return ("x="+x+" ; y="+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ublic boolean equals(P var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if(var==null)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return (x==var.x &amp;&amp; y==var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roblema 2…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1928880" y="1052640"/>
            <a:ext cx="6697440" cy="45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Equals deve comparare due Objec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160" y="1557360"/>
            <a:ext cx="9361440" cy="443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[] a)}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 p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x=1; 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Integer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new Integer(3);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System.out.println(p1.equals(p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System.out.println(p1</a:t>
            </a:r>
            <a:r>
              <a:rPr b="1" lang="it-IT" sz="2400" spc="-1" strike="noStrike">
                <a:solidFill>
                  <a:srgbClr val="ff9900"/>
                </a:solidFill>
                <a:latin typeface="Book Antiqua"/>
              </a:rPr>
              <a:t>==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4520" y="5589720"/>
            <a:ext cx="2608560" cy="90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quals per la classe P, v.3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"/>
          <p:cNvSpPr/>
          <p:nvPr/>
        </p:nvSpPr>
        <p:spPr>
          <a:xfrm>
            <a:off x="992160" y="1484280"/>
            <a:ext cx="7993080" cy="487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P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x; int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ublic String toString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return ("x="+x+" ; y="+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ublic boolean equals(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Object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var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if (!(var instanceof P))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if(var==null)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return (x==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((P)var)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.x &amp;&amp; y=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((P)var)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roblema 3…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"/>
          <p:cNvSpPr/>
          <p:nvPr/>
        </p:nvSpPr>
        <p:spPr>
          <a:xfrm>
            <a:off x="200160" y="1557360"/>
            <a:ext cx="9361440" cy="487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[] a)}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P z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p1.x=1; 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Q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new Q()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;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2.x=1; p2.y=2; p2.z=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System.out.println(p1.equals(p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System.out.println(p1</a:t>
            </a:r>
            <a:r>
              <a:rPr b="1" lang="it-IT" sz="2400" spc="-1" strike="noStrike">
                <a:solidFill>
                  <a:srgbClr val="3366ff"/>
                </a:solidFill>
                <a:latin typeface="Book Antiqua"/>
              </a:rPr>
              <a:t>==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4520" y="5589720"/>
            <a:ext cx="2608560" cy="90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5960" y="2781360"/>
            <a:ext cx="4751280" cy="1342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Class Q extends P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int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quals per la classe P, v.3b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"/>
          <p:cNvSpPr/>
          <p:nvPr/>
        </p:nvSpPr>
        <p:spPr>
          <a:xfrm>
            <a:off x="992160" y="1484280"/>
            <a:ext cx="8609040" cy="524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P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x; int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ublic String toString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return ("x="+x+" ; y="+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ublic boolean equals(Object var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if (o.getClass() != this.getClass())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if(var==null)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return (x==((P)var).x &amp;&amp; y==((P)var)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 ora…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200160" y="1557360"/>
            <a:ext cx="9361440" cy="487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[] a)}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P p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p1.x=1; 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Q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new Q()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;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2.x=1; p2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System.out.println(p1.equals(p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System.out.println(p1</a:t>
            </a:r>
            <a:r>
              <a:rPr b="1" lang="it-IT" sz="2400" spc="-1" strike="noStrike">
                <a:solidFill>
                  <a:srgbClr val="3366ff"/>
                </a:solidFill>
                <a:latin typeface="Book Antiqua"/>
              </a:rPr>
              <a:t>==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24520" y="5589720"/>
            <a:ext cx="2608560" cy="90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5960" y="2781360"/>
            <a:ext cx="4751280" cy="1342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Class Q extends P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int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ondamenti di Jav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Uguali o identici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Quale soluzione scegliere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"/>
          <p:cNvSpPr/>
          <p:nvPr/>
        </p:nvSpPr>
        <p:spPr>
          <a:xfrm>
            <a:off x="992160" y="1484280"/>
            <a:ext cx="7993080" cy="436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if (o.getClass() != this.getClass())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op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if (!(var instanceof P))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Dipend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72520" y="475920"/>
            <a:ext cx="9433080" cy="612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ublic class Pila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contenuto[]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ublic boolean equals(Object p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if (!(p instanceof Pila)) return fals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if(p==null) return fals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if (marker!=((Pila)p).marker) return false;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for (int k=0;k&lt;marker;k++) {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if(! (contenuto[k].equals(p.contenuto[k])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}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744880" y="260280"/>
            <a:ext cx="381636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3399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a Pila in Java equal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4672800" y="6021360"/>
            <a:ext cx="47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è l'unica semantica possibi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roprietà richieste ad equal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equals method implements an </a:t>
            </a:r>
            <a:r>
              <a:rPr b="0" lang="en-US" sz="2400" spc="-1" strike="noStrike">
                <a:solidFill>
                  <a:srgbClr val="cc0000"/>
                </a:solidFill>
                <a:latin typeface="Book Antiqua"/>
              </a:rPr>
              <a:t>equivalence relatio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236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reflex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any reference value x, x.equals(x) should return tr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ym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any reference values x and y, x.equals(y) should return true if and only if y.equals(x) returns tr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ran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any reference values x, y, and z, if x.equals(y) returns true and y.equals(z) returns true, then x.equals(z) should return tr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roprietà richieste ad equal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dditional properties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23652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t is consis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any reference values x and y, multiple invocations of x.equals(y) consistently return true or consistently return false, provided no information used in equals comparisons on the object is modif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non-null reference value x,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.equals(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hould return fal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onazion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La clonazione.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Ovvero: come costruire una copi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(probabilmente che ritorni true su equals?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etodo clone di Objec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ok Antiqua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bject clone(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rows CloneNotSupportedException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reates and returns a copy of this object. The precise meaning of "copy" may depend on the class of the object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general intent is that, for any object x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229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: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.clone() !=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the expression: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.clone().getClass() == x.getClass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ese are not absolute requir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it is typically the case that: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.clone().equals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is is not an absolute requiremen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ain di te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"/>
          <p:cNvSpPr/>
          <p:nvPr/>
        </p:nvSpPr>
        <p:spPr>
          <a:xfrm>
            <a:off x="271440" y="189000"/>
            <a:ext cx="9505800" cy="620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 []a){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 p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x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1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.clone()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;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// NO! Metodo protec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84680" y="1390680"/>
            <a:ext cx="6121440" cy="266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P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x; int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ublic String toString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return ("x="+x+" ; y="+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one per la classe P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"/>
          <p:cNvSpPr/>
          <p:nvPr/>
        </p:nvSpPr>
        <p:spPr>
          <a:xfrm>
            <a:off x="272880" y="1251000"/>
            <a:ext cx="9360000" cy="532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P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implements Cloneable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ublic Object clone(Object var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return super.clo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} catch (CloneNotSupportedException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System.err.println("Implementation erro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System.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return null; //qui non arriva mai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53240" y="2349360"/>
            <a:ext cx="2448000" cy="432000"/>
          </a:xfrm>
          <a:prstGeom prst="wedgeRectCallout">
            <a:avLst>
              <a:gd name="adj1" fmla="val -101425"/>
              <a:gd name="adj2" fmla="val 163972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pia bit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ain di te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"/>
          <p:cNvSpPr/>
          <p:nvPr/>
        </p:nvSpPr>
        <p:spPr>
          <a:xfrm>
            <a:off x="271440" y="189000"/>
            <a:ext cx="9505800" cy="576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 []a){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 p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1.x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.clone()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p1.y=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2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1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65960" y="5157720"/>
            <a:ext cx="2608200" cy="90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x=1 ; y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x=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; y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e P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"/>
          <p:cNvSpPr/>
          <p:nvPr/>
        </p:nvSpPr>
        <p:spPr>
          <a:xfrm>
            <a:off x="3784680" y="1390680"/>
            <a:ext cx="6121440" cy="266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P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x; int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ublic String toString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return ("x="+x+" ; y="+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ain di te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"/>
          <p:cNvSpPr/>
          <p:nvPr/>
        </p:nvSpPr>
        <p:spPr>
          <a:xfrm>
            <a:off x="271440" y="189000"/>
            <a:ext cx="9505800" cy="664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 []a){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 p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x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1.x=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84680" y="1390680"/>
            <a:ext cx="6121440" cy="266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P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x; int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ublic String toString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return ("x="+x+" ; y="+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tesso oggetto!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"/>
          <p:cNvSpPr/>
          <p:nvPr/>
        </p:nvSpPr>
        <p:spPr>
          <a:xfrm>
            <a:off x="271440" y="189000"/>
            <a:ext cx="9505800" cy="664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 []a){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 p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x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1.x=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84680" y="1390680"/>
            <a:ext cx="6121440" cy="266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P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x; int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ublic String toString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return ("x="+x+" ; y="+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92880" y="5084640"/>
            <a:ext cx="2608200" cy="90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x=1 ; y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x=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; y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30640" y="6093000"/>
            <a:ext cx="474192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1 and p2 refer to te same obj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ggetti divers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"/>
          <p:cNvSpPr/>
          <p:nvPr/>
        </p:nvSpPr>
        <p:spPr>
          <a:xfrm>
            <a:off x="144360" y="301680"/>
            <a:ext cx="9561600" cy="576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 a[]) {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 p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x=1; 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new P()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2.x=1; p2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1.x=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65960" y="4653000"/>
            <a:ext cx="2608200" cy="1342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x=1 ; y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x=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; y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x=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; y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ome testare l'eguaglianza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"/>
          <p:cNvSpPr/>
          <p:nvPr/>
        </p:nvSpPr>
        <p:spPr>
          <a:xfrm>
            <a:off x="272880" y="1557360"/>
            <a:ext cx="9561600" cy="443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 a[]){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 p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x=1; 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new P()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2.x=1; p2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// come testare l'uguaglianza di p1 e p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peratore ==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"/>
          <p:cNvSpPr/>
          <p:nvPr/>
        </p:nvSpPr>
        <p:spPr>
          <a:xfrm>
            <a:off x="200160" y="1557360"/>
            <a:ext cx="9361440" cy="443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[] a)}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 p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x=1; 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new P()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2.x=1; p2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System.out.println(p1</a:t>
            </a:r>
            <a:r>
              <a:rPr b="1" lang="it-IT" sz="2400" spc="-1" strike="noStrike">
                <a:solidFill>
                  <a:srgbClr val="cc0000"/>
                </a:solidFill>
                <a:latin typeface="Book Antiqua"/>
              </a:rPr>
              <a:t>==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4520" y="5734080"/>
            <a:ext cx="2608560" cy="45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etodo equals()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"/>
          <p:cNvSpPr/>
          <p:nvPr/>
        </p:nvSpPr>
        <p:spPr>
          <a:xfrm>
            <a:off x="200160" y="1557360"/>
            <a:ext cx="9361440" cy="443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[] a)}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 p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x=1; 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new P()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2.x=1; p2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System.out.println(p1.equals(p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24520" y="5734080"/>
            <a:ext cx="2608560" cy="45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21:27:20Z</dcterms:created>
  <dc:creator>ronchet</dc:creator>
  <dc:description/>
  <dc:language>en-US</dc:language>
  <cp:lastModifiedBy>Marco Ronchetti</cp:lastModifiedBy>
  <cp:lastPrinted>1997-02-12T18:19:55Z</cp:lastPrinted>
  <dcterms:modified xsi:type="dcterms:W3CDTF">2003-03-17T12:17:50Z</dcterms:modified>
  <cp:revision>81</cp:revision>
  <dc:subject/>
  <dc:title>V Corso Sodalia</dc:title>
</cp:coreProperties>
</file>