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836-C56F-40B2-B118-AD1A876E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CD8-F6BF-4D30-9346-154F61DA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22A-8DD5-45B5-993F-A7C36D5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34-E909-48B1-8374-2554EEF5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9D6-F825-4586-BA7A-E1A1E754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44A-22AA-45D7-814E-412B0E8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7D4-C9FD-4005-87D1-65BA1CE2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277-6A98-4036-B5A8-47B74C7E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9DB-BC39-4BD3-848C-F3BD4F03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119-023D-4D08-B634-262E1121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615-4705-4812-B7E9-B7BC85F0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E10-1C70-402B-AC77-B07B27C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D328DA-A27B-40FE-BC4D-C8B27128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F26-600C-4EC2-AAAB-F50F18BA4FCF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Fondamenti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Uguali o identici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399960" y="1052640"/>
            <a:ext cx="950616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 p1=new V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V p2=p1.clo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[0]=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37240" y="4365720"/>
            <a:ext cx="2608200" cy="178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0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0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9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1 2 3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 better clone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200160" y="476280"/>
            <a:ext cx="9561240" cy="62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  implements Cloneable 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nt x[];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V(int s){…}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ublic String toString(){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ublic Object clone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Object tmp=null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/l'oggetto che creero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tmp=super.clone()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/copia di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 catch (CloneNotSupporte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e.printStackTrace(); return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((V)tmp).x=new int[x.length];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/adat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for (int k=0;k&lt;x.length;k++)((V)tmp).x[k]=x[k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t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399960" y="1052640"/>
            <a:ext cx="950616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 p1=new V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V p2=p1.clo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[0]=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37240" y="4365720"/>
            <a:ext cx="2608200" cy="178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0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0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9 1 2 3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0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1 2 3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hallow vs. Deep cop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super.clone(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ffettua una </a:t>
            </a:r>
            <a:r>
              <a:rPr b="0" lang="it-IT" sz="2400" spc="-1" strike="noStrike">
                <a:solidFill>
                  <a:srgbClr val="ff9900"/>
                </a:solidFill>
                <a:latin typeface="Book Antiqua"/>
              </a:rPr>
              <a:t>SHALLOW COP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er ottenere una </a:t>
            </a:r>
            <a:r>
              <a:rPr b="0" lang="it-IT" sz="2400" spc="-1" strike="noStrike">
                <a:solidFill>
                  <a:srgbClr val="ff9900"/>
                </a:solidFill>
                <a:latin typeface="Book Antiqua"/>
              </a:rPr>
              <a:t>DEEP COPY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occorre modificane il risultat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Book Antiqua"/>
              </a:rPr>
              <a:t>Ogni volta che ho delle referenze tra le variabili di istanza, devo chiedermi se voglio fare una copia della referenza o dell'oggetto!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ne per la Pil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3658320" y="256536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Esercizi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81240" y="393372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enzione: gestire il caso che gli oggetti contenuti nella Pila non implementino Clon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secuzione condiziona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ome sostituire il preprocessor del C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secuzione condizional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758880" y="1397160"/>
            <a:ext cx="8874000" cy="222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define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fdef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t&lt;&lt;"eseguo il metodo X()"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240" y="3995640"/>
            <a:ext cx="8874360" cy="178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class Tools {static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final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 boolean TRACE=true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f (Tools.tr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cout&lt;&lt;"eseguo il metodo X()"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0520" y="15033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79560" y="4500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odo equals(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920880" y="1447920"/>
            <a:ext cx="8424720" cy="2144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ls method for class Object implements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st discrimina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ssible equivalence relation on objec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for any reference values x and y, this metho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eturns true if and only if x and y refer to the same ob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x==y has the value tru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36880" y="537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733920"/>
            <a:ext cx="662940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Object a,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a.equals(b) E’ LO STESSO CHE a=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876920"/>
            <a:ext cx="7461000" cy="1342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Idem per le sottoclassi di Object, A MENO CHE n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effettuino l’overriding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ublic boolean equals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verriding di equa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992160" y="1484280"/>
            <a:ext cx="8609040" cy="436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class …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public boolean equals(Object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f (o.getClass() != this.getClass())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if(var==null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/cicla su tutte le instance variables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if (this.iv != var.iv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nazion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La clonazione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Ovvero: come costruire una copia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(probabilmente che ritorni true su equals?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odo clone di Objec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Object clone(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ows CloneNotSupportedException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eates and returns a copy of this object. The precise meaning of "copy" may depend on the class of the objec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general intent is that, for any object x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229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 !=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the expression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.getClass() == x.getClass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ese are not absolute requir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it is typically the case that: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x.clone().equals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is not an absolute requiremen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"/>
          <p:cNvSpPr/>
          <p:nvPr/>
        </p:nvSpPr>
        <p:spPr>
          <a:xfrm>
            <a:off x="271440" y="189000"/>
            <a:ext cx="9505800" cy="62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.clone()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;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/ NO! Metodo pro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84680" y="1390680"/>
            <a:ext cx="6121440" cy="266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int x; int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return ("x="+x+" ; y="+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one per la classe P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272880" y="1251000"/>
            <a:ext cx="9360000" cy="532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P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mplements Cloneable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ublic Object clone(Object var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return super.clo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 catch (CloneNotSupporte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err.println("Implementation erro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System.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return null; //qui non arriva mai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53240" y="2349360"/>
            <a:ext cx="2448000" cy="432000"/>
          </a:xfrm>
          <a:prstGeom prst="wedgeRectCallout">
            <a:avLst>
              <a:gd name="adj1" fmla="val -101425"/>
              <a:gd name="adj2" fmla="val 163972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pia bit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ain di tes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271440" y="189000"/>
            <a:ext cx="950580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class Tes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public static void main(String []a){new Test(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 p1=new P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1.x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1.y=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2=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p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.clone()</a:t>
            </a:r>
            <a:r>
              <a:rPr b="1" lang="pl-PL" sz="2400" spc="-1" strike="noStrike">
                <a:solidFill>
                  <a:srgbClr val="cc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p1.x=9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p2</a:t>
            </a:r>
            <a:r>
              <a:rPr b="1" lang="pl-PL" sz="2400" spc="-1" strike="noStrike">
                <a:solidFill>
                  <a:srgbClr val="ff99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System.out.println(</a:t>
            </a:r>
            <a:r>
              <a:rPr b="1" lang="it-IT" sz="2400" spc="-1" strike="noStrike">
                <a:solidFill>
                  <a:srgbClr val="3366ff"/>
                </a:solidFill>
                <a:latin typeface="Courier New"/>
              </a:rPr>
              <a:t>p1</a:t>
            </a:r>
            <a:r>
              <a:rPr b="1" lang="pl-PL" sz="2400" spc="-1" strike="noStrike">
                <a:solidFill>
                  <a:srgbClr val="3366ff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65960" y="5157720"/>
            <a:ext cx="2608200" cy="90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x=1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x=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; y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 V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"/>
          <p:cNvSpPr/>
          <p:nvPr/>
        </p:nvSpPr>
        <p:spPr>
          <a:xfrm>
            <a:off x="344520" y="1052640"/>
            <a:ext cx="9217080" cy="576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class V  implements Cloneable 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int x[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V(int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x=new int[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for (int k=0;k&lt;x.length;k++) x[k]=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ublic String toString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tring s="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for (int k=0;k&lt;x.length;k++) s=s+x[k]+" 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... // clone definito come p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3-17T21:52:22Z</dcterms:modified>
  <cp:revision>84</cp:revision>
  <dc:subject/>
  <dc:title>V Corso Sodalia</dc:title>
</cp:coreProperties>
</file>