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F3F3-C022-4288-9A43-3E82E632C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A1E7-505B-4711-9DAE-93BAD3157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866C-E5F0-4C5B-B756-BFF159264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21C1-7F28-43C9-88D5-37A9EBAEC3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691C-E45C-4835-BCA4-39EDDB7A8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EA9C-A8D0-413F-B1A2-F99ABB421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097C-D9C8-4769-8A81-949CE93E3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8A79-CC6D-4440-9EB5-46F33EAC89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7E0B-7C84-475B-A06F-7B4A828B5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762D-648A-4B09-8B5C-CEDE9F75A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5177-0A88-43AF-A34B-98C8B0AEA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42CD-C3E6-47E2-A85B-E61C58268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F4A9-1625-4F8A-915C-84E7505F97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l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419720" cy="3048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il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t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t defG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t mark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 contenuto[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final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Size=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17720" y="914040"/>
            <a:ext cx="4221000" cy="304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il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otec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efG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rk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 * contenu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const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itialSize=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9595-3FD4-4466-AE1D-C57287717E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ditariet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6173-20E6-4AED-AD32-3F3995CD120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0040" y="762120"/>
            <a:ext cx="5715000" cy="5790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* p=new Pi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6;k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-&gt;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6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p-&gt;estrai()+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ete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da * c=new Cod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(int k=0;k&lt;6;k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-&gt; 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(int k=0;k&lt;6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ut&lt;&lt;c-&gt;estrai ()+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ete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334120"/>
            <a:ext cx="243864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4 3 2 1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1 2 3 4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rut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19720" y="761760"/>
            <a:ext cx="4495680" cy="601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::Pil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t&lt;&lt;"Pila()“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=initial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initial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=new in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::Pila(int 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t&lt;&lt;"Pila(int)“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=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=new in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::Cod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t&lt;&lt;"Coda()“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::Coda(int 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t&lt;&lt;"Coda(int)“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1866-5E4A-4223-A4AA-9C0B1D8D0D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52280" y="1142640"/>
            <a:ext cx="3657600" cy="3809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In Java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costruttore d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sottoc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inv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il costrutt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della superclas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a meno si us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su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8400" y="522288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 succede in C++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rut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19720" y="1523520"/>
            <a:ext cx="449568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 *c=new Co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B336-967C-4BE6-9754-6033ED39D0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495680" y="3200400"/>
            <a:ext cx="449604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 *c=new Coda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2438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733920"/>
            <a:ext cx="2438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(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rut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9720" y="3580920"/>
            <a:ext cx="449568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 *c=new Cod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23B9-C3F6-4C3F-B92C-EB413640CE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495680" y="5257800"/>
            <a:ext cx="449604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 *c=new Coda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114800"/>
            <a:ext cx="2438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791320"/>
            <a:ext cx="2438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(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1066680"/>
            <a:ext cx="4495680" cy="2057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::Cod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"Coda()“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::Coda(int s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:Pila(s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"Coda(int)“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371600"/>
            <a:ext cx="2590560" cy="1523880"/>
          </a:xfrm>
          <a:prstGeom prst="wedgeRectCallout">
            <a:avLst>
              <a:gd name="adj1" fmla="val 100675"/>
              <a:gd name="adj2" fmla="val 624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ru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e 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Distruttori – finalize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02BB-1360-40ED-AFF0-539310A34E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6477120" cy="5562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class Pil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public void finaliz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System.out.println("P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class Coda extends Pil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public void finaliz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System.out.println("C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atic void main(String []a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oda c=new Cod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=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ystem.g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5410080"/>
            <a:ext cx="1600200" cy="457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Distruttori – finalize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A468-1063-4D6F-B52E-4C528B5FB6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6477120" cy="5867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class Pil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public void finaliz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System.out.println("P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class Coda extends Pil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public void finalize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System.out.println("C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super.final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ublic static void main(String []a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oda c=new Cod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=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System.gc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5410080"/>
            <a:ext cx="137160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ut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19720" y="1371240"/>
            <a:ext cx="449568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::~Pil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t&lt;&lt;"~Pila“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[] contenu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::~Cod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t&lt;&lt;"~Coda()“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421D-7394-49F5-A45A-98C06A35E7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52280" y="1143000"/>
            <a:ext cx="3657600" cy="4648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In Java l’implementazione di finaliz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è rara, e la s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chiamata avviene automatic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In Java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finalize d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sottocl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NON chi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il finali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della superclas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a meno di usare super</a:t>
            </a:r>
            <a:r>
              <a:rPr b="1" lang="it-IT" sz="2000" spc="-1" strike="noStrike">
                <a:solidFill>
                  <a:srgbClr val="00cc99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8400" y="5791320"/>
            <a:ext cx="27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 succede in C++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ut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19720" y="1523520"/>
            <a:ext cx="449568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*c=new Pi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2B65-F738-4704-95CB-8A4C238CCB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914400" y="4038480"/>
            <a:ext cx="2438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Cod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95680" y="3886200"/>
            <a:ext cx="449604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 *c=new Co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752480"/>
            <a:ext cx="2438280" cy="762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5715000"/>
            <a:ext cx="2590920" cy="609480"/>
          </a:xfrm>
          <a:prstGeom prst="wedgeRectCallout">
            <a:avLst>
              <a:gd name="adj1" fmla="val -127203"/>
              <a:gd name="adj2" fmla="val -175523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emory lea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uttori virtu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43400" y="1371600"/>
            <a:ext cx="4572000" cy="419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il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irtu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ila::~Pila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::~Pil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t&lt;&lt;"~Pila“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[] contenu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::~Cod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t&lt;&lt;"~Coda()“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3AFB-CB8A-49C7-9EB5-13C0FA2BA1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uttori virtu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E821-9917-4392-B994-6781A774CC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914400" y="2666880"/>
            <a:ext cx="236232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Cod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2514600"/>
            <a:ext cx="342900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 *c=new Co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25240" y="476568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chiarate SEMPRE virtual il distrutto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l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221000" cy="5943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il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=initial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=initial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=new in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Pila(int 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=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=new in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419360" y="838080"/>
            <a:ext cx="4601880" cy="594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=initial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initial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=new in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int 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=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=new in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~Pila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delete [](contenut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05C4-FD45-4989-B2C0-1F06204864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morf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33560" y="1295280"/>
            <a:ext cx="518148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*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=new Cod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6;k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-&gt; 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6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p-&gt;estrai()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1D06-AF8C-4E86-97FE-8E243C06C5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914400" y="2057400"/>
            <a:ext cx="25146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5 4 3 2 1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Cod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olimorfismo- vir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04960" y="1295280"/>
            <a:ext cx="5257800" cy="502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Pila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virtu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t estrai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*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=new Cod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6;k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-&gt;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6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p-&gt;estrai()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F97C-48C9-4537-A421-8C6BC64547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914400" y="2057400"/>
            <a:ext cx="25146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0 1 2 3 4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Cod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l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3809520"/>
            <a:ext cx="5181840" cy="2514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oid cresci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+=df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 temp[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new in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 k&lt;=marker;k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[k]=contenuto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=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962520" y="685440"/>
            <a:ext cx="5029200" cy="289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ila::cresci(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+=df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 * te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new in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 k&lt;=marker;k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[k]=contenuto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ete [](contenut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=te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30C1-EAFD-47DC-9CC9-A5FDD87C18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2057400"/>
            <a:ext cx="1523880" cy="990720"/>
          </a:xfrm>
          <a:prstGeom prst="wedgeRectCallout">
            <a:avLst>
              <a:gd name="adj1" fmla="val 136148"/>
              <a:gd name="adj2" fmla="val 27884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ti all’ord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la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62520" y="685800"/>
            <a:ext cx="5029200" cy="320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inserisci(int k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ize==marker) cresci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[marker]=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 estrai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assert(marker&gt;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contenuto[--marker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5BB8-3C18-4C75-8282-E232D66DD4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280" y="3809880"/>
            <a:ext cx="5486400" cy="27432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void inserisci(int k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ize==marker) cresci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[marker]=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t estrai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ssert(marker&gt;0):"Pila vuota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return contenuto[--marker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la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9000" y="685800"/>
            <a:ext cx="5562720" cy="2666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t main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la *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new Pi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-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ut&lt;&lt;p-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rai()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&lt;end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8A07-77B6-45C6-9D6D-78EBE70874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1920" y="3809880"/>
            <a:ext cx="6172200" cy="2819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ublic static void main(String[] a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la 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new Pi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ystem.out.println(p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rai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2120" y="1143000"/>
            <a:ext cx="1904760" cy="990720"/>
          </a:xfrm>
          <a:prstGeom prst="wedgeRectCallout">
            <a:avLst>
              <a:gd name="adj1" fmla="val 90083"/>
              <a:gd name="adj2" fmla="val -80129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fuori dall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5715000"/>
            <a:ext cx="1905120" cy="990720"/>
          </a:xfrm>
          <a:prstGeom prst="wedgeRectCallout">
            <a:avLst>
              <a:gd name="adj1" fmla="val -105416"/>
              <a:gd name="adj2" fmla="val -7851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in dentro la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re differen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38480" y="1066680"/>
            <a:ext cx="5029200" cy="320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parazione tra interfaccia (.h) e implementazione (.c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ila::Pila(){…}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reprocess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#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#define #ifd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29A9-F4C4-47E6-B91A-32B6578348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51920" y="1066680"/>
            <a:ext cx="4038840" cy="3200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Una classe p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up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3371-5FA6-4E75-8A9F-1C6F41433F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5715000" cy="5334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Ereditari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Concatenamento dei costrut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olimorfismo – upcast/down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Gerarchia standars (Object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Modific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Arrays di ogg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urier New"/>
              </a:rPr>
              <a:t>Type fuctionality (equals, clone, to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ditariet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8A75-B1B4-4549-A7F0-02AB02B842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4284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838080"/>
            <a:ext cx="6248160" cy="3200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da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xtends Pil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int estrai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(marker&gt;0):"Coda vuota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retval=contenuto[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1;k&lt;marker;k++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[k-1]=contenuto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ret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28640" y="2819520"/>
            <a:ext cx="5638680" cy="396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Coda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:public Pil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estrai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a::estrai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(marker&gt;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retval=contenuto[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1;k&lt;marker;k++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[k-1]=contenuto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ret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editariet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18CF-D92B-456E-8EF8-593F3B88A2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86200" y="762120"/>
            <a:ext cx="5105520" cy="5790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* p=new Pil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6;k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-&gt;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6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p-&gt;estrai()&lt;&lt;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ete 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end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da * c=new Cod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(int k=0;k&lt;6;k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-&gt; 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(int k=0;k&lt;6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ut&lt;&lt;c-&gt;estrai ()&lt;&lt;" 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lete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334120"/>
            <a:ext cx="243864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4 3 2 1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 1 2 3 4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1:34:06Z</dcterms:created>
  <dc:creator>Marco Ronchetti</dc:creator>
  <dc:description/>
  <dc:language>en-US</dc:language>
  <cp:lastModifiedBy>Marco Ronchetti</cp:lastModifiedBy>
  <dcterms:modified xsi:type="dcterms:W3CDTF">2003-03-19T13:35:30Z</dcterms:modified>
  <cp:revision>10</cp:revision>
  <dc:subject/>
  <dc:title>Pila 1</dc:title>
</cp:coreProperties>
</file>