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3FB2-1A58-4444-9FCD-94834D3A6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8335-1971-4F43-B672-C897397D0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5727-9679-4815-870E-E905408D6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A9A5-F119-4C21-8E6E-06DDB7399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3369-321B-4921-88B1-FDAEA00A8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6D11-F741-49F5-BF02-856C05F09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4782-0023-4B32-BE00-BD74746EA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909C-8697-4217-AC91-FE4FAC2EF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32B5-FF2F-46FD-A7B2-808444EF5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B556-8BD1-4306-AAA5-FC31A763E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7EBA-A59D-4095-BF17-3B9B14716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9FF0-8C2F-4D8E-9792-10A955B42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FAA6-0586-49E7-9D25-9884E2F12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65360" y="2514600"/>
            <a:ext cx="596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te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00"/>
                </a:solidFill>
                <a:latin typeface="Times New Roman"/>
              </a:rPr>
              <a:t>Oggetti in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00"/>
                </a:solidFill>
                <a:latin typeface="Times New Roman"/>
              </a:rPr>
              <a:t>Ripasso del polimorf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D930-D0FE-43A3-93B1-C9ADDE3B5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057400" y="304920"/>
            <a:ext cx="723960" cy="9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02240" y="2514600"/>
            <a:ext cx="54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ipass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sempio con i fischiet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B7CD-B27B-403B-B7BE-C9A80BFA3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108320" y="831960"/>
            <a:ext cx="4502520" cy="558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"Fischietto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fischia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Fiii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fischia(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k=0; k&lt;n;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Fiii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cadi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Toc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9120" y="536400"/>
            <a:ext cx="3065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Fischiett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a(in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cadi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1452-5D61-4A5F-B66D-0330A2798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2743200"/>
            <a:ext cx="5715000" cy="375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"FischiettoBitonale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Bitonale::fischia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FuuuFiii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Bitonale::fischia(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k=0; k&lt;n;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FuuuFiii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600" y="304920"/>
            <a:ext cx="536832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FischiettoBitona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:public Fischiet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a(in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1720" y="138600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3300"/>
                </a:solidFill>
                <a:uFillTx/>
                <a:latin typeface="Times New Roman"/>
              </a:rPr>
              <a:t>(Inherit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08160" y="9288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Ereditari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3200400"/>
            <a:ext cx="170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3300"/>
                </a:solidFill>
                <a:uFillTx/>
                <a:latin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3300"/>
                </a:solidFill>
                <a:uFillTx/>
                <a:latin typeface="Times New Roman"/>
              </a:rPr>
              <a:t>over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2EE2-CB2C-4287-BABE-8F757E1A3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90120" y="193680"/>
            <a:ext cx="5764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ipo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Scegli [1:normale - 2:bitonale] :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&gt;&gt;tip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while (tipo&lt;1 || tipo&gt;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schietto *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(tipo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x=&amp;f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x=&amp;f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qui non deve mai passare!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&gt;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&gt;fischia(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&gt;cadi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40" y="228600"/>
            <a:ext cx="306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fischia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cadi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Bitonale f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b.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b.fischia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b.cadi(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BF12-98EB-4C60-A810-42E2D1598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35800" y="609480"/>
            <a:ext cx="425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ii Fiii 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uuFiii FuuuFiii 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gli [1:normale - 2:bitonale] 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ii Fiii Fiii 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9160" y="411480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1AC7-4B82-4277-AFB7-2C2A42CB0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184640" y="831960"/>
            <a:ext cx="4502520" cy="558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"Fischietto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fischia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Fiii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fischia(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k=0; k&lt;n;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Fiii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cadi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Toc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320" y="324000"/>
            <a:ext cx="3388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Fischiett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id 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a(in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cadi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7FCC-6465-4439-A737-2795B995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35800" y="609480"/>
            <a:ext cx="425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ii Fiii 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uuFiii FuuuFiii 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gli [1:normale - 2:bitonale] 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ii Fiii Fiii 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5920" y="388620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428148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AC20-63BE-45B3-BA29-E6F4411FB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84640" y="907920"/>
            <a:ext cx="4502520" cy="558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 "Fischietto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fischia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Fiii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fischia(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k=0; k&lt;n;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Fiii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schietto::cadi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Toc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5400" y="399960"/>
            <a:ext cx="39402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Fischiett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id 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id fischia(in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cadi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278-1048-4F52-8234-F0272EA29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0480" y="609480"/>
            <a:ext cx="461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ii Fiii 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uuFiii FuuuFiii 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gli [1:normale - 2:bitonale] 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uuuFiii FuuuFiii FuuuFiii 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22200" y="411480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96F-01D3-406D-B96C-A853665CE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390120" y="193680"/>
            <a:ext cx="5764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ipo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Scegli [1:normale - 2:bitonale] :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&gt;&gt;tip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while (tipo&lt;1 || tipo&gt;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schietto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(tipo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x=f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x=f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qui non deve mai passare!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fischia(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cadi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40" y="228600"/>
            <a:ext cx="306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fischia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cadi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Bitonale f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b.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b.fischia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b.cadi(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A509-D059-40BF-B0A2-3D8C8EEC3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FB12-229C-4A8E-9D29-9512E2E88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9320" y="761040"/>
            <a:ext cx="40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from within class's pack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219320"/>
          <a:ext cx="5638680" cy="2038320"/>
        </p:xfrm>
        <a:graphic>
          <a:graphicData uri="http://schemas.openxmlformats.org/drawingml/2006/table">
            <a:tbl>
              <a:tblPr/>
              <a:tblGrid>
                <a:gridCol w="2590920"/>
                <a:gridCol w="1371600"/>
                <a:gridCol w="167616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 Modifi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eri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i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ult (no modifi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741960" y="3047040"/>
            <a:ext cx="34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side of a packag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3854520"/>
          <a:ext cx="5624280" cy="2038320"/>
        </p:xfrm>
        <a:graphic>
          <a:graphicData uri="http://schemas.openxmlformats.org/drawingml/2006/table">
            <a:tbl>
              <a:tblPr/>
              <a:tblGrid>
                <a:gridCol w="2576520"/>
                <a:gridCol w="1371600"/>
                <a:gridCol w="167616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 Modifi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eri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i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ult (no modifi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0" y="534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35800" y="609480"/>
            <a:ext cx="425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ii Fiii 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uuFiii FuuuFiii 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gli [1:normale - 2:bitonale] 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ii Fiii Fiii 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65160" y="4257720"/>
            <a:ext cx="4930920" cy="82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dynamic binding NON SI APP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e variabili (solo a puntato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274D-5BFD-46C8-AFFE-AAD311AFD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8680" y="152280"/>
            <a:ext cx="5965560" cy="6311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Bitonale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ipo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Scegli [1:normale - 2:bitonale] :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&gt;&gt;tip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while (tipo&lt;1 || tipo&gt;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(tipo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esegui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amp;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esegui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amp;f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cout&lt;&lt;"qui non deve mai passare!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h;cin&gt;&gt;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952880"/>
            <a:ext cx="502920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egli [1:normale - 2:bitonale] 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uuuFiii FuuuFiii FuuuFiii FuuuF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7800" y="380880"/>
            <a:ext cx="3669480" cy="1922760"/>
          </a:xfrm>
          <a:prstGeom prst="rect">
            <a:avLst/>
          </a:prstGeom>
          <a:solidFill>
            <a:srgbClr val="ffd4c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esegui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schietto *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a(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i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4C56-F4DB-402A-982C-4C7DA11E9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6360" y="152280"/>
            <a:ext cx="5965560" cy="63118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Bitonale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ipo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Scegli [1:normale - 2:bitonale] :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&gt;&gt;tip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while (tipo&lt;1 || tipo&gt;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(tipo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esegui(f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esegui(fb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cout&lt;&lt;"qui non deve mai passare!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h;cin&gt;&gt;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1120" y="304920"/>
            <a:ext cx="3754440" cy="1922760"/>
          </a:xfrm>
          <a:prstGeom prst="rect">
            <a:avLst/>
          </a:prstGeom>
          <a:solidFill>
            <a:srgbClr val="ffd4c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esegui(Fischietto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amp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fischia(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cadi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952880"/>
            <a:ext cx="502920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egli [1:normale - 2:bitonale] 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uuu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uuuFiii FuuuFiii FuuuFiii FuuuF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9469-7817-4994-9FAB-8BBA72C3A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8680" y="380880"/>
            <a:ext cx="5965560" cy="59461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hiettoBitonale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ipo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Scegli [1:normale - 2:bitonale] :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&gt;&gt;tip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while (tipo&lt;1 || tipo&gt;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(tipo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1: esegui(f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: esegui(fb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: cout&lt;&lt;"qui non deve mai passare!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4120" y="304920"/>
            <a:ext cx="3440520" cy="1922760"/>
          </a:xfrm>
          <a:prstGeom prst="rect">
            <a:avLst/>
          </a:prstGeom>
          <a:solidFill>
            <a:srgbClr val="ffd4c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esegui(Fischietto x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fischi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fischia(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cadi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5257800"/>
            <a:ext cx="502920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egli [1:normale - 2:bitonale] 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ii Fiii Fiii F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4F39-8259-42A5-B5AE-3DFDCC2A5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320" y="355680"/>
            <a:ext cx="7772400" cy="61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schiet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() { cout&lt;&lt;"creating Fischietto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 Fischietto () { cout&lt;&lt;"destroying Fischietto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schiettoBitonale:public Fischiet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() { cout&lt;&lt;"creating FischiettoBitonale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 FischiettoBitonale() { cout&lt;&lt;"destroying FischiettoBitonale "&lt;&lt;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68160" y="463680"/>
            <a:ext cx="2995560" cy="1434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ostruttori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di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9960" y="4495680"/>
            <a:ext cx="347400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Fischi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ing Fischi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55AF-9DEE-4102-B5D4-F66247B14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320" y="311040"/>
            <a:ext cx="7772400" cy="600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schiet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() { cout&lt;&lt;"creating Fischietto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 Fischietto () { cout&lt;&lt;"destroying Fischietto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schiettoBitonale:public Fischiet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() { cout&lt;&lt;"creating FischiettoBitonale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 FischiettoBitonale() { cout&lt;&lt;"destroying FischiettoBitonale "&lt;&lt;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ischiettoBitona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*p = ne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ischiettoBitonal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lete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68160" y="387360"/>
            <a:ext cx="2995560" cy="1434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ostruttori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di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3800" y="4495680"/>
            <a:ext cx="347400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Fischi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ing Fischi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8E84-185F-45BE-85EB-FEAC6607C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311040"/>
            <a:ext cx="7772400" cy="600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schiet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() { cout&lt;&lt;"creating Fischietto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 Fischietto () { cout&lt;&lt;"destroying Fischietto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schiettoBitonale:public Fischiet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() { cout&lt;&lt;"creating FischiettoBitonale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 FischiettoBitonale() { cout&lt;&lt;"destroying FischiettoBitonale "&lt;&lt;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ischiett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 = n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4480" y="914400"/>
            <a:ext cx="2995560" cy="1434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ostruttori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di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3080" y="4702320"/>
            <a:ext cx="316908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Fischi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ing Fischi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A3E3-9910-4876-AD2B-495500F6C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320" y="235080"/>
            <a:ext cx="7772400" cy="631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schiet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() { cout&lt;&lt;"creating Fischietto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 Fischietto () { cout&lt;&lt;"destroying Fischietto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schiettoBitonale:public Fischiett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() { cout&lt;&lt;"creating FischiettoBitonale "&lt;&lt;endl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 FischiettoBitonal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ut&lt;&lt;"destroying FischiettoBitonale "&lt;&lt;endl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ischiett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p = n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76240" y="4419720"/>
            <a:ext cx="353808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Fischi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chiettoBit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stroying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ischiettoBiton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ing Fischie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DC8F-0704-4BCD-8C70-6B3E05C41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29600" y="6062760"/>
            <a:ext cx="914400" cy="795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871240" y="380880"/>
            <a:ext cx="2995560" cy="1434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ostruttori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di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otected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6526-8572-468C-827C-EB365598B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28600"/>
            <a:ext cx="5943600" cy="327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pi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ex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 a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=new B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b.a=3; ACCESSO VIETA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b.f(); ACCESSO VIETATO!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43040" y="2133360"/>
            <a:ext cx="4800600" cy="472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ackage 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B extends C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g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a=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g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void f(){System.out.println("f"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otected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0123-2E55-4120-BCF7-B83C30164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28600"/>
            <a:ext cx="5943600" cy="327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pi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 a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b=new B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.a=3; ACCESSO PERMESS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.f(); ACCESSO PERMESSO!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.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2133360"/>
            <a:ext cx="4800600" cy="472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ackage pi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B extends C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g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a=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"g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void f(){System.out.println("f"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7239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otected in 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AB4E-CD22-4246-A698-D5726B83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5943600" cy="3124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*b=new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b-&gt;a=3;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CCESSO VIETA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b-&gt;f();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CCESSO VIETA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-&gt;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760" y="1904760"/>
            <a:ext cx="4800600" cy="472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otec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(){cout&lt;&lt;"f"&lt;&lt;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: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g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=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"g"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a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6480" y="5527800"/>
            <a:ext cx="203400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* o=new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.a=3; //vie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otected in C+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A61-DF48-49E9-9907-FB3CEA43E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28600"/>
            <a:ext cx="5943600" cy="3124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*b=new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b-&gt;a=3;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CCESSO VIETA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b-&gt;f();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CCESSO VIETA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-&gt;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1904760"/>
            <a:ext cx="4800600" cy="472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(){cout&lt;&lt;"f"&lt;&lt;endl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: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g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=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"g"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&lt;&lt;a&lt;&lt;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1120" y="3429000"/>
            <a:ext cx="255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ombinazion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cesso pubblic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reditarietà priv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à risultati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simil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7560" y="5527800"/>
            <a:ext cx="235548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* o=new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.a=3; //perm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89120" y="2514600"/>
            <a:ext cx="381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Oggetti in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760" y="374760"/>
            <a:ext cx="6581520" cy="37530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//Una Pila in Stack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ila s; // oppure Pila s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1; k&lt;10;k++)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s";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mpaStato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1; k&lt;8;k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rai()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*w=&amp;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//NO! delete 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54480" y="434340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el 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19720" y="1523520"/>
            <a:ext cx="449568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*c=new Pi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5DAF-B6BB-4E1E-8723-896ADD42A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914400" y="1752480"/>
            <a:ext cx="243828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048120"/>
            <a:ext cx="2590920" cy="609480"/>
          </a:xfrm>
          <a:prstGeom prst="wedgeRectCallout">
            <a:avLst>
              <a:gd name="adj1" fmla="val -43504"/>
              <a:gd name="adj2" fmla="val -191666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mory le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038480"/>
            <a:ext cx="449604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267080"/>
            <a:ext cx="243828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1:34:06Z</dcterms:created>
  <dc:creator>Marco Ronchetti</dc:creator>
  <dc:description/>
  <dc:language>en-US</dc:language>
  <cp:lastModifiedBy>Marco Ronchetti</cp:lastModifiedBy>
  <dcterms:modified xsi:type="dcterms:W3CDTF">2003-03-21T21:11:58Z</dcterms:modified>
  <cp:revision>13</cp:revision>
  <dc:subject/>
  <dc:title>Pila 1</dc:title>
</cp:coreProperties>
</file>