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AAC6-8FDE-4F30-B41D-5D456161D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1E14-8CA8-4E94-BA2D-DD33A475C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7A74-3854-4220-B12D-70A4A0023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6073-CDA5-43A5-899C-393D60DC8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E209-CB81-48D0-B41E-9C3D2AE33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5BE4-6400-4DD2-B2FF-0C7B6A51F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3FB9-8660-461F-A3D4-153127583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DE30-CFBD-49AE-B104-1B75D3780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BAE0-B04F-4BE6-AED6-9FA7332A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37A9-B05B-4D55-9F25-1FE9E59BC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F41D-2889-4AAB-BF23-0DB4FCF0A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7AE5-BD48-4A29-8144-0EAB7C7D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C3F-3649-4380-88C2-87DC4F31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3F1-8BC3-435B-94B4-6FFC7B711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CDB7-02E5-41F1-AAB9-59D5C639C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267080" y="304920"/>
            <a:ext cx="243864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f (q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=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720" y="2117880"/>
            <a:ext cx="8562600" cy="22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Pila::operator==(Pila &amp; cmp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his == &amp;cmp) 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marker!=cmp.marker) 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=marker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contenuto[k]!=cmp.contenuto[k]) 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17760" y="541008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44040" y="5421240"/>
            <a:ext cx="50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in Java il problema di </a:t>
            </a:r>
            <a:r>
              <a:rPr b="0" lang="it-IT" sz="2400" spc="-1" strike="noStrike">
                <a:solidFill>
                  <a:srgbClr val="d60093"/>
                </a:solidFill>
                <a:latin typeface="Book Antiqua"/>
              </a:rPr>
              <a:t>==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non si p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boolean equals(Object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2362320"/>
            <a:ext cx="160020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1600200"/>
            <a:ext cx="6124320" cy="40579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(d==c ? "true" :"false")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(d==c ? "true" :"false")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int k;cin&gt;&gt;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66280" y="2286000"/>
            <a:ext cx="398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iva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har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8B0-6716-44A6-8A66-8B278A5B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08CD-6ED3-44ED-BA25-7772E3951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990720"/>
            <a:ext cx="6607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ostruttor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, Str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har * 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distrut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peratore di output (self-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operatore di assegnazion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operatore di confronto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160" y="4800600"/>
            <a:ext cx="59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e String sono uguali se e’ ugual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uto  della stringa (char*)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se possied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A95-6318-48D4-920C-68C6DE9BD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90720"/>
            <a:ext cx="66074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"busines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lengh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compare(String &amp; 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append(String &amp; 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charAt(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445A-63DE-4D56-9840-84F8363DA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ipo 1: funzione es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return-type]  operatorXX([return-type] param_sx, [return-type] param_d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ger &amp; operator+(Integer sx,Integer d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teger a,b,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=b+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6886440" cy="43628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Integ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Value(int v) {x=v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Value() 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&amp; operator+(Integer sx,Integer d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*r=new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a=  sx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b=  dx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-&gt;setValue(a+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turn *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5486400"/>
            <a:ext cx="167652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Operator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18320" y="3403440"/>
            <a:ext cx="3685680" cy="31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setValue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Value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c=a+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57D-6843-43A6-B7C9-7EA00A85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ipo 2: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return-type]  operatorXX( [return-type] param_d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TA: Param sx è implicito, coincide con "thi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ger &amp; Integer::operator+(Integer d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teger a,b,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=b+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080" y="228600"/>
            <a:ext cx="6581520" cy="466776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Integ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Value(int v) {x=v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Value() 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teger &amp; operator+(Integer d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&amp;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teger::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erator+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(Integer dx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*r=new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a=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his-&gt;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b=  dx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-&gt;setValue(a+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turn *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5486400"/>
            <a:ext cx="167652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Operator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8320" y="3403440"/>
            <a:ext cx="3685680" cy="31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setValue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Value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eger c=a+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006B-4869-4CD6-A490-A378C6D94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lf-pr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elf-pr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4C7-D86C-45A3-962B-036FAC641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981080"/>
            <a:ext cx="7467480" cy="373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stream &amp; operator&lt;&lt;(ostream &amp;sx, const Pila &amp;d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"=================="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size = "&lt;&lt;dx.size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defGsize = "&lt;&lt;dx.defGsize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marker = "&lt;&lt;dx.marker 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k=0;k&lt;dx.marker;k++) sx &lt;&lt; "[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(dx.contenuto[k])&lt;&lt;"]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"=================="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s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79760" y="990720"/>
            <a:ext cx="22014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=new Pi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t&lt;&lt;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990720"/>
            <a:ext cx="21333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t&lt;&lt;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98800" y="583236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 va definita la fun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elf-pr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8EE-711E-4830-8E2C-C8DD7E708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514600"/>
            <a:ext cx="84582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il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stream &amp; operator&lt;&lt;(ostream &amp;sx, const Pila &amp;d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71840" y="1447920"/>
            <a:ext cx="52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se è esterna, come può avere acc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e variabili di istanza (es. sx.size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23960" cy="947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19080" y="4800600"/>
            <a:ext cx="650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"friend" somiglia alla visibilità di tipo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toString() è la soluzione per il self-pri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elf-pri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A01-5E64-46CC-8B0A-E3A760E8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981080"/>
            <a:ext cx="7467480" cy="373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stream &amp; operator&lt;&lt;(ostream &amp;sx, const Pila &amp;d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"=================="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size = "&lt;&lt;dx.size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defGsize = "&lt;&lt;dx.defGsize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"marker = "&lt;&lt;dx.marker 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k=0;k&lt;dx.marker;k++) sx &lt;&lt; "[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(dx.contenuto[k])&lt;&lt;"]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 &lt;&lt;"=================="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s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48520" y="5873760"/>
            <a:ext cx="21333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,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t&lt;&lt;p&lt;&lt;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2438280" cy="914400"/>
          </a:xfrm>
          <a:prstGeom prst="wedgeRectCallout">
            <a:avLst>
              <a:gd name="adj1" fmla="val -43620"/>
              <a:gd name="adj2" fmla="val 78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mett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cate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24T16:28:40Z</dcterms:modified>
  <cp:revision>19</cp:revision>
  <dc:subject/>
  <dc:title>Pila 1</dc:title>
</cp:coreProperties>
</file>