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8FCE-6366-4A55-B0C0-903790080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E933-45A3-4104-8528-EAEA77230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95D4-B94F-45ED-8777-09BFC9129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B3BE-D416-4341-8474-BE90C30A42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1673-D753-4093-BDDA-5CC083B14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5846-4E23-4A38-99D8-DE3F11ED5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EDA0-0C64-47C4-8C42-84D8AC944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BF96-1411-4B2B-9A86-A5135CC6B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9EF4-033E-4C86-8D38-78B2446ED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A2C2-BD96-4BA0-8570-ECDC4CFC7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891F-B97C-4CA3-8BCC-6CFA65C82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FDB3-F2A7-4C8C-9169-C1A8D8B40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9AD2-67FD-40F8-90A9-7EC74FBD3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408560" y="25146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sseg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: Esercizi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219320"/>
            <a:ext cx="8153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isto che abbiamo scritto metodi collegato con gli operatori 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assegnazione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uguaglianza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==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output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&lt;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vare (in maniera analoga) a definire gli operatori 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input                      &gt;&gt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concatenazione     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120920" y="1600200"/>
            <a:ext cx="4448160" cy="375300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.inserisci(1+d.estrai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76320"/>
            <a:ext cx="3200400" cy="678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56880" y="58323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hallow cop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58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sseg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g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D421-555A-434E-892E-F10C5E9F4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67080" y="304920"/>
            <a:ext cx="243864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la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la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=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21120" y="1676520"/>
            <a:ext cx="5819400" cy="344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ila &amp; Pila::operator=(Pila &amp; from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if (this == &amp;from) return *th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=from.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=from.defG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delete []contenu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tenuto=new int[from.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(int k=0; k&lt;=from.marker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tenuto[k]=from.contenuto[k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=from.mark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eturn *this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17760" y="541008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28200" y="5683320"/>
            <a:ext cx="42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in Java il problema non si p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5760" y="3352680"/>
            <a:ext cx="10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D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p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743200"/>
            <a:ext cx="1981080" cy="1676520"/>
          </a:xfrm>
          <a:prstGeom prst="wedgeRoundRectCallout">
            <a:avLst>
              <a:gd name="adj1" fmla="val 55287"/>
              <a:gd name="adj2" fmla="val -10056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ppor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ssegn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ultip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54040" y="1219320"/>
            <a:ext cx="3990960" cy="405792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ila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//assegnazione multip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=d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autoassegn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ourier New"/>
              </a:rPr>
              <a:t>c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//autoassegn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Pila *cp=&amp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c=*c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58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sseg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120920" y="2438280"/>
            <a:ext cx="4448160" cy="375300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.inserisci(1+d.estrai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76320"/>
            <a:ext cx="3200400" cy="678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403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sseg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20920" y="2438280"/>
            <a:ext cx="4448160" cy="344808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ila d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.inserisci(1+d.estrai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76320"/>
            <a:ext cx="3200400" cy="678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2520" y="838080"/>
            <a:ext cx="3124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ila d=c;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è diverso da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ila d; d=c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66280" y="2286000"/>
            <a:ext cx="398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class Str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ivat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// VARIABILI DI IS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har * 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65BC-F482-4B2D-B12A-6EA16A84F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4F7B-EE13-409D-96E0-3BA2C4289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: Esercizi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990720"/>
            <a:ext cx="6607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vere e testare i metodi di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ostruttor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, Strin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har * 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distrut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operatore di output (self-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l'operatore di assegnazion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'operatore di confronto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160" y="4800600"/>
            <a:ext cx="59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man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ue String sono uguali se e’ uguale 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enuto  della stringa (char*)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se possied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F909-3DD3-49CD-B45D-88C78489D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: Eserciz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990720"/>
            <a:ext cx="660744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vere e testare i metodi di "busines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 lengh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ool compare(String &amp; 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&amp; append(String &amp; 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 charAt(char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1:34:06Z</dcterms:created>
  <dc:creator>Marco Ronchetti</dc:creator>
  <dc:description/>
  <dc:language>en-US</dc:language>
  <cp:lastModifiedBy>Marco Ronchetti</cp:lastModifiedBy>
  <dcterms:modified xsi:type="dcterms:W3CDTF">2003-03-25T09:04:31Z</dcterms:modified>
  <cp:revision>18</cp:revision>
  <dc:subject/>
  <dc:title>Pila 1</dc:title>
</cp:coreProperties>
</file>