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A305-7D4C-486D-99BC-77FD94BC48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E63A-712C-4B35-86C3-3B316A6BE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6E771-B93B-4694-9502-DE1CECDF0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91404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60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620520"/>
            <a:ext cx="2772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BFE6-8C17-4F43-8CB4-BF15E26494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215B-705E-47BE-B681-4097F79D4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74AB-35C9-4FE8-80DF-B8F98B1333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2F58-D269-4C4E-A3A1-B81A71FE7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904B-8408-4FC6-B335-DF11C902A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120" y="152280"/>
            <a:ext cx="85345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6C8B-614F-44CA-8600-73C7D386AD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452A-5D10-4E27-9F2A-EF8D6DB46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760" y="362052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C472-C66A-4927-AF71-75567450F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75240"/>
            <a:ext cx="8534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760" y="914040"/>
            <a:ext cx="42015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3620520"/>
            <a:ext cx="8610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D8DA-EF5C-4399-A79B-FFC281D11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0" y="-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448A-85A4-4DF7-A284-C0AEECDA61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08560" y="25146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534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286-356B-4198-A6DE-A1E2CF79B4F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800" y="555480"/>
            <a:ext cx="3381120" cy="436284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Pila 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estra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inserisci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s"&lt;&lt;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w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inserisci(1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w"&lt;&lt;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(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w"&lt;&lt;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7960" y="0"/>
            <a:ext cx="2412000" cy="593460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ila(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ro in inseri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aultGrowth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r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ro in estr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tro in inseri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aultGrowth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r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~Pi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aultGrowth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ker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[8126648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~Pi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86600" y="1905120"/>
            <a:ext cx="1676520" cy="2288520"/>
          </a:xfrm>
          <a:prstGeom prst="rect">
            <a:avLst/>
          </a:prstGeom>
          <a:solidFill>
            <a:srgbClr val="ffd4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019920"/>
            <a:ext cx="87631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ain] E:\cpp2\Pila6.exe 1037 (0) handle_exceptions: Exception: STATUS VIO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ain] Pila6 1037 (0) handle_exceptions: Dumping Stack trace to Pila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3336600">
            <a:off x="6797160" y="133344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5520" y="380880"/>
            <a:ext cx="18266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 il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905120"/>
            <a:ext cx="609840" cy="2286000"/>
          </a:xfrm>
          <a:custGeom>
            <a:avLst/>
            <a:gdLst>
              <a:gd name="textAreaLeft" fmla="*/ 0 w 609840"/>
              <a:gd name="textAreaRight" fmla="*/ 220320 w 609840"/>
              <a:gd name="textAreaTop" fmla="*/ 33840 h 2286000"/>
              <a:gd name="textAreaBottom" fmla="*/ 22521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4"/>
                  <a:pt x="10800" y="1027"/>
                </a:cubicBezTo>
                <a:lnTo>
                  <a:pt x="10800" y="9773"/>
                </a:lnTo>
                <a:cubicBezTo>
                  <a:pt x="10800" y="10287"/>
                  <a:pt x="16200" y="10800"/>
                  <a:pt x="21600" y="10800"/>
                </a:cubicBezTo>
                <a:cubicBezTo>
                  <a:pt x="16200" y="10800"/>
                  <a:pt x="10800" y="11314"/>
                  <a:pt x="10800" y="11827"/>
                </a:cubicBezTo>
                <a:lnTo>
                  <a:pt x="10800" y="20573"/>
                </a:lnTo>
                <a:cubicBezTo>
                  <a:pt x="10800" y="21087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720" y="4876560"/>
            <a:ext cx="2514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enza Copy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0C55-F7D9-48B2-BCDA-832A60A740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203720" y="0"/>
            <a:ext cx="2543040" cy="6177960"/>
          </a:xfrm>
          <a:prstGeom prst="rect">
            <a:avLst/>
          </a:prstGeom>
          <a:solidFill>
            <a:srgbClr val="ffff99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eguo il costruttore Pila(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 in inseri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aultGrowth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 nel copy constr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 in estr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 in inseris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aultGrowth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3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 in distrug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faultGrowthSize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ker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 in distrug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1905120"/>
            <a:ext cx="1676520" cy="2288520"/>
          </a:xfrm>
          <a:prstGeom prst="rect">
            <a:avLst/>
          </a:prstGeom>
          <a:solidFill>
            <a:srgbClr val="ffd4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3336600">
            <a:off x="6797160" y="1333440"/>
            <a:ext cx="304920" cy="685800"/>
          </a:xfrm>
          <a:prstGeom prst="downArrow">
            <a:avLst>
              <a:gd name="adj1" fmla="val 50000"/>
              <a:gd name="adj2" fmla="val 5622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380880"/>
            <a:ext cx="174132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 il no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1905120"/>
            <a:ext cx="609840" cy="2286000"/>
          </a:xfrm>
          <a:custGeom>
            <a:avLst/>
            <a:gdLst>
              <a:gd name="textAreaLeft" fmla="*/ 0 w 609840"/>
              <a:gd name="textAreaRight" fmla="*/ 220320 w 609840"/>
              <a:gd name="textAreaTop" fmla="*/ 33840 h 2286000"/>
              <a:gd name="textAreaBottom" fmla="*/ 22521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4"/>
                  <a:pt x="10800" y="1027"/>
                </a:cubicBezTo>
                <a:lnTo>
                  <a:pt x="10800" y="9773"/>
                </a:lnTo>
                <a:cubicBezTo>
                  <a:pt x="10800" y="10287"/>
                  <a:pt x="16200" y="10800"/>
                  <a:pt x="21600" y="10800"/>
                </a:cubicBezTo>
                <a:cubicBezTo>
                  <a:pt x="16200" y="10800"/>
                  <a:pt x="10800" y="11314"/>
                  <a:pt x="10800" y="11827"/>
                </a:cubicBezTo>
                <a:lnTo>
                  <a:pt x="10800" y="20573"/>
                </a:lnTo>
                <a:cubicBezTo>
                  <a:pt x="10800" y="21087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81680" y="5181480"/>
            <a:ext cx="2362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n Copy</a:t>
            </a:r>
            <a:br>
              <a:rPr sz="3600"/>
            </a:b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800" y="555480"/>
            <a:ext cx="3381120" cy="436284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f(Pila s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estrai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.inserisci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s"&lt;&lt;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w(5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.inserisci(1);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w"&lt;&lt;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(w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"w"&lt;&lt;w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71F5-2B58-4B11-B733-037F8B2CE9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72920" y="1447920"/>
            <a:ext cx="392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or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 de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ttenzione 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lle chiamate implic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478F-D2BC-4E05-8B13-4DE1B17FB36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449600" y="4572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400" y="5867280"/>
            <a:ext cx="893160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a riga  f(w); il compilatore segna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[C++ Error] Pila2.cpp(114): E2247 'Pila::Pila(Pila &amp;)' is not acce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" y="2514600"/>
            <a:ext cx="3115800" cy="2288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il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iv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Pila(Pila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amp;</a:t>
            </a:r>
            <a:r>
              <a:rPr b="0" lang="it-IT" sz="2400" spc="-1" strike="noStrike">
                <a:solidFill>
                  <a:srgbClr val="ff3300"/>
                </a:solidFill>
                <a:latin typeface="Times New Roman"/>
              </a:rPr>
              <a:t> to)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2448000"/>
            <a:ext cx="3912840" cy="26542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a w(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.inserisci(1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";w.stampaSta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(w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&lt;&lt;"w";w.stampaStat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 se non volessi permettere i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ssaggio per cop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2403-AFDE-4DE0-BBED-CA1E628205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49600" y="4572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E se volessi fare il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assaggio per copia in Jav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08280" y="3174840"/>
            <a:ext cx="29239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w=new Pil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(w.clone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320040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7285-A14A-4744-94F0-62AF09807D8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20920" y="1600200"/>
            <a:ext cx="4448160" cy="3753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56880" y="583236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hallow cop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5336-52AB-4367-B8FA-CC96C75A81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0C5-4361-42E4-A646-91E1950C60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304920"/>
            <a:ext cx="243864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la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=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21120" y="1676520"/>
            <a:ext cx="5819400" cy="344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ila &amp; Pila::operator=(Pila &amp; from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if (this == &amp;from) return *th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from.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=from.defG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delete []contenu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tenuto=new int[from.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for (int k=0; k&lt;=from.marker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contenuto[k]=from.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from.mark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return *thi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17760" y="541008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428200" y="5683320"/>
            <a:ext cx="42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d600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d60093"/>
                </a:solidFill>
                <a:latin typeface="Times New Roman"/>
              </a:rPr>
              <a:t>in Java il problema non si p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25760" y="3352680"/>
            <a:ext cx="10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cop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2743200"/>
            <a:ext cx="1981080" cy="1676520"/>
          </a:xfrm>
          <a:prstGeom prst="wedgeRoundRectCallout">
            <a:avLst>
              <a:gd name="adj1" fmla="val 55287"/>
              <a:gd name="adj2" fmla="val -10056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ppor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ssegn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ultip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54040" y="1219320"/>
            <a:ext cx="3990960" cy="405792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ila 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//assegnazione multip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00ff"/>
                </a:solidFill>
                <a:latin typeface="Courier New"/>
              </a:rPr>
              <a:t>e=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autoasseg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008000"/>
                </a:solidFill>
                <a:latin typeface="Courier New"/>
              </a:rPr>
              <a:t>c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//autoasseg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Pila *cp=&amp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it-IT" sz="2000" spc="-1" strike="noStrike">
                <a:solidFill>
                  <a:srgbClr val="ff0000"/>
                </a:solidFill>
                <a:latin typeface="Courier New"/>
              </a:rPr>
              <a:t>c=*c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5867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709D-99A0-43A9-9870-759B9DE539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120920" y="2438280"/>
            <a:ext cx="4448160" cy="375300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403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Assegn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761D-4378-4B9F-9A89-925C8BF38C2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20920" y="2438280"/>
            <a:ext cx="4448160" cy="34480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la 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2520" y="838080"/>
            <a:ext cx="3124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ila d=c;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è diverso da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ila d; d=c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ED6-8536-43CD-A51B-550783D9C3E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EA2D-26D0-4261-B276-4E41F7B4E5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44800" y="1676520"/>
            <a:ext cx="5819400" cy="25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urier New"/>
              </a:rPr>
              <a:t>Pila (Pila &amp; from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=from.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=from.defGsi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=new int[from.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 k&lt;=from.marker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uto[k]=from.contenuto[k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=from.mark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17760" y="5410080"/>
            <a:ext cx="723960" cy="947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58360" y="5638680"/>
            <a:ext cx="42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in Java il problema non si p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120920" y="2438280"/>
            <a:ext cx="4448160" cy="3448080"/>
          </a:xfrm>
          <a:prstGeom prst="rect">
            <a:avLst/>
          </a:prstGeom>
          <a:solidFill>
            <a:srgbClr val="cc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nt k=0;k&lt;5;k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.inserisci(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il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=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.inserisci(1+d.estrai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&lt;&lt;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914400" cy="795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76320"/>
            <a:ext cx="3200400" cy="6781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[5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z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Gsiz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rker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0][1][2][3]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[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================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~Pila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4080" y="838080"/>
            <a:ext cx="4648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py</a:t>
            </a: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7FFA-DB78-4FA4-BE8D-079F2630AE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py constru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F419-C740-4493-A3D6-4BB7BBF5663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010280" y="0"/>
          <a:ext cx="914400" cy="7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0"/>
                    <a:ext cx="914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 a parte Pila d=c; a che 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Times New Roman"/>
              </a:rPr>
              <a:t>Pila c; Pila * s=new Pila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Times New Roman"/>
              </a:rPr>
              <a:t>Pila *c=new Pila; Pila *s=new Pila(*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9900"/>
                </a:solidFill>
                <a:latin typeface="Times New Roman"/>
              </a:rPr>
              <a:t>Pila *c=new Pila; Pila s=*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a soprattutto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ila c;  f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1:34:06Z</dcterms:created>
  <dc:creator>Marco Ronchetti</dc:creator>
  <dc:description/>
  <dc:language>en-US</dc:language>
  <cp:lastModifiedBy>Marco Ronchetti</cp:lastModifiedBy>
  <dcterms:modified xsi:type="dcterms:W3CDTF">2003-03-31T08:33:17Z</dcterms:modified>
  <cp:revision>19</cp:revision>
  <dc:subject/>
  <dc:title>Pila 1</dc:title>
</cp:coreProperties>
</file>