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1970-1921-40F0-AB04-C8D0B52E9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3E60-7FF2-4623-8CC7-5299EE265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69D7-C379-4B04-9211-048A5DC3C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4DEB-449E-47E8-B416-CE25C81AC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2E8D-0B47-49F3-95F8-FD862BC0C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3AD4-84C4-477C-B4B2-1081A8F93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CC72-4688-463E-8EFF-57477461A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6CC0-9D3F-4868-8CF5-6E7E5151C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619D-CED4-41D9-9254-2EBFCC7D7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D305-726F-43D3-934E-3380B4958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00DF-DB80-4750-9497-F4FDA0650A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6B92-C32F-4CAF-BC74-C2D20CF2F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4BE8-B6DF-4333-AF14-6B32D31DB3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366280" y="2286000"/>
            <a:ext cx="398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lass 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iva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// VARIABILI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har * 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9F9-2817-45EC-8539-F4385C05C4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4080" y="457200"/>
            <a:ext cx="5054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=*z+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="&lt;UHU&gt;"+k+t+k+"&lt;UHU&gt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k:"&lt;&lt;k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*z:"&lt;&lt;*z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z=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*z:"&lt;&lt;*z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"-------------"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:"&lt;&lt;w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k=w+w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k:"&lt;&lt;k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:"&lt;&lt;w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k==w"&lt;&lt;k.equals(w)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==k"&lt;&lt;w.equals(k)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6280" y="54864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D6B-D0F1-408E-AB5B-31B344BD05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8040" y="457200"/>
            <a:ext cx="527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s:pi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pi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==s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pi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: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:&lt;UHU&gt;hellopippo-hellopippo&lt;UH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: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z:&lt;UHU&gt;hellopippo-hellopippo&lt;UH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pi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:pippopi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pi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: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=w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==k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13920" y="5526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7269-FE0B-4E3E-8300-3BDB9AC9BF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79600" y="14479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sercizi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362320"/>
            <a:ext cx="6607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costruttor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char * 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copy constructor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il distrutt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B078-8663-435F-9A25-9185E27C90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4320" y="1371600"/>
            <a:ext cx="8445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::String (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=new char[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base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::String (char *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alcola la lunghezza (escluso il carattere di terminazio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=strlen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lloca lo spa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=new char[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pia la stringa su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base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0200" y="38088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zione 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F181-AF60-4925-9742-BFB167AE2F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371600"/>
            <a:ext cx="68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::String(String &amp; s){ //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=s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=new char[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base,s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::~String (){ // DI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[]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0560" y="38088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zione 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3C6-36FB-4AE0-B69A-7B560CDEBC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9600" y="14479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sercizi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362320"/>
            <a:ext cx="660708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metodi di serviz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id strcpy(char * to, const char * fro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strlen(const char *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ol strcmp(char * 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ar * 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id append(char * s, char *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C33-43F7-45AA-98A7-C534BE406E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1520" y="1371600"/>
            <a:ext cx="744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tring::strcpy(char * to, const char * from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ssume che *from sia corretta (null termin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ssume che *to abbia allocato uno spazio suf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*to++ = *from++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tring::strlen(const char *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s==NULL) 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t length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*(s++)) length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0200" y="38088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zione 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B5C-5D94-42A3-8497-C8E94C6808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5400" y="1066680"/>
            <a:ext cx="732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String::strcmp(const char * s,const char * w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ssume che *s e *w siano corrette (null termin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*s++!=*w++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while (*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*w !=0 ) return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2880" y="45720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zione 2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65120" y="4724280"/>
            <a:ext cx="686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tring::append(char * s, int slen, const char *w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+=s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s,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0C17-3A69-4DEF-838C-8F8E87AF9D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79600" y="14479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sercizio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362320"/>
            <a:ext cx="6607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operatore di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il test di uguagl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4400" y="4572000"/>
            <a:ext cx="59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ue String sono uguali se e’ uguale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uto  della stringa (char*)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se possied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616D-80FA-4E96-B75B-0E50714A22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9080" y="2209680"/>
            <a:ext cx="693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tream &amp; operator&lt;&lt;(ostream &amp;sx, const String &amp;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x&lt;&lt;s.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s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98960" y="533520"/>
            <a:ext cx="25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zione 3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perator&lt;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468-0BE6-447A-938D-F03C0D69A2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83DC-CBA3-4F40-B4BC-FD895DA114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66074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 metodi di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ostruttor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, Strin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har * 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distrut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operatore di output (self-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'operatore di assegnazion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'operatore di confronto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160" y="4800600"/>
            <a:ext cx="592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ue String sono uguali se e’ uguale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uto  della stringa (char*) 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se possied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4480" y="2209680"/>
            <a:ext cx="437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String::equals(String &amp; 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strcmp(base,s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eserciz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tt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overloading di =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5640" y="533520"/>
            <a:ext cx="262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zione 3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A080-426E-4EBF-8A97-76BA08907A9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79600" y="14479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sercizio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362320"/>
            <a:ext cx="660708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operatore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D4F9-8C76-4590-BDF7-B891F2712D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4320" y="152280"/>
            <a:ext cx="8445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&amp; String::operator=(const String &amp;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&amp;s==this) return *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=s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[]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=new char[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base,s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*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&amp; String::operator=(const char *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alcola la lunghezza (escluso il carattere di terminazio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=strlen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[]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lloca lo spa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=new char[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pia la stringa su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base,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*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3600" y="53352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perator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D087-B617-4FD0-8CB2-0C7AEBC1EC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79600" y="14479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sercizio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2362320"/>
            <a:ext cx="660708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funzioni addi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DB2D-28E4-413B-8E24-6A5FD73A46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4920" y="533520"/>
            <a:ext cx="891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bool endsWith(String &amp; s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 confronta la terminazione delle 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bool startsWith(String &amp; s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fronta l’inizio delle 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char c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restituisce la posizione della prima occorr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el caratter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char c, int from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restituisce la posizione del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occorrenza del carattere c dopo la posizion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String s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posizione della prima occorr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ella sottostringa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String s, int from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posizione del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occorrenza della sottostringa s dopo la posizion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subString(int from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sottostringa che iniz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lla posizion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subString(int from, int to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sottostringa che 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alla posizione from alla posizion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toLowerCase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 restituisce una stringa uguale ma in minus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toUpperCase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 restituisce una stringa uguale ma in maius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9FF5-BEAB-4F0C-9250-1013222983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78520" y="144792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ugg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429000"/>
            <a:ext cx="6607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 &gt; ‘A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 = ‘A’+(‘a’-A’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’ = ‘B’+(‘a’-A’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80120" y="2362320"/>
            <a:ext cx="622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 realizzare la funzione toUpperCa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i noti 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D535-693B-4165-8F2D-96083561BD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9600" y="144792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sercizio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362320"/>
            <a:ext cx="660708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v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operatore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492-0773-4EDC-8F75-40038CBD14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125880" y="23623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oluzione 6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66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on memory leak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CC4-3672-4D34-8B3D-13E9804C8F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1320" y="380880"/>
            <a:ext cx="6785640" cy="265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&amp;  String::operator+(String &amp; righ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 temp=new char[length+right.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 temp1=temp+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temp,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temp1,right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turn new String(tem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14400" y="175248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perator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2800" y="3124080"/>
            <a:ext cx="6785640" cy="33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&amp;  String::operator+(String &amp; righ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 temp=new char[length+right.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* temp1=temp+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temp,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(temp1,right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ring *r=new String(tem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lete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turn *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489800">
            <a:off x="4420800" y="18280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BAGLI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489800">
            <a:off x="6172920" y="5257440"/>
            <a:ext cx="24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CORRE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EE99-0EF7-4041-BDFD-BF7C1377F5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0920" y="1523880"/>
            <a:ext cx="518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&amp;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ring: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+(char *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w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(*this)+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&amp;  operator+(char * s,String &amp; 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w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w+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0960" y="198108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perator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2840" y="4038480"/>
            <a:ext cx="42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N e’ memb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ON e’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1136-5A79-426C-AC23-44BCB914CC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44E8-F14C-4B5D-8BFC-61180EBAE7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990720"/>
            <a:ext cx="660744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 metodi di "busines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lengh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ol compare(String &amp; 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append(String &amp; 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charAt(char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9240" y="609480"/>
            <a:ext cx="87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 operator+(char * s,char * 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w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v(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turn w+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[C++ Error] String.cpp(168): E2082 'operator +(char *,char *)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must be a member function or have a parameter of class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operator+(char * s,char * 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w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v(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turn w+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[C++ Error] String.cpp(178): E2080 'String::operator +(char *,char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' must be declared with one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8680" y="1295280"/>
            <a:ext cx="19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perator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2920" y="13716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50640" y="43434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E1F2-691F-43A4-B98A-276E8619FB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8840" y="533520"/>
            <a:ext cx="33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TTENZI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447920"/>
            <a:ext cx="660708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ressioni del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a,b,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a+b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no oggetti temporanei che non sono deallocat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3D2-63AE-4FD4-B6C0-197AE9F600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560" y="5335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e succed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8120" y="2057400"/>
            <a:ext cx="2971800" cy="3171960"/>
            <a:chOff x="3048120" y="2057400"/>
            <a:chExt cx="2971800" cy="3171960"/>
          </a:xfrm>
        </p:grpSpPr>
        <p:sp>
          <p:nvSpPr>
            <p:cNvPr id="143" name=""/>
            <p:cNvSpPr/>
            <p:nvPr/>
          </p:nvSpPr>
          <p:spPr>
            <a:xfrm>
              <a:off x="3048120" y="2057400"/>
              <a:ext cx="2971800" cy="31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=a+b+d+e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+d+e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+e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=        </a:t>
              </a: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t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3657240" y="2438280"/>
              <a:ext cx="304920" cy="6094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3962160" y="3124080"/>
              <a:ext cx="304920" cy="6094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5400000">
              <a:off x="4343040" y="3886200"/>
              <a:ext cx="304920" cy="6094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48C4-3B28-456E-9F06-DF8A54070D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5880" y="23623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oluzione 6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66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nza memory lea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C522-CC04-4730-B65A-5A826154F1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4840" y="685800"/>
            <a:ext cx="3987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lass 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// VARIABILI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har * 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ool tempora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4360" y="1790640"/>
            <a:ext cx="4018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::String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temporary=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::String (const char *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temporary=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::String(String &amp; s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temporary=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C03-6B32-46DE-9DC1-7797EAA6A3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96640" y="685800"/>
            <a:ext cx="6785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 String::operator+(String &amp; right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ar * temp=new char[length+right.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ar * temp1=temp+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cpy(temp,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cpy(temp1,right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*r=new String(tem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r-&gt;temporary=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lete te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f (this-&gt;temporary) delete 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turn *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41640" y="5334120"/>
            <a:ext cx="6426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ltima istruzione prima del retur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571640" y="4038120"/>
            <a:ext cx="10666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3089-CBED-48E6-98D9-0ABF0212FA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21240" y="1828800"/>
            <a:ext cx="575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&amp; String::operator=(const String &amp;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f (&amp;s==this) return *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ngth=s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lete []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ase=new char[length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cpy(base,s.bas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f (s.temporary) delete &amp;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turn *th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9A37-D8AB-4B1E-A474-1836679B5E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9360" y="228600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me posso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vedere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che funzio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352680"/>
            <a:ext cx="660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ili stat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23B6-B7BE-4625-8F72-EB7C4F08D6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73680" y="228600"/>
            <a:ext cx="652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lass 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 VARIABILI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ar * bas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length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ol tempora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tatic 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479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e’ UNA in comune per tutti gli oggetti di tipo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’ anche referenziabile dall’esterno come String::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0"/>
            <a:ext cx="80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nt String::n=0;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va inizializzata come una glo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out&lt;&lt;"#Strings: "&lt;&lt;String::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F1A9-3F79-4123-B568-3DD8717338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77120" y="380880"/>
            <a:ext cx="4018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::String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ut&lt;&lt;“C0 : “&lt;&lt;++n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::String (const char * s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ut&lt;&lt;“C  : “&lt;&lt;++n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::String(String &amp; s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ut&lt;&lt;“CC : “&lt;&lt;++n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: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()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ut&lt;&lt;“D  : “&lt;&lt;- -n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48D-8838-427C-8302-7C8E5D0404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19320"/>
            <a:ext cx="8153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isto che abbiamo scritto metodi collegato con gli operatori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assegnazione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=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uguaglianza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==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output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d60093"/>
                </a:solidFill>
                <a:latin typeface="Times New Roman"/>
              </a:rPr>
              <a:t>&lt;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vare (in maniera analoga) a definire gli operatori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input                      &gt;&gt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concatenazione     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A43D-7C45-4632-A49E-59100526C4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DA2E-BB70-476C-9370-4BEE724BBE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Esercizi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990720"/>
            <a:ext cx="660744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ivere e testare il metodo di 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4920" y="695160"/>
            <a:ext cx="891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bool endsWith(String &amp; s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 confronta la terminazione delle 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bool startsWith(String &amp; s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fronta l’inizio delle string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char c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restituisce la posizione della prima occorr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el caratter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char c, int from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restituisce la posizione del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occorrenza del carattere c dopo la posizion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String s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posizione della prima occorr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ella sottostringa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indexOf(String s, int from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posizione della pr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occorrenza della sottostringa s dopo la posizion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subString(int from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sottostringa che iniz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lla posizione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subString(int from, int to);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restituisce la sottostringa che 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alla posizione from alla posizion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toLowerCase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 restituisce una stringa uguale ma in minus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tring toUpperCase(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 restituisce una stringa uguale ma in maius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ing: altri metodi uti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ADAC-DC75-4FC5-AD47-6456D35941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2800" y="380880"/>
            <a:ext cx="6903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#include &lt;iostre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sing namespace st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============================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class 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// VARIABILI DI IST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har * 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t 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MET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 metodi interni di servizio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id strcpy(char * to, const char * fro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 strlen(const char *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ol strcmp(char * 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ar * 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id append(char * s, char *w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9240" y="533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117A-DA85-4D81-8124-9A7B9D09B3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7440" y="406440"/>
            <a:ext cx="8703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blic: //==============================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MET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 metodi essenziali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tring ()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(char *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ing (String 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~String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tring &amp; operator=(const String 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tring &amp; operator=(const char *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friend ostream &amp; operator&lt;&lt;(ostream &amp;sx, const String &amp;d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/ overloading dell'operatore + -------------------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tring &amp; operator+(String &amp; 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tring &amp;  operator+(char *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friend String &amp;  operator+(char * s,String &amp;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bool String::equals(String &amp; 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9240" y="5335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E00-8330-483D-B066-57BB5124D91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6240" y="457200"/>
            <a:ext cx="729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*s=new String ("pippo"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 co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*z=new String()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efaul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z="hello";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t("-"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 co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//NO!    String t="-"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k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efault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tring w=*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*s:"&lt;&lt;*s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:"&lt;&lt;w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==s"&lt;&lt;w.equals(*s)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"-------------"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:"&lt;&lt;w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*z:"&lt;&lt;*z&lt;&lt;endl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6280" y="54864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36B8-3B47-40C6-9615-002642FDA3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3-31T08:34:43Z</dcterms:modified>
  <cp:revision>19</cp:revision>
  <dc:subject/>
  <dc:title>Pila 1</dc:title>
</cp:coreProperties>
</file>