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4C2FF-5D12-451D-9018-659EFEF833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7524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36205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8C562-9FBE-4268-8BCA-3AEF8B75EF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24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0760" y="9140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6205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40760" y="36205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4DCFC-AA36-4D6B-BD8F-6E5D5A5D8E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7524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39920" y="9140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51240" y="9140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36205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39920" y="36205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51240" y="36205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92570-F4B4-4D8C-B77C-C25AEC4074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24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19F6E-6492-4D2E-8771-F10CFEEB84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7524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75CAF-E18F-4B07-838F-009B621087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7524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40760" y="9140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6E81B-AAD7-4FE1-99F2-0F97DB943B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24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FA197-94AE-4227-A780-95CD34FB14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09120" y="152280"/>
            <a:ext cx="85345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7DA13-F600-4F9D-B25B-21CDA433AB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24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0760" y="9140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36205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B1002-2FCB-40BC-9710-3EA4B85C9B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7524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0760" y="9140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40760" y="36205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BBC75-F2C8-481D-A0FD-2FF62D10D5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7524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0760" y="9140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36205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FCF26-FDC3-4C48-AE70-06CFED5818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0" y="-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CF4F-871D-458C-A3C5-7DFDAA68CE0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361960" y="990360"/>
            <a:ext cx="4343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Multiple</a:t>
            </a:r>
            <a:br>
              <a:rPr sz="4400"/>
            </a:b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inheritance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55F5D-A4F7-4967-B5F3-FDBD69A3D05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" name=""/>
          <p:cNvGraphicFramePr/>
          <p:nvPr/>
        </p:nvGraphicFramePr>
        <p:xfrm>
          <a:off x="7010280" y="304920"/>
          <a:ext cx="914400" cy="79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304920"/>
                    <a:ext cx="91440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697040" y="2505240"/>
            <a:ext cx="57704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914040"/>
            <a:ext cx="5562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...e rendiamole complesse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3EBA7-60CD-4E24-87C0-F3176901D6D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7010280" y="304920"/>
          <a:ext cx="914400" cy="79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304920"/>
                    <a:ext cx="91440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0" name=""/>
          <p:cNvGrpSpPr/>
          <p:nvPr/>
        </p:nvGrpSpPr>
        <p:grpSpPr>
          <a:xfrm>
            <a:off x="304920" y="1905120"/>
            <a:ext cx="4647960" cy="4518000"/>
            <a:chOff x="304920" y="1905120"/>
            <a:chExt cx="4647960" cy="4518000"/>
          </a:xfrm>
        </p:grpSpPr>
        <p:pic>
          <p:nvPicPr>
            <p:cNvPr id="111" name="" descr=""/>
            <p:cNvPicPr/>
            <p:nvPr/>
          </p:nvPicPr>
          <p:blipFill>
            <a:blip r:embed="rId3"/>
            <a:stretch/>
          </p:blipFill>
          <p:spPr>
            <a:xfrm>
              <a:off x="304920" y="1905120"/>
              <a:ext cx="4647960" cy="451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2666880" y="3222720"/>
              <a:ext cx="1524240" cy="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191120" y="3222720"/>
              <a:ext cx="0" cy="60948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873320" y="3559320"/>
            <a:ext cx="3847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cc"/>
                </a:solidFill>
                <a:latin typeface="Times New Roman"/>
              </a:rPr>
              <a:t>Che succede quand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cc"/>
                </a:solidFill>
                <a:latin typeface="Times New Roman"/>
              </a:rPr>
              <a:t>accedo da C a A::f() ?</a:t>
            </a:r>
            <a:r>
              <a:rPr b="0" lang="it-IT" sz="2400" spc="-1" strike="noStrike">
                <a:solidFill>
                  <a:srgbClr val="ff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86760" y="762120"/>
            <a:ext cx="6839280" cy="1922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B2: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public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2() {cout &lt;&lt; "calling constructor of B2" &lt;&lt; endl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 f2() { cout &lt;&lt; "calling f2 in B2" &lt;&lt; endl;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5105520"/>
            <a:ext cx="6858000" cy="703800"/>
          </a:xfrm>
          <a:prstGeom prst="rect">
            <a:avLst/>
          </a:prstGeom>
          <a:solidFill>
            <a:srgbClr val="ff9900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C++ Error] MultipleInheritance.cpp(31): E2014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mber is ambiguous: 'A::f' and 'A::f'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94760" y="3505320"/>
            <a:ext cx="352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Compiler err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B9361-B238-4524-9306-8804749F8E9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001000" y="228600"/>
            <a:ext cx="914400" cy="7952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!Error!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46320" y="1346040"/>
            <a:ext cx="8562600" cy="314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B1 :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virtua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public A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1() {cout &lt;&lt; "calling constructor of B1" &lt;&lt; endl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f1() { cout &lt;&lt; "calling f1 in B1" &lt;&lt; endl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B2: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virtua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public A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2() {cout &lt;&lt; "calling constructor of B2" &lt;&lt; endl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f2() { cout &lt;&lt; "calling f2 in B2" &lt;&lt; endl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34267-DFB4-43DE-818D-040106194B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001000" y="228600"/>
            <a:ext cx="914400" cy="7952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Fix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539640" y="1136520"/>
            <a:ext cx="3533760" cy="4972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B1 * b1=new B1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b1-&gt;f1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b1-&gt;f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B2 * b2=new B2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b2-&gt;f2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b2-&gt;f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3399"/>
                </a:solidFill>
                <a:latin typeface="Courier New"/>
              </a:rPr>
              <a:t>C * c=new C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c-&gt;f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c-&gt;f1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c-&gt;f2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1066680"/>
            <a:ext cx="3048120" cy="5582520"/>
          </a:xfrm>
          <a:prstGeom prst="rect">
            <a:avLst/>
          </a:prstGeom>
          <a:solidFill>
            <a:srgbClr val="cc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alling constructor of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alling constructor of B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alling f1 in B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alling f in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alling constructor of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alling constructor of B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alling f2 in B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alling f in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imes New Roman"/>
              </a:rPr>
              <a:t>calling constructor of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imes New Roman"/>
              </a:rPr>
              <a:t>calling constructor of B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imes New Roman"/>
              </a:rPr>
              <a:t>calling constructor of B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imes New Roman"/>
              </a:rPr>
              <a:t>calling constructor of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calling f in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calling f1 in B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calling f2 in B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CB096-7B46-4A00-A0F9-086E1AD48E0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001000" y="228600"/>
            <a:ext cx="914400" cy="7952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Funziona. Ma che vuol dire?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11400" y="1219320"/>
            <a:ext cx="3838320" cy="1313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class A{public: int x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B1:public A{…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B2:public A{…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C:public B1,B2{…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CABA5-D488-4293-864E-82965E0D962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8001000" y="228600"/>
            <a:ext cx="914400" cy="79524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Funziona. Ma che vuol dire?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2895480"/>
            <a:ext cx="2819520" cy="2667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3124080"/>
            <a:ext cx="1066680" cy="1676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47920" y="3276720"/>
            <a:ext cx="53316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23880" y="3352680"/>
            <a:ext cx="381240" cy="381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3124080"/>
            <a:ext cx="1066680" cy="1676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90920" y="3276720"/>
            <a:ext cx="53316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66880" y="3352680"/>
            <a:ext cx="381240" cy="381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2895480"/>
            <a:ext cx="2819160" cy="2667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124080"/>
            <a:ext cx="1067040" cy="1676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553080" y="3124080"/>
            <a:ext cx="1067040" cy="1676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248520" y="3276720"/>
            <a:ext cx="53316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24480" y="3352680"/>
            <a:ext cx="381240" cy="381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08480" y="1219320"/>
            <a:ext cx="4600080" cy="1313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class A{public: int x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B1:</a:t>
            </a:r>
            <a:r>
              <a:rPr b="1" lang="en-US" sz="2000" spc="-1" strike="noStrike">
                <a:solidFill>
                  <a:srgbClr val="ff3399"/>
                </a:solidFill>
                <a:latin typeface="Courier New"/>
              </a:rPr>
              <a:t>virtua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public A{…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B2:</a:t>
            </a:r>
            <a:r>
              <a:rPr b="1" lang="en-US" sz="2000" spc="-1" strike="noStrike">
                <a:solidFill>
                  <a:srgbClr val="ff3399"/>
                </a:solidFill>
                <a:latin typeface="Courier New"/>
              </a:rPr>
              <a:t>virtua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public A{…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C:public B1,B2{…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22840" y="736560"/>
            <a:ext cx="5523840" cy="5887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include &lt;iostream.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A { public: int x;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A1 :  public A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id f1(int k) {x=k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A2:  public A{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id f2(int k) {x=k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A3:  public A1,  public A2 {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 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3 * a3=new A3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3-&gt;f1(3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3-&gt;f2(6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t&lt;&lt;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3-&gt;A2::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&lt;"==="&lt;&lt;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3-&gt;A1::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&lt;end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3809880"/>
            <a:ext cx="1143000" cy="398880"/>
          </a:xfrm>
          <a:prstGeom prst="rect">
            <a:avLst/>
          </a:prstGeom>
          <a:solidFill>
            <a:srgbClr val="cc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6===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724280" y="4343400"/>
            <a:ext cx="266724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ore di 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4495680" y="4800600"/>
            <a:ext cx="990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2437920" y="4800600"/>
            <a:ext cx="2514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73698-B667-4D80-8E71-CB19C27034B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8001000" y="228600"/>
            <a:ext cx="914400" cy="79524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operatore di scope (1)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22840" y="736560"/>
            <a:ext cx="5523840" cy="5887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include &lt;iostream.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A { public: int x;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A1 : 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virtu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ublic A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id f1(int k) {x=k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A2: 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virtu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ublic A{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id f2(int k) {x=k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A3:  public A1,  public A2 {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 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3 * a3=new A3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3-&gt;f1(3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3-&gt;f2(6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t&lt;&lt;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3-&gt;A2::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&lt;"==="&lt;&lt;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3-&gt;A1::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&lt;end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629400" y="3809880"/>
            <a:ext cx="1143000" cy="398880"/>
          </a:xfrm>
          <a:prstGeom prst="rect">
            <a:avLst/>
          </a:prstGeom>
          <a:solidFill>
            <a:srgbClr val="cc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6===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DE3C3-5D2D-4CA7-BCC9-98526C4CE49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8001000" y="228600"/>
            <a:ext cx="914400" cy="79524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operatore di scope (2)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22840" y="736560"/>
            <a:ext cx="5523840" cy="5887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include &lt;iostream.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A { public: int x;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A1 : 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virtu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ublic A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id f1(int k) {x=k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A2:  public A{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id f2(int k) {x=k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A3:  public A1,  public A2 {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 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3 * a3=new A3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3-&gt;f1(3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3-&gt;f2(6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t&lt;&lt;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3-&gt;A2::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&lt;"==="&lt;&lt;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3-&gt;A1::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&lt;end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629400" y="3809880"/>
            <a:ext cx="1143000" cy="398880"/>
          </a:xfrm>
          <a:prstGeom prst="rect">
            <a:avLst/>
          </a:prstGeom>
          <a:solidFill>
            <a:srgbClr val="cc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6===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2E187-63D4-4DC3-B84C-222958C19DB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001000" y="228600"/>
            <a:ext cx="914400" cy="79524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operatore di scope (3)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61960" y="3047760"/>
            <a:ext cx="4343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Inheritance vs. delegation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D45E9-616A-4F1B-8433-98EC37D346E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7010280" y="304920"/>
          <a:ext cx="914400" cy="79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304920"/>
                    <a:ext cx="91440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533520" y="228600"/>
            <a:ext cx="723960" cy="9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06360" y="762120"/>
            <a:ext cx="4448160" cy="405792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nclude &lt;iostream.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A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setX(int k){x=k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getX(){return x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B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:public A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setY(int k){y=k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getY(){return y;}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83200" y="4648320"/>
            <a:ext cx="5362200" cy="1923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 b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.setX(3);  b.setY(4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&lt;&lt;b.getY()&lt;&lt;“ “&lt;&lt;b.getX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70F6F-ED21-432B-B96F-C4C1768BCFA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Inheritance...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010280" y="304920"/>
            <a:ext cx="91440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70000" y="1117440"/>
            <a:ext cx="8562600" cy="4667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nclude &lt;iostream.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class B1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B1() {cout &lt;&lt; "calling constructor of B1" &lt;&lt; endl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void f1() { cout &lt;&lt; "calling f1 in B1" &lt;&lt; endl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class B2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B2() {cout &lt;&lt; "calling constructor of B2" &lt;&lt; endl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void f2() { cout &lt;&lt; "calling f2 in B2" &lt;&lt; endl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C: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public B1,  public B2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() {cout &lt;&lt; "calling constructor of C" &lt;&lt; endl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CBAA2-0BE1-407A-A11A-22C90AAF765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001000" y="228600"/>
            <a:ext cx="914400" cy="795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Multiple Inheritance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17720" y="0"/>
            <a:ext cx="5057280" cy="680220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nclude &lt;iostream.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A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setX(int k){x=k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getX(){return x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B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A delegat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setY(int k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=k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getY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y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void setX(int k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delegate.setX(k)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int getX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return delegate.getX(k)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927600" y="2260440"/>
            <a:ext cx="5057640" cy="1923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 b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.setX(3);  b.setY(4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&lt;&lt;b.getY()&lt;&lt;“ “&lt;&lt;b.getX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34EC8-748E-4D3B-A475-CECD46CE588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14600" y="533160"/>
            <a:ext cx="4495680" cy="609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9900"/>
                </a:solidFill>
                <a:latin typeface="Times New Roman"/>
              </a:rPr>
              <a:t>...vs. Delegation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010280" y="304920"/>
            <a:ext cx="91440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63680" y="1270080"/>
            <a:ext cx="5057640" cy="314316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A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setX(int k){x=k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int getX(){return x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B extends A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setY(int k){y=k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int getY(){return y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793880" y="4699080"/>
            <a:ext cx="7191000" cy="1923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 b=new B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.setX(3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.setY(4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b.getY()+" "+b.getX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96E80-9257-4E6E-A82D-9691DA90A2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Inheritance...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600200" y="228600"/>
            <a:ext cx="723960" cy="9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3F88E-95C8-42D0-9889-D7D19624FFC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600200" y="228600"/>
            <a:ext cx="723960" cy="9478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17360" y="888840"/>
            <a:ext cx="5972040" cy="405792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A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setX(int k){x=k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int getX(){return x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B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private A a=new A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setY(int k){y=k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int getY(){return y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public void setX(int k){a.setX(k)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public int getX(){return a.getX()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793880" y="4699080"/>
            <a:ext cx="7191000" cy="1923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 b=new B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.setX(3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.setY(4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b.getY()+" "+b.getX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1640" y="152280"/>
            <a:ext cx="4267080" cy="609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...vs. Delegation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3400" y="1320840"/>
            <a:ext cx="4752720" cy="4483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1 * b1=new B1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1-&gt;f1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B2 * b2=new B2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b2-&gt;f2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C * c=new C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c-&gt;f1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c-&gt;f2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410080" y="1371600"/>
            <a:ext cx="3048120" cy="3753000"/>
          </a:xfrm>
          <a:prstGeom prst="rect">
            <a:avLst/>
          </a:prstGeom>
          <a:solidFill>
            <a:srgbClr val="cc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ing constructor of B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ing f1 in B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alling constructor of B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alling f2 in B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alling constructor of B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alling constructor of B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alling constructor of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calling f1 in B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calling f2 in B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1201D-32EC-45DD-B859-1D700B03313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001000" y="228600"/>
            <a:ext cx="914400" cy="7952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chiamata dei metodi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1960" y="990360"/>
            <a:ext cx="4343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Times New Roman"/>
              </a:rPr>
              <a:t>Pro e contro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1AEE4-87DE-4456-BF6F-12750C9B042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7010280" y="304920"/>
          <a:ext cx="914400" cy="79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304920"/>
                    <a:ext cx="91440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2763000" y="2556000"/>
            <a:ext cx="341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Comoda, perchè in C+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le gerarchie di classi so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DISGIU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98920" y="4146480"/>
            <a:ext cx="174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Complessa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47960" y="-360"/>
            <a:ext cx="4343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Times New Roman"/>
              </a:rPr>
              <a:t>In Java...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A8257-7D71-47CF-978A-65FDD5404D1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60948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99"/>
                </a:solidFill>
                <a:latin typeface="Times New Roman"/>
              </a:rPr>
              <a:t>Come molte altre cose che complicano la vit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99"/>
                </a:solidFill>
                <a:latin typeface="Times New Roman"/>
              </a:rPr>
              <a:t>in Java NON C'E'! ma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99"/>
                </a:solidFill>
                <a:latin typeface="Times New Roman"/>
              </a:rPr>
              <a:t>...ci sono le INTERFAC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99"/>
                </a:solidFill>
                <a:latin typeface="Times New Roman"/>
              </a:rPr>
              <a:t>(classi COMPLETAMENTE astratte, senza variabili di istanz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7960" y="2514600"/>
            <a:ext cx="74952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interface Storabl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   </a:t>
            </a: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setValue(int k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   </a:t>
            </a: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int getValu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interface Counter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   </a:t>
            </a: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setCount(int k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   </a:t>
            </a: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int getCou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class A</a:t>
            </a: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009900"/>
                </a:solidFill>
                <a:latin typeface="Courier New"/>
              </a:rPr>
              <a:t>extends B</a:t>
            </a: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cc66ff"/>
                </a:solidFill>
                <a:latin typeface="Courier New"/>
              </a:rPr>
              <a:t>implements Storable, Counter</a:t>
            </a: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... Storable x=new A();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23960" cy="9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61960" y="914040"/>
            <a:ext cx="4343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"Diamond" Multiple Inheritance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18F67-6F6D-4172-8C94-1C009FDCD32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7010280" y="304920"/>
          <a:ext cx="914400" cy="79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304920"/>
                    <a:ext cx="91440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2209680" y="2187720"/>
            <a:ext cx="464832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914040"/>
            <a:ext cx="5562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ominciamo con le cose semplici...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0AA28-7368-4750-B011-E99C76110CD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7010280" y="304920"/>
          <a:ext cx="914400" cy="79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304920"/>
                    <a:ext cx="91440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4027320" y="2392200"/>
            <a:ext cx="917640" cy="632160"/>
          </a:xfrm>
          <a:prstGeom prst="rect">
            <a:avLst/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21880" y="245592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27320" y="2724120"/>
            <a:ext cx="917640" cy="30024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27320" y="2851200"/>
            <a:ext cx="917640" cy="17316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414520" y="4162320"/>
            <a:ext cx="917640" cy="647640"/>
          </a:xfrm>
          <a:prstGeom prst="rect">
            <a:avLst/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47160" y="422604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414520" y="4510080"/>
            <a:ext cx="917640" cy="29988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14520" y="4635360"/>
            <a:ext cx="917640" cy="17460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56320" y="4083120"/>
            <a:ext cx="901800" cy="647640"/>
          </a:xfrm>
          <a:prstGeom prst="rect">
            <a:avLst/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71320" y="414648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56320" y="4414680"/>
            <a:ext cx="901800" cy="31608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656320" y="4541760"/>
            <a:ext cx="901800" cy="18900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27320" y="5869080"/>
            <a:ext cx="917640" cy="631800"/>
          </a:xfrm>
          <a:prstGeom prst="rect">
            <a:avLst/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422240" y="59310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027320" y="6200640"/>
            <a:ext cx="917640" cy="30024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27320" y="6326280"/>
            <a:ext cx="917640" cy="17460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549680" y="3024360"/>
            <a:ext cx="1800" cy="47448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57680" y="3498840"/>
            <a:ext cx="1714320" cy="648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38800" y="3024360"/>
            <a:ext cx="222120" cy="299880"/>
          </a:xfrm>
          <a:custGeom>
            <a:avLst/>
            <a:gdLst/>
            <a:ahLst/>
            <a:rect l="l" t="t" r="r" b="b"/>
            <a:pathLst>
              <a:path w="140" h="189">
                <a:moveTo>
                  <a:pt x="70" y="0"/>
                </a:moveTo>
                <a:lnTo>
                  <a:pt x="140" y="189"/>
                </a:lnTo>
                <a:lnTo>
                  <a:pt x="0" y="189"/>
                </a:lnTo>
                <a:lnTo>
                  <a:pt x="7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70480" y="4730760"/>
            <a:ext cx="1628640" cy="1138320"/>
          </a:xfrm>
          <a:custGeom>
            <a:avLst/>
            <a:gdLst/>
            <a:ahLst/>
            <a:rect l="l" t="t" r="r" b="b"/>
            <a:pathLst>
              <a:path w="103" h="72">
                <a:moveTo>
                  <a:pt x="0" y="72"/>
                </a:moveTo>
                <a:lnTo>
                  <a:pt x="0" y="41"/>
                </a:lnTo>
                <a:lnTo>
                  <a:pt x="103" y="41"/>
                </a:lnTo>
                <a:lnTo>
                  <a:pt x="103" y="0"/>
                </a:lnTo>
              </a:path>
            </a:pathLst>
          </a:cu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87880" y="4730760"/>
            <a:ext cx="222480" cy="299880"/>
          </a:xfrm>
          <a:custGeom>
            <a:avLst/>
            <a:gdLst/>
            <a:ahLst/>
            <a:rect l="l" t="t" r="r" b="b"/>
            <a:pathLst>
              <a:path w="140" h="189">
                <a:moveTo>
                  <a:pt x="70" y="0"/>
                </a:moveTo>
                <a:lnTo>
                  <a:pt x="140" y="189"/>
                </a:lnTo>
                <a:lnTo>
                  <a:pt x="0" y="189"/>
                </a:lnTo>
                <a:lnTo>
                  <a:pt x="7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57680" y="4809960"/>
            <a:ext cx="1612800" cy="1059120"/>
          </a:xfrm>
          <a:custGeom>
            <a:avLst/>
            <a:gdLst/>
            <a:ahLst/>
            <a:rect l="l" t="t" r="r" b="b"/>
            <a:pathLst>
              <a:path w="102" h="67">
                <a:moveTo>
                  <a:pt x="102" y="67"/>
                </a:moveTo>
                <a:lnTo>
                  <a:pt x="102" y="36"/>
                </a:lnTo>
                <a:lnTo>
                  <a:pt x="0" y="36"/>
                </a:lnTo>
                <a:lnTo>
                  <a:pt x="1" y="0"/>
                </a:lnTo>
              </a:path>
            </a:pathLst>
          </a:cu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47880" y="4809960"/>
            <a:ext cx="220680" cy="300240"/>
          </a:xfrm>
          <a:custGeom>
            <a:avLst/>
            <a:gdLst/>
            <a:ahLst/>
            <a:rect l="l" t="t" r="r" b="b"/>
            <a:pathLst>
              <a:path w="139" h="189">
                <a:moveTo>
                  <a:pt x="79" y="0"/>
                </a:moveTo>
                <a:lnTo>
                  <a:pt x="139" y="189"/>
                </a:lnTo>
                <a:lnTo>
                  <a:pt x="0" y="189"/>
                </a:lnTo>
                <a:lnTo>
                  <a:pt x="79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857680" y="3498480"/>
            <a:ext cx="1440" cy="66348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70000" y="431640"/>
            <a:ext cx="8562600" cy="5887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class A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A() {cout &lt;&lt; "calling constructor of A" &lt;&lt; endl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void f() { cout &lt;&lt; "calling f in A" &lt;&lt; endl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class B1 : public A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B1() {cout &lt;&lt; "calling constructor of B1" &lt;&lt; endl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void f1() { cout &lt;&lt; "calling f1 in B1" &lt;&lt; endl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urier New"/>
              </a:rPr>
              <a:t>class B2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3399"/>
                </a:solidFill>
                <a:latin typeface="Courier New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3399"/>
                </a:solidFill>
                <a:latin typeface="Courier New"/>
              </a:rPr>
              <a:t>B2() {cout &lt;&lt; "calling constructor of B2" &lt;&lt; endl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3399"/>
                </a:solidFill>
                <a:latin typeface="Courier New"/>
              </a:rPr>
              <a:t>void f2() { cout &lt;&lt; "calling f2 in B2" &lt;&lt; endl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class C:  public B2,  public B1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C() {cout &lt;&lt; "calling constructor of C" &lt;&lt; endl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EE279-F11D-4D64-ABB9-03DB24AE48A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001000" y="228600"/>
            <a:ext cx="914400" cy="7952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33360" y="152280"/>
            <a:ext cx="5181480" cy="609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Quali metodi ha C?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63320" y="1365120"/>
            <a:ext cx="3533760" cy="3753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B1 * a1=new B1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b1-&gt;f1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b1-&gt;f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B2 * b2=new B2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b2-&gt;f2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C * c=new C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3399"/>
                </a:solidFill>
                <a:latin typeface="Courier New"/>
              </a:rPr>
              <a:t>c-&gt;f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3399"/>
                </a:solidFill>
                <a:latin typeface="Courier New"/>
              </a:rPr>
              <a:t>c-&gt;f1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3399"/>
                </a:solidFill>
                <a:latin typeface="Courier New"/>
              </a:rPr>
              <a:t>c-&gt;f2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00600" y="1371600"/>
            <a:ext cx="3048120" cy="4972680"/>
          </a:xfrm>
          <a:prstGeom prst="rect">
            <a:avLst/>
          </a:prstGeom>
          <a:solidFill>
            <a:srgbClr val="cc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alling constructor of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alling constructor of B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alling f1 in B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alling f in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calling constructor of B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calling f2 in B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alling constructor of B2 calling constructor of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alling constructor of B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alling constructor of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imes New Roman"/>
              </a:rPr>
              <a:t>calling f in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imes New Roman"/>
              </a:rPr>
              <a:t>calling f1 in B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imes New Roman"/>
              </a:rPr>
              <a:t>calling f2 in B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1D068-A46F-4F76-B5EA-A23B658D608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001000" y="228600"/>
            <a:ext cx="914400" cy="7952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Esempio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8T11:34:06Z</dcterms:created>
  <dc:creator>Marco Ronchetti</dc:creator>
  <dc:description/>
  <dc:language>en-US</dc:language>
  <cp:lastModifiedBy>Marco Ronchetti</cp:lastModifiedBy>
  <dcterms:modified xsi:type="dcterms:W3CDTF">2003-04-07T11:06:21Z</dcterms:modified>
  <cp:revision>19</cp:revision>
  <dc:subject/>
  <dc:title>Pila 1</dc:title>
</cp:coreProperties>
</file>