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DDF7-A08E-4B8A-86B8-6191881D2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CC6A-CD7C-4A8E-A0D6-D6DF364D9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4D2F-3F1D-4C4C-8651-9563AEDB1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5E75-2D18-41AA-9445-DF65D5CABA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82A0-31E8-430C-97A0-980496D22F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11DA-2CDB-4197-AAC9-D2289807C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BD23-35EA-498C-A555-237998ACF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2BAD-005E-46A8-B386-487BF4E10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5345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DEB8-E09D-4F54-BE77-D0C52B334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E899-52B6-457C-A01B-3C9951E10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96F1-ED47-468E-9299-598AEA9BC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45EE-D701-4B08-B163-4353FD53F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-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8F30-EF33-4F0D-A314-FDFDAA4F3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61960" y="304776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ast control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9AB5-FBED-4076-A15D-11908A137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2396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dynamic cas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6095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 *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=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!=NULL) s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rcle * c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ynamic_cast&lt;Circle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c!=NULL) c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quare * q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ynamic_cast&lt;Square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q!=NULL) q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 * o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ynamic_cast&lt;Other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o!=NULL) o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BFC3-339A-406B-A3CD-98FDC603A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9608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6040" y="5451480"/>
            <a:ext cx="37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Shape HA metodi virt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say non è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4724280"/>
            <a:ext cx="34290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shape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circle-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dynamic cas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6095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 *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=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!=NULL) s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rcle * c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ynamic_cast&lt;Circle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c!=NULL) c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quare * q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ynamic_cast&lt;Square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q!=NULL) q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 * o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ynamic_cast&lt;Other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o!=NULL) o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B2EE-7EB9-4725-B8A0-7BB9695A4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9608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96040" y="5451480"/>
            <a:ext cx="37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Shape HA metodi virt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say è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4724280"/>
            <a:ext cx="34290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circle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circle-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304776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Static</a:t>
            </a:r>
            <a:br>
              <a:rPr sz="4400"/>
            </a:b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 </a:t>
            </a:r>
            <a:br>
              <a:rPr sz="4400"/>
            </a:b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BEFA-4F36-4F6A-9C76-BA309D235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72396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120" y="91404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a Stringa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inimal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038120" y="2209680"/>
            <a:ext cx="48006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a::String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&lt;&lt;"Stringa ()"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gth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=new char[length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0]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a::~String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unt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&lt;&lt;"~Stringa"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 []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D560-0F80-48DC-9B99-127EF4F8B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320" y="304920"/>
            <a:ext cx="3886200" cy="373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String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 int cou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a(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irtual ~Stringa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nt Stringa::count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4648320"/>
            <a:ext cx="2362320" cy="1295280"/>
          </a:xfrm>
          <a:prstGeom prst="wedgeRoundRectCallout">
            <a:avLst>
              <a:gd name="adj1" fmla="val 472"/>
              <a:gd name="adj2" fmla="val -10208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izia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una vari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Arrays di variabili automatich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800600" cy="281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a s[5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&lt;&lt;Stringa::count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2350-E22B-477D-8368-67A7446CB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76212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943600" y="1905120"/>
            <a:ext cx="2514600" cy="350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Arrays di variabili dinamich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4800600" cy="388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a *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=new Stringa[5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&lt;&lt;Stringa::count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lete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&lt;&lt;Stringa::count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6982-832B-4CCE-9494-9F7AC1DF5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934320" y="76212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943600" y="1905120"/>
            <a:ext cx="251460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5486400"/>
            <a:ext cx="2362320" cy="914400"/>
          </a:xfrm>
          <a:prstGeom prst="wedgeRoundRectCallout">
            <a:avLst>
              <a:gd name="adj1" fmla="val 52083"/>
              <a:gd name="adj2" fmla="val -171009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blemi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distrutto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800600" cy="3810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a *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=new Stringa[5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&lt;&lt;Stringa::count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elete []s</a:t>
            </a:r>
            <a:r>
              <a:rPr b="1" lang="it-IT" sz="18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&lt;&lt;Stringa::count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4EC2-5354-4D0C-8F7B-A6E3A6920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3600" y="1905120"/>
            <a:ext cx="2514600" cy="380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6536-2785-4D3F-A817-F55F66C77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304920"/>
            <a:ext cx="6172200" cy="57909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String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lengt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char c[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ublic static int count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ring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Stringa ()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gth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=new char[length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0]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finaliz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ount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Stringa ()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2514600"/>
            <a:ext cx="2361960" cy="1295280"/>
          </a:xfrm>
          <a:prstGeom prst="wedgeRoundRectCallout">
            <a:avLst>
              <a:gd name="adj1" fmla="val -149462"/>
              <a:gd name="adj2" fmla="val -11997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izia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una vari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67080" y="304920"/>
            <a:ext cx="38102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Una Stringa</a:t>
            </a:r>
            <a:br>
              <a:rPr sz="4400"/>
            </a:b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minimal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886880" y="42840"/>
            <a:ext cx="72360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Arrays di variabili automatich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6019560" cy="2819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 a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a s[]=new Stringa[5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a.cou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=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gc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a.cou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CA02-7405-4B68-A3A9-725A85E7E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4191120"/>
            <a:ext cx="2514600" cy="76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2396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Arrays di variabili automatich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5943600" cy="3124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 a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a s[]=new Stringa[5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a.cou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 (int i=0;i&lt;5;i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[i]=new Stringa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=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gc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tringa.cou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1407-21C9-404C-9201-784CE04C0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72200" y="2819520"/>
            <a:ext cx="2514600" cy="380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String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1066680"/>
            <a:ext cx="2361960" cy="1600200"/>
          </a:xfrm>
          <a:prstGeom prst="wedgeRoundRectCallout">
            <a:avLst>
              <a:gd name="adj1" fmla="val -168009"/>
              <a:gd name="adj2" fmla="val 57837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reazione individuale degli elementi del vet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772400" cy="4191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ublic class Shap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ublic String toString() {return("i'm a Shape!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class Circle extends Shap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public String toString() {return("i'm a Circle!"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class Square extends Shap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public String toString() {return("i'm a Square!"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lass Other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blic String toString() {return("i'm an Other!"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8FE3-20B7-4B72-B688-A9214E8DB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2396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ntrollo dei cast illegali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6019560" cy="4114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=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ircle c=(Circle)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ystem.out.println(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Square q=(Square)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System.out.println(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Other o=(Other)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ystem.out.println(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3920-9C80-456F-8C79-53899C9BC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3733920"/>
            <a:ext cx="2743200" cy="1218960"/>
          </a:xfrm>
          <a:prstGeom prst="wedgeRoundRectCallout">
            <a:avLst>
              <a:gd name="adj1" fmla="val -154574"/>
              <a:gd name="adj2" fmla="val -19402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 compil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cast Shape to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2362320"/>
            <a:ext cx="2743200" cy="1218960"/>
          </a:xfrm>
          <a:prstGeom prst="wedgeRoundRectCallout">
            <a:avLst>
              <a:gd name="adj1" fmla="val -140800"/>
              <a:gd name="adj2" fmla="val 4010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 run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ast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7772400" cy="601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lass Shap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ublic: virtual void say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out&lt;&lt;" I'm a shape - address="&lt;&lt;this&lt;&lt;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Circle:Shap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public: virtual void say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cout&lt;&lt;" I'm a shape - address="&lt;&lt;this&lt;&lt;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class Square:Shap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public: virtual void say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cout&lt;&lt;" I'm a square - address="&lt;&lt;this&lt;&lt;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lass Other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blic: virtual void say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ut&lt;&lt;" I'm a other - address="&lt;&lt;this&lt;&lt;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0A53-39AA-427F-AD49-C47EF0D6C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ntrollo dei cast illegali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601956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 *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=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!=NULL) s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ircle * c=(Circle *)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f (c!=NULL) c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Square * q=(Square *)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if (q!=NULL) q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Other * o=(Other *)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f (o!=NULL) o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FACC-0895-4120-B90C-7F846F0D0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9608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05520" y="4038480"/>
            <a:ext cx="342900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circle-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circle-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circle-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circle-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828800"/>
            <a:ext cx="2362320" cy="914400"/>
          </a:xfrm>
          <a:prstGeom prst="wedgeRoundRectCallout">
            <a:avLst>
              <a:gd name="adj1" fmla="val -29300"/>
              <a:gd name="adj2" fmla="val 192708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SSUN CONTROLL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static cas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6019560" cy="396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 *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=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!=NULL) s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rcle * c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_cast&lt;Circle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c!=NULL) c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quare * q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_cast&lt;Square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q!=NULL) q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 * o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_cast&lt;Other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o!=NULL) o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C83A-8DCD-4F1E-A395-16EA4834A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9608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72200" y="3733920"/>
            <a:ext cx="2743200" cy="1218960"/>
          </a:xfrm>
          <a:prstGeom prst="wedgeRoundRectCallout">
            <a:avLst>
              <a:gd name="adj1" fmla="val -71527"/>
              <a:gd name="adj2" fmla="val -18226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 compil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cast Shape to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static cas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6019560" cy="396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 *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=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!=NULL) s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rcle * c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_cast&lt;Circle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c!=NULL) c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quare * q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_cast&lt;Square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q!=NULL) q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//Other * o=static_cast&lt;Other *&gt;(s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//if (o!=NULL) o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E458-908B-41E0-8158-05C0AFE84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9608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10080" y="4724280"/>
            <a:ext cx="34290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shape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circle-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square-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97480" y="5451480"/>
            <a:ext cx="36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NON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virtua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hape::sa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static cas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6019560" cy="3962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 *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=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!=NULL) s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rcle * c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_cast&lt;Circle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c!=NULL) c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quare * q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atic_cast&lt;Square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q!=NULL) q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//Other * o=static_cast&lt;Other *&gt;(s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//if (o!=NULL) o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D775-13AA-43D9-9C72-ED9E77749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9608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10080" y="4724280"/>
            <a:ext cx="34290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circle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circle-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'm a circle- address=008731D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95680" y="5451480"/>
            <a:ext cx="29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virtua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hape::sa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dynamic cas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6095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 *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=new Circl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!=NULL) s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rcle * c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ynamic_cast&lt;Circle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c!=NULL) c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quare * q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ynamic_cast&lt;Square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q!=NULL) q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 * o=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dynamic_cast&lt;Other *&gt;(s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o!=NULL) o-&gt;sa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28FC-EDE0-49AA-9EF6-6D923C98F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9608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7840" y="5451480"/>
            <a:ext cx="44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Shape NON HA metodi virt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1143000"/>
            <a:ext cx="2590560" cy="1600200"/>
          </a:xfrm>
          <a:prstGeom prst="wedgeRoundRectCallout">
            <a:avLst>
              <a:gd name="adj1" fmla="val -59495"/>
              <a:gd name="adj2" fmla="val 54462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 compil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is not a class with virtu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1:34:06Z</dcterms:created>
  <dc:creator>Marco Ronchetti</dc:creator>
  <dc:description/>
  <dc:language>en-US</dc:language>
  <cp:lastModifiedBy>Marco Ronchetti</cp:lastModifiedBy>
  <dcterms:modified xsi:type="dcterms:W3CDTF">2003-04-07T11:07:27Z</dcterms:modified>
  <cp:revision>21</cp:revision>
  <dc:subject/>
  <dc:title>Pila 1</dc:title>
</cp:coreProperties>
</file>