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DB57-66A7-4E25-8FDF-00A14DD77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F97E-1AB1-499F-8D2C-DE8F0436B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98B7-BE44-49D0-AB69-8CB7F3CB2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ED13-1B2A-4BA1-9975-8DD50DD88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518DD-7BC9-4378-B143-33E5A707B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F81B7-4E14-4604-A7D0-F2F536D3A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FE37F-3C05-4DF3-8240-A6F961448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3557C-D5D5-4147-A9C1-2D5942BD9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40FB0-3F4A-4EB4-B1B5-846DC761C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6B8B1-557E-4605-BC2F-B68F2A20E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94295-2862-4B0B-BB6B-9A3B64BD7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E7D1-1C72-4DBB-BDA9-8348C7531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C4CF8-E1C7-4D25-BE31-D2A7D8064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EF7E0-4D08-4125-9DA9-44556CAC1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1CB25-8B74-45FB-8823-6F406933B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ED328-1EB0-431D-AC80-12218E65B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2E23F-3F7F-4C29-A768-7E53C532E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C784-E457-4274-A437-8BF42E7DA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4529-BD9E-4751-A874-EF251CB82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0BB0-2314-4EAB-8D55-F832642A5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50E9-33E6-42BF-8A47-304FEE911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7F3C-65F7-4ACB-AF11-2A60466FB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C44A-0BBC-4C6D-A080-63B81B965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5AA4-D389-497E-92E8-2E3D2F2EE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0F1D6-671E-4FBE-98EE-B0443B23C73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CFA9B-C4DF-4119-B376-3BC4273C4A1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java.sun.com/j2se/1.3/docs/api/" TargetMode="External"/><Relationship Id="rId2" Type="http://schemas.openxmlformats.org/officeDocument/2006/relationships/hyperlink" Target="http://java.sun.com/j2se/1.3/docs/api/java/lang/String.html" TargetMode="External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Le command line di Ja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219320" y="388620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sercitazioni di Programmazion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Novella Brugnol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brugnoll@science.unitn.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000000"/>
                </a:solidFill>
                <a:latin typeface="Arial"/>
              </a:rPr>
              <a:t>Portabilità del bytecode Jav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23920" y="2438280"/>
            <a:ext cx="8615160" cy="40388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263840" y="1689840"/>
            <a:ext cx="449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write once, run anywhere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962F-A161-4073-B209-7BE3D26A4AB2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braio 2003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000000"/>
                </a:solidFill>
                <a:latin typeface="Arial"/>
              </a:rPr>
              <a:t>Scrittura di un file sorgent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criviamo un primo semplice programma Jav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n Java ogni metodo (funzione) ed ogni variabile esiste solo all’interno di una classe o di un oggetto (istanza di una class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Java non supporta metodi o variabili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global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o scheletro di ogni programma Java è la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definizione di una class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DFB9-EBFB-4612-9C05-04B643CC7588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braio 2003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000000"/>
                </a:solidFill>
                <a:latin typeface="Arial"/>
              </a:rPr>
              <a:t>Classe Messaggio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7428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Console"/>
              </a:rPr>
              <a:t>public class Messaggio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Lucida Console"/>
              </a:rPr>
              <a:t>String msg = “Il mio primo “ 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Lucida Console"/>
              </a:rPr>
              <a:t>“</a:t>
            </a:r>
            <a:r>
              <a:rPr b="0" lang="it-IT" sz="2800" spc="-1" strike="noStrike">
                <a:solidFill>
                  <a:srgbClr val="000000"/>
                </a:solidFill>
                <a:latin typeface="Lucida Console"/>
              </a:rPr>
              <a:t>programma Java”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Lucida Console"/>
              </a:rPr>
              <a:t>public void stampa()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Lucida Console"/>
              </a:rPr>
              <a:t>System.out.println(msg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80880" y="2362320"/>
            <a:ext cx="8534520" cy="4190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Console"/>
              </a:rPr>
              <a:t>public class Messaggio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Lucida Console"/>
              </a:rPr>
              <a:t>String msg = “Il mio primo “ 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Lucida Console"/>
              </a:rPr>
              <a:t>“</a:t>
            </a:r>
            <a:r>
              <a:rPr b="0" lang="it-IT" sz="2800" spc="-1" strike="noStrike">
                <a:solidFill>
                  <a:srgbClr val="000000"/>
                </a:solidFill>
                <a:latin typeface="Lucida Console"/>
              </a:rPr>
              <a:t>programma Java”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Lucida Console"/>
              </a:rPr>
              <a:t>public void stampa()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Lucida Console"/>
              </a:rPr>
              <a:t>System.out.println(msg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8E4F-26A8-4AC4-981B-2FD1DD47B34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braio 2003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000000"/>
                </a:solidFill>
                <a:latin typeface="Arial"/>
              </a:rPr>
              <a:t>Classe Messaggio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27428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Console"/>
              </a:rPr>
              <a:t>public class Messaggio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Lucida Console"/>
              </a:rPr>
              <a:t>String msg = “Il mio primo “ 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Lucida Console"/>
              </a:rPr>
              <a:t>“</a:t>
            </a:r>
            <a:r>
              <a:rPr b="0" lang="it-IT" sz="2800" spc="-1" strike="noStrike">
                <a:solidFill>
                  <a:srgbClr val="000000"/>
                </a:solidFill>
                <a:latin typeface="Lucida Console"/>
              </a:rPr>
              <a:t>programma Java”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Lucida Console"/>
              </a:rPr>
              <a:t>public void stampa()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Lucida Console"/>
              </a:rPr>
              <a:t>System.out.println(msg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80880" y="2362320"/>
            <a:ext cx="8534520" cy="4190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Console"/>
              </a:rPr>
              <a:t>public class Messaggio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Lucida Console"/>
              </a:rPr>
              <a:t>String msg = “Il mio primo “ 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Lucida Console"/>
              </a:rPr>
              <a:t>“</a:t>
            </a:r>
            <a:r>
              <a:rPr b="0" lang="it-IT" sz="2800" spc="-1" strike="noStrike">
                <a:solidFill>
                  <a:srgbClr val="000000"/>
                </a:solidFill>
                <a:latin typeface="Lucida Console"/>
              </a:rPr>
              <a:t>programma Java”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Lucida Console"/>
              </a:rPr>
              <a:t>Messaggio(){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Lucida Console"/>
              </a:rPr>
              <a:t>public void stampa()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Lucida Console"/>
              </a:rPr>
              <a:t>System.out.println(msg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962520" y="1752480"/>
            <a:ext cx="12189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34120" y="1401840"/>
            <a:ext cx="318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6767ff"/>
                </a:solidFill>
                <a:latin typeface="Arial"/>
              </a:rPr>
              <a:t>Messaggio.j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EEDD-CD68-4B9B-B903-EF569AC72E8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braio 2003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000000"/>
                </a:solidFill>
                <a:latin typeface="Arial"/>
              </a:rPr>
              <a:t>Il metodo mai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punto di entrata dell’esecuzione di un programma Java è il metodo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main: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quando un interprete java esegue un applicazione, chiama il metodo main della classe sulla quale è stato invoc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-666000" y="5029200"/>
            <a:ext cx="965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767ff"/>
                </a:solidFill>
                <a:latin typeface="Lucida Console"/>
              </a:rPr>
              <a:t>	</a:t>
            </a:r>
            <a:r>
              <a:rPr b="0" lang="it-IT" sz="2800" spc="-1" strike="noStrike">
                <a:solidFill>
                  <a:srgbClr val="6767ff"/>
                </a:solidFill>
                <a:latin typeface="Lucida Console"/>
              </a:rPr>
              <a:t>public static void main(String[] arg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2CD1-7306-49C6-B294-2120EB9973E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braio 2003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000000"/>
                </a:solidFill>
                <a:latin typeface="Arial"/>
              </a:rPr>
              <a:t>Classe Salut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2286000"/>
            <a:ext cx="9144000" cy="44956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Console"/>
              </a:rPr>
              <a:t>public class Saluto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Lucida Console"/>
              </a:rPr>
              <a:t>Saluto()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Lucida Console"/>
              </a:rPr>
              <a:t>Messaggio m = new Messaggio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Lucida Console"/>
              </a:rPr>
              <a:t>m.stampa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Lucida Console"/>
              </a:rPr>
              <a:t>public static void main(String a[])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Lucida Console"/>
              </a:rPr>
              <a:t>Saluto s = new Saluto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3505320" y="1752480"/>
            <a:ext cx="15238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242320" y="1311120"/>
            <a:ext cx="232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6767ff"/>
                </a:solidFill>
                <a:latin typeface="Arial"/>
              </a:rPr>
              <a:t>Saluto.j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5CE2-CCD9-472D-9E98-74F66DFD30F8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braio 2003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Gestione dei file sorgente (.java) e bytecode (.class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304920" y="3770280"/>
          <a:ext cx="8610480" cy="293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770280"/>
                    <a:ext cx="8610480" cy="29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5105520" y="29718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erarchia di directo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D343-8CA3-4B58-824B-253587445909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braio 2003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ompilatore Jav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ux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usr/local/JBuilder7/jdk1.3.1/bin/java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Win2000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7ff"/>
                </a:solidFill>
                <a:latin typeface="Lucida Console"/>
              </a:rPr>
              <a:t>	</a:t>
            </a:r>
            <a:r>
              <a:rPr b="0" lang="en-US" sz="3200" spc="-1" strike="noStrike">
                <a:solidFill>
                  <a:srgbClr val="6767ff"/>
                </a:solidFill>
                <a:latin typeface="Lucida Console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:\jdk1.3.1_04\bin\jav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azione della classe Messagg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Console"/>
              </a:rPr>
              <a:t>javac Messaggio.jav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tass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javac [opzioni]  file_sorgent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095880" y="6858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466440" y="1495800"/>
            <a:ext cx="1704600" cy="581400"/>
          </a:xfrm>
          <a:prstGeom prst="rect">
            <a:avLst/>
          </a:prstGeom>
          <a:noFill/>
          <a:ln w="93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6767ff"/>
                </a:solidFill>
                <a:latin typeface="Lucida Console"/>
              </a:rPr>
              <a:t>java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AB49-467A-49FD-9AA7-4D9EA26CCA9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braio 2003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Opzioni di </a:t>
            </a:r>
            <a:r>
              <a:rPr b="0" lang="en-US" sz="3800" spc="-1" strike="noStrike">
                <a:solidFill>
                  <a:srgbClr val="6767ff"/>
                </a:solidFill>
                <a:latin typeface="Lucida Console"/>
              </a:rPr>
              <a:t>java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574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classpath &lt;classpath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pecifica dove sono i file bytecode (.clas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sourcepath &lt;sourcepath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pecifica dove sono i file sorgente (.java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d &lt;directory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pecifica in quale directory salvare i bytecode prodott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verb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tampa informazioni aggiuntive durante la compilazion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depre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vverte se sono stati usati metodi deprecat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39C6-1211-4CBC-8C6E-C514BE8A10D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braio 2003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sempi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2017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c –verbo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path sr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rc/Messaggio.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c –d classes –classpath clas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rc/Saluto.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c –d classes –sourcepath sr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rc/Saluto.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1828800"/>
            <a:ext cx="4114800" cy="609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h dei file sorgenti necessa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4190760" y="2133720"/>
            <a:ext cx="5331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365760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ory di destinazi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i file byte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3352680" y="2895480"/>
            <a:ext cx="1828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952880" y="3429000"/>
            <a:ext cx="3962520" cy="609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me del file da compil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4495680" y="3809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324480" y="4572000"/>
            <a:ext cx="2590920" cy="1523880"/>
          </a:xfrm>
          <a:prstGeom prst="rect">
            <a:avLst/>
          </a:prstGeom>
          <a:solidFill>
            <a:srgbClr val="67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 bisogno d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oscere 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 Messaggio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5333760" y="4876560"/>
            <a:ext cx="9903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165B-86BE-495F-AFF5-4C730EFE60F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braio 2003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000000"/>
                </a:solidFill>
                <a:latin typeface="Arial"/>
              </a:rPr>
              <a:t>Ambiente di lavor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er compilare ed eseguire un programma Java abbiamo bisogno d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JavaTM 2 Platform, Standard Edi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stallate il Software Develoment Kit (SDK) dal sito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ttp://java.sun.com/j2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Settate correttamente la variabile PATH del vostro ambiente di lavor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Un editor di testo (emacs, NotePad, 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789520" y="3736800"/>
            <a:ext cx="824040" cy="91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36ED-673F-489F-B1ED-F30BE04BA5E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braio 2003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nterprete Jav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Console"/>
              </a:rPr>
              <a:t>Linux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767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6767ff"/>
                </a:solidFill>
                <a:latin typeface="Arial"/>
              </a:rPr>
              <a:t>/usr/local/JBuilder7/jdk1.3.1/bin/j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Win 200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767ff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6767ff"/>
                </a:solidFill>
                <a:latin typeface="Arial"/>
              </a:rPr>
              <a:t>C:\jdk1.3.1_04\bin\j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tass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[opzioni] classe [argomenti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opzioni: -classpath –verbose –version –hel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B: la classe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class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deve aver definito il metod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767ff"/>
                </a:solidFill>
                <a:latin typeface="Arial"/>
              </a:rPr>
              <a:t>public static void main(String[] argomen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sempi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java –classpath classes Salut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410160" y="2137320"/>
            <a:ext cx="1400040" cy="581400"/>
          </a:xfrm>
          <a:prstGeom prst="rect">
            <a:avLst/>
          </a:prstGeom>
          <a:noFill/>
          <a:ln w="93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6767ff"/>
                </a:solidFill>
                <a:latin typeface="Lucida Console"/>
              </a:rPr>
              <a:t>ja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29E3-6870-4BAE-A914-85482ABD53C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braio 2003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assaggio degli argoment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2280" y="2017800"/>
            <a:ext cx="880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no delle stringhe passate al programma in fase di esecuzione tramite la riga di comando, dopo il nome del file. Vengono passati automaticamente come parametri al metodo mai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04920" y="4038480"/>
            <a:ext cx="778032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class Hello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static void main (String[] args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.out.println(“Hello “+args[0]+”!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791320" y="5486400"/>
            <a:ext cx="3047760" cy="10666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java Hello Nove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lo Novell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290D-27DA-4CB3-9F48-B2086E1BF2B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braio 2003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000000"/>
                </a:solidFill>
                <a:latin typeface="Arial"/>
              </a:rPr>
              <a:t>Ed ora..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cegliere un OS: Linux o Windows 2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crivere, compilare ed eseguire l’esempio appena visto (classi Messaggio e Salut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ambiare OS e rieseguire il programma (senza ricompilarl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Ripetere l’esercizio invertendo l’ord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crivere, compilare ed eseguire l’esempio guida visto a lezione: la classe Pi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B200-7E94-47CA-9599-AA0A3F317FA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braio 2003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ontrol Flow Statements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tement Typ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ey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ping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, do-while , f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sion making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-else, switch-c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Documentazione AP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http://java.sun.com/j2se/1.3/docs/api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lasse String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767ff"/>
                </a:solidFill>
                <a:latin typeface="Arial"/>
              </a:rPr>
              <a:t>	</a:t>
            </a:r>
            <a:r>
              <a:rPr b="0" lang="it-IT" sz="2000" spc="-1" strike="noStrike" u="sng">
                <a:solidFill>
                  <a:srgbClr val="6767ff"/>
                </a:solidFill>
                <a:uFillTx/>
                <a:latin typeface="Arial"/>
                <a:hlinkClick r:id="rId2"/>
              </a:rPr>
              <a:t>http://java.sun.com/j2se/1.3/docs/api/java/lang/String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lasse StringBuff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767ff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6767ff"/>
                </a:solidFill>
                <a:latin typeface="Arial"/>
              </a:rPr>
              <a:t>http://java.sun.com/j2se/1.3/docs/api/java/lang/StringBuffer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1E47-8DC4-4108-A20B-E412FB2F1FE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braio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000000"/>
                </a:solidFill>
                <a:latin typeface="Arial"/>
              </a:rPr>
              <a:t>Costrutto iterativo </a:t>
            </a:r>
            <a:r>
              <a:rPr b="0" lang="it-IT" sz="3800" spc="-1" strike="noStrike">
                <a:solidFill>
                  <a:srgbClr val="ff0000"/>
                </a:solidFill>
                <a:latin typeface="Arial"/>
              </a:rPr>
              <a:t>whil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" y="1600200"/>
            <a:ext cx="8381880" cy="50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public class WhileDemo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public static void main(String[] args)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ring copyFromMe = "Copy this string until you " +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  "encounter the letter 'g'.";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ringBuffer copyToMe = new StringBuffer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t i = 0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char c = copyFromMe.charAt(i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Lucida Console"/>
              </a:rPr>
              <a:t>while (c != 'g')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Lucida Console"/>
              </a:rPr>
              <a:t>       </a:t>
            </a:r>
            <a:r>
              <a:rPr b="1" lang="en-US" sz="1800" spc="-1" strike="noStrike">
                <a:solidFill>
                  <a:srgbClr val="ff0000"/>
                </a:solidFill>
                <a:latin typeface="Lucida Console"/>
              </a:rPr>
              <a:t>copyToMe.append(c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Lucida Console"/>
              </a:rPr>
              <a:t>       </a:t>
            </a:r>
            <a:r>
              <a:rPr b="1" lang="en-US" sz="1800" spc="-1" strike="noStrike">
                <a:solidFill>
                  <a:srgbClr val="ff0000"/>
                </a:solidFill>
                <a:latin typeface="Lucida Console"/>
              </a:rPr>
              <a:t>c = copyFromMe.charAt(++i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ystem.out.println(copyToMe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E2C5-FC66-4D4C-A873-649B71FFB66D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braio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000000"/>
                </a:solidFill>
                <a:latin typeface="Arial"/>
              </a:rPr>
              <a:t>Costrutto iterativo </a:t>
            </a:r>
            <a:r>
              <a:rPr b="0" lang="it-IT" sz="3800" spc="-1" strike="noStrike">
                <a:solidFill>
                  <a:srgbClr val="ff0000"/>
                </a:solidFill>
                <a:latin typeface="Arial"/>
              </a:rPr>
              <a:t>do, whil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1295280"/>
            <a:ext cx="8763120" cy="53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public class DoWhileDemo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public static void main(String[] args)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ring copyFromMe = "Copy this string until you "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"encounter the letter 'g'."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ringBuffer copyToMe = new StringBuffer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t i = 0; char c = copyFromMe.charAt(i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Lucida Console"/>
              </a:rPr>
              <a:t>do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Lucida Console"/>
              </a:rPr>
              <a:t>      </a:t>
            </a:r>
            <a:r>
              <a:rPr b="1" lang="en-US" sz="1800" spc="-1" strike="noStrike">
                <a:solidFill>
                  <a:srgbClr val="ff0000"/>
                </a:solidFill>
                <a:latin typeface="Lucida Console"/>
              </a:rPr>
              <a:t>copyToMe.append(c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Lucida Console"/>
              </a:rPr>
              <a:t>      </a:t>
            </a:r>
            <a:r>
              <a:rPr b="1" lang="en-US" sz="1800" spc="-1" strike="noStrike">
                <a:solidFill>
                  <a:srgbClr val="ff0000"/>
                </a:solidFill>
                <a:latin typeface="Lucida Console"/>
              </a:rPr>
              <a:t>c = copyFromMe.charAt(++i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Lucida Console"/>
              </a:rPr>
              <a:t>} while (c != 'g');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ystem.out.println(copyToMe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7966-E498-447B-B3AC-A1596088F5EA}" type="slidenum">
              <a:t>2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braio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000000"/>
                </a:solidFill>
                <a:latin typeface="Arial"/>
              </a:rPr>
              <a:t>Costrutto iterativo </a:t>
            </a:r>
            <a:r>
              <a:rPr b="0" lang="it-IT" sz="3800" spc="-1" strike="noStrike">
                <a:solidFill>
                  <a:srgbClr val="ff0000"/>
                </a:solidFill>
                <a:latin typeface="Arial"/>
              </a:rPr>
              <a:t>fo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1600200"/>
            <a:ext cx="830592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public class ForDemo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public static void main(String[] args)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t[] arrayOfInts = { 32, 87, 3, 589, 12, 1076}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Lucida Console"/>
              </a:rPr>
              <a:t>for (int i = 0; i &lt; arrayOfInts.length; i++)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Lucida Console"/>
              </a:rPr>
              <a:t>      </a:t>
            </a:r>
            <a:r>
              <a:rPr b="1" lang="en-US" sz="1800" spc="-1" strike="noStrike">
                <a:solidFill>
                  <a:srgbClr val="ff0000"/>
                </a:solidFill>
                <a:latin typeface="Lucida Console"/>
              </a:rPr>
              <a:t>System.out.print(arrayOfInts[i] + " "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ystem.out.println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54ED-AA39-492D-9120-A00C19689960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braio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000000"/>
                </a:solidFill>
                <a:latin typeface="Arial"/>
              </a:rPr>
              <a:t>Costrutto condizionale </a:t>
            </a:r>
            <a:r>
              <a:rPr b="0" lang="it-IT" sz="3800" spc="-1" strike="noStrike">
                <a:solidFill>
                  <a:srgbClr val="ff0000"/>
                </a:solidFill>
                <a:latin typeface="Arial"/>
              </a:rPr>
              <a:t>switch, case</a:t>
            </a:r>
            <a:r>
              <a:rPr b="0" lang="it-IT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1676520"/>
            <a:ext cx="830592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public class SwitchDemo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public static void main(String[] args)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t month = 8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Lucida Console"/>
              </a:rPr>
              <a:t>switch (month)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Lucida Console"/>
              </a:rPr>
              <a:t>      </a:t>
            </a:r>
            <a:r>
              <a:rPr b="1" lang="en-US" sz="1800" spc="-1" strike="noStrike">
                <a:solidFill>
                  <a:srgbClr val="ff0000"/>
                </a:solidFill>
                <a:latin typeface="Lucida Console"/>
              </a:rPr>
              <a:t>case 1: System.out.println("January"); break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Lucida Console"/>
              </a:rPr>
              <a:t>      </a:t>
            </a:r>
            <a:r>
              <a:rPr b="1" lang="en-US" sz="1800" spc="-1" strike="noStrike">
                <a:solidFill>
                  <a:srgbClr val="ff0000"/>
                </a:solidFill>
                <a:latin typeface="Lucida Console"/>
              </a:rPr>
              <a:t>case 2: System.out.println("February"); break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Lucida Console"/>
              </a:rPr>
              <a:t>  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ff0000"/>
                </a:solidFill>
                <a:latin typeface="Lucida Console"/>
              </a:rPr>
              <a:t>case 12: System.out.println(“December"); brea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Lucida Console"/>
              </a:rPr>
              <a:t>      </a:t>
            </a:r>
            <a:r>
              <a:rPr b="1" lang="it-IT" sz="1800" spc="-1" strike="noStrike">
                <a:solidFill>
                  <a:srgbClr val="ff0000"/>
                </a:solidFill>
                <a:latin typeface="Lucida Console"/>
              </a:rPr>
              <a:t>default: System.out.println(“not valid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DD1F-8118-49DA-B855-A3647B776978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braio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000000"/>
                </a:solidFill>
                <a:latin typeface="Arial"/>
              </a:rPr>
              <a:t>Costrutto condizionale</a:t>
            </a:r>
            <a:r>
              <a:rPr b="0" lang="it-IT" sz="3800" spc="-1" strike="noStrike">
                <a:solidFill>
                  <a:srgbClr val="ff0000"/>
                </a:solidFill>
                <a:latin typeface="Arial"/>
              </a:rPr>
              <a:t> if, els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" y="1371600"/>
            <a:ext cx="807732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public class IfElseDemo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public static void main(String[] args)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t testscore = 76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char grad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Lucida Console"/>
              </a:rPr>
              <a:t>if (testscore &gt;= 90) { grade = 'A';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Lucida Console"/>
              </a:rPr>
              <a:t>else if (testscore &gt;= 80) { grade = 'B';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Lucida Console"/>
              </a:rPr>
              <a:t>else if (testscore &gt;= 70) { grade = 'C';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Lucida Console"/>
              </a:rPr>
              <a:t>else if (testscore &gt;= 60) { grade = 'D'; }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Lucida Console"/>
              </a:rPr>
              <a:t>else { grade = 'F';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ystem.out.println("Grade = " + grade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3DA6-F6E2-4C06-AA7B-2A3552A5B335}" type="slidenum">
              <a:t>2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braio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000000"/>
                </a:solidFill>
                <a:latin typeface="Arial"/>
              </a:rPr>
              <a:t>Java Software Development Kit (</a:t>
            </a:r>
            <a:r>
              <a:rPr b="0" lang="it-IT" sz="3400" spc="-1" strike="noStrike">
                <a:solidFill>
                  <a:srgbClr val="000000"/>
                </a:solidFill>
                <a:latin typeface="Arial"/>
              </a:rPr>
              <a:t>JDK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Java Software Development Kit (SDK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lbero delle director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bin 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compilatore e too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docs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documentazione delle librerie Java 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in formato htm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lib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file di librer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src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file sorgenti delle libreri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jre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Java Runtime Environments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includ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06DB-8361-43C6-A43A-1FA2FE834ED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braio 2003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000000"/>
                </a:solidFill>
                <a:latin typeface="Arial"/>
              </a:rPr>
              <a:t>Configurazione della variabile di ambiente PATH - 1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Linux, che shell state usand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ccccff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tcsh, nel file .tcsr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et path=(/usr/local/JBuilder7/jdk1.3.1/bin $pat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ccccff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bash, nel file .bashr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ATH=/usr/local/JBuilder7/jdk1.3.1/bin:$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export 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1CA9-3448-47EB-86C0-9A538BD1F28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braio 2003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000000"/>
                </a:solidFill>
                <a:latin typeface="Arial"/>
              </a:rPr>
              <a:t>Configurazione della variabile di ambiente PATH - 2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952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Windows 2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ontrol Pan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yst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dvan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Environment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User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ggiunge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variabile pa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value C:\jdk1.3.1_04\b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029200" y="1752480"/>
            <a:ext cx="5181480" cy="428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5875-5D49-4E16-A528-F0C2785F506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braio 2003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000000"/>
                </a:solidFill>
                <a:latin typeface="Arial"/>
              </a:rPr>
              <a:t>Scrittura di un’applicazione Jav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52280" y="4251240"/>
            <a:ext cx="8839440" cy="20732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979560" y="2136600"/>
            <a:ext cx="71737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Un APPLICAZIONE JAVA è un programma stand-alone scritto in linguaggio Ja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AB35-7B3D-479B-A5CE-BF09D057D3DC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braio 2003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000000"/>
                </a:solidFill>
                <a:latin typeface="Arial"/>
              </a:rPr>
              <a:t>Scrittura di un’applicazione Jav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52280" y="1905120"/>
            <a:ext cx="8839440" cy="20732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69720" y="4575240"/>
            <a:ext cx="7174080" cy="8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reazione di un file sorgent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n file sorgente è un file di testo, scritto in linguaggio Ja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685800" y="3048120"/>
            <a:ext cx="76320" cy="1371600"/>
          </a:xfrm>
          <a:prstGeom prst="line">
            <a:avLst/>
          </a:prstGeom>
          <a:ln w="9360">
            <a:solidFill>
              <a:srgbClr val="99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BF69-E1E6-4C7E-A3C7-ABA546834688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braio 2003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000000"/>
                </a:solidFill>
                <a:latin typeface="Arial"/>
              </a:rPr>
              <a:t>Compilazione di un’applicazione Jav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52280" y="1905120"/>
            <a:ext cx="8839440" cy="20732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28600" y="4540320"/>
            <a:ext cx="838188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ompilazione del file sorgente in un file bytecode.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compilatore java,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javac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traduce il testo contenuto nel file sorgente in istruzioni comprensibili alla Java Virtual Machine (Java VM) e le scrive in un file bytec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2286000" y="3886200"/>
            <a:ext cx="0" cy="533520"/>
          </a:xfrm>
          <a:prstGeom prst="line">
            <a:avLst/>
          </a:prstGeom>
          <a:ln w="9360">
            <a:solidFill>
              <a:srgbClr val="99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B5E9-0235-404F-915C-25453C5E561A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braio 2003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000000"/>
                </a:solidFill>
                <a:latin typeface="Arial"/>
              </a:rPr>
              <a:t>Esecuzione di un’applicazione Jav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52280" y="1905120"/>
            <a:ext cx="8839440" cy="20732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57200" y="4464000"/>
            <a:ext cx="7924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Esecuzione del programm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Java VM è implementata da un interprete Java,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jav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 Traduce le istruzioni bytecode (indipendenti dalla piattaforma) in istruzioni comprensibili dal vostro computer e le eseg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1905120" y="2285640"/>
            <a:ext cx="3581280" cy="2133720"/>
          </a:xfrm>
          <a:prstGeom prst="line">
            <a:avLst/>
          </a:prstGeom>
          <a:ln w="9360">
            <a:solidFill>
              <a:srgbClr val="99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C2E1-0BD0-4D35-A6BF-C7D9BBD98701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braio 2003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5T14:13:46Z</dcterms:created>
  <dc:creator>brugnoll</dc:creator>
  <dc:description/>
  <dc:language>en-US</dc:language>
  <cp:lastModifiedBy>brugnoll</cp:lastModifiedBy>
  <dcterms:modified xsi:type="dcterms:W3CDTF">2003-02-26T12:27:22Z</dcterms:modified>
  <cp:revision>36</cp:revision>
  <dc:subject/>
  <dc:title>Introd alla prog in Java</dc:title>
</cp:coreProperties>
</file>